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FC413-96C8-4D4C-A24A-625689A36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3C9AC-A891-4476-8C98-D3E1EF1B7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29493-9A34-459F-B6C0-E1F54BE6D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DBDA3-EE03-474A-B1C3-D3AE011DF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656E1-9D53-4C74-ABFD-31435BA45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57542-61C3-4356-9F5F-AF8FAC9B5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34B50-0567-4384-8D35-DA5446451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D4616-D91A-4D43-AB4F-B4981F81D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1663D-79C1-4BA6-BE0A-09D682D02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0F336-72AC-436C-8C07-73E8081C1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904D8-7C9A-4C20-A590-4613B7657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58451-0368-4923-96C3-A3741E3F5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7BC8-8345-47E9-A980-8157BF583C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900000" y="1084320"/>
          <a:ext cx="7344000" cy="4649760"/>
        </p:xfrm>
        <a:graphic>
          <a:graphicData uri="http://schemas.openxmlformats.org/drawingml/2006/table">
            <a:tbl>
              <a:tblPr/>
              <a:tblGrid>
                <a:gridCol w="7344000"/>
              </a:tblGrid>
              <a:tr h="4649760">
                <a:tc>
                  <a:txBody>
                    <a:bodyPr lIns="90000" rIns="90000" tIns="46800" bIns="46800" anchor="ctr" anchorCtr="1">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5520 SAYILI KURUMLAR VERGİSİ</a:t>
                      </a:r>
                      <a:endParaRPr b="0" lang="en-US" sz="3400" spc="-1" strike="noStrike">
                        <a:solidFill>
                          <a:srgbClr val="000000"/>
                        </a:solidFill>
                        <a:latin typeface="Arial"/>
                      </a:endParaRPr>
                    </a:p>
                    <a:p>
                      <a:pPr algn="ctr">
                        <a:lnSpc>
                          <a:spcPct val="100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 </a:t>
                      </a:r>
                      <a:r>
                        <a:rPr b="1" lang="en-US" sz="3400" spc="-1" strike="noStrike">
                          <a:solidFill>
                            <a:srgbClr val="000000"/>
                          </a:solidFill>
                          <a:latin typeface="Arial Narrow"/>
                        </a:rPr>
                        <a:t>KANUNU</a:t>
                      </a:r>
                      <a:endParaRPr b="0" lang="en-US" sz="3400" spc="-1" strike="noStrike">
                        <a:solidFill>
                          <a:srgbClr val="000000"/>
                        </a:solidFill>
                        <a:latin typeface="Arial"/>
                      </a:endParaRPr>
                    </a:p>
                  </a:txBody>
                  <a:tcPr anchor="ctr" marL="90000" marR="90000">
                    <a:lnL w="13680">
                      <a:solidFill>
                        <a:srgbClr val="e82c00"/>
                      </a:solidFill>
                    </a:lnL>
                    <a:lnR w="13680">
                      <a:solidFill>
                        <a:srgbClr val="e82c00"/>
                      </a:solidFill>
                    </a:lnR>
                    <a:lnT w="13680">
                      <a:solidFill>
                        <a:srgbClr val="e82c00"/>
                      </a:solidFill>
                    </a:lnT>
                    <a:lnB w="13680">
                      <a:solidFill>
                        <a:srgbClr val="e82c00"/>
                      </a:solid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1042920" y="333360"/>
          <a:ext cx="7129440" cy="6335640"/>
        </p:xfrm>
        <a:graphic>
          <a:graphicData uri="http://schemas.openxmlformats.org/presentationml/2006/ole">
            <p:oleObj progId="Word.Document.12" r:id="rId1" spid="">
              <p:embed/>
              <p:pic>
                <p:nvPicPr>
                  <p:cNvPr id="60" name="" descr=""/>
                  <p:cNvPicPr/>
                  <p:nvPr/>
                </p:nvPicPr>
                <p:blipFill>
                  <a:blip r:embed="rId2"/>
                  <a:stretch/>
                </p:blipFill>
                <p:spPr>
                  <a:xfrm>
                    <a:off x="1042920" y="333360"/>
                    <a:ext cx="7129440" cy="6335640"/>
                  </a:xfrm>
                  <a:prstGeom prst="rect">
                    <a:avLst/>
                  </a:prstGeom>
                  <a:ln w="0">
                    <a:noFill/>
                  </a:ln>
                </p:spPr>
              </p:pic>
            </p:oleObj>
          </a:graphicData>
        </a:graphic>
      </p:graphicFrame>
      <p:sp>
        <p:nvSpPr>
          <p:cNvPr id="2" name="PlaceHolder 1"/>
          <p:cNvSpPr>
            <a:spLocks noGrp="1"/>
          </p:cNvSpPr>
          <p:nvPr>
            <p:ph type="sldNum" idx="3"/>
          </p:nvPr>
        </p:nvSpPr>
        <p:spPr/>
        <p:txBody>
          <a:bodyPr/>
          <a:p>
            <a:fld id="{3A4F4912-EB84-47FD-832D-3556A354EE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684360" y="620640"/>
          <a:ext cx="8064360" cy="935280"/>
        </p:xfrm>
        <a:graphic>
          <a:graphicData uri="http://schemas.openxmlformats.org/drawingml/2006/table">
            <a:tbl>
              <a:tblPr/>
              <a:tblGrid>
                <a:gridCol w="8064360"/>
              </a:tblGrid>
              <a:tr h="935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7 </a:t>
                      </a:r>
                      <a:r>
                        <a:rPr b="1" lang="en-US" sz="2600" spc="-1" strike="noStrike">
                          <a:solidFill>
                            <a:srgbClr val="000000"/>
                          </a:solidFill>
                          <a:latin typeface="Times New Roman"/>
                        </a:rPr>
                        <a:t>- MUAFİYETLER (1)</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62" name=""/>
          <p:cNvGraphicFramePr/>
          <p:nvPr/>
        </p:nvGraphicFramePr>
        <p:xfrm>
          <a:off x="682560" y="1773360"/>
          <a:ext cx="8066160" cy="4248000"/>
        </p:xfrm>
        <a:graphic>
          <a:graphicData uri="http://schemas.openxmlformats.org/drawingml/2006/table">
            <a:tbl>
              <a:tblPr/>
              <a:tblGrid>
                <a:gridCol w="8066160"/>
              </a:tblGrid>
              <a:tr h="4248000">
                <a:tc>
                  <a:txBody>
                    <a:bodyPr lIns="360000" rIns="90000" tIns="46800" bIns="46800" anchor="ctr">
                      <a:noAutofit/>
                    </a:bodyPr>
                    <a:p>
                      <a:pPr marL="363600" indent="-363600" algn="just">
                        <a:spcBef>
                          <a:spcPts val="238"/>
                        </a:spcBef>
                        <a:spcAft>
                          <a:spcPts val="587"/>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urumlar Vergisi Kanunu dışında özel Kanunlarda yer alan muafiyet, istisna ve indirimlere ilişkin hükümler uygulanmayacaktır. (Md: 35) </a:t>
                      </a:r>
                      <a:endParaRPr b="0" lang="en-US" sz="1900" spc="-1" strike="noStrike">
                        <a:solidFill>
                          <a:srgbClr val="000000"/>
                        </a:solidFill>
                        <a:latin typeface="Arial"/>
                      </a:endParaRPr>
                    </a:p>
                    <a:p>
                      <a:pPr marL="363600" indent="-363600" algn="just">
                        <a:spcBef>
                          <a:spcPts val="238"/>
                        </a:spcBef>
                        <a:spcAft>
                          <a:spcPts val="587"/>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uafiyet ve istisnalar, ancak Kurumlar Vergisi, Gelir Vergisi ve Vergi Usul Kanununda düzenleme yapılması halinde uygulanacaktır.</a:t>
                      </a:r>
                      <a:endParaRPr b="0" lang="en-US" sz="1900" spc="-1" strike="noStrike">
                        <a:solidFill>
                          <a:srgbClr val="000000"/>
                        </a:solidFill>
                        <a:latin typeface="Arial"/>
                      </a:endParaRPr>
                    </a:p>
                    <a:p>
                      <a:pPr marL="363600" indent="-363600" algn="just">
                        <a:spcBef>
                          <a:spcPts val="238"/>
                        </a:spcBef>
                        <a:spcAft>
                          <a:spcPts val="587"/>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01.01.2007 tarihinden önce özel kanunlarda yer alan kurumlar vergisine ilişkin muafiyet, istisna ve indirimlere ilişkin hükümler geçerlidir. (Geçici madde 1/10) Ancak bu tarihten sonra özel Kanunlarla yapılan düzenlemeler geçersizdir.</a:t>
                      </a:r>
                      <a:endParaRPr b="0" lang="en-US" sz="1900" spc="-1" strike="noStrike">
                        <a:solidFill>
                          <a:srgbClr val="000000"/>
                        </a:solidFill>
                        <a:latin typeface="Arial"/>
                      </a:endParaRPr>
                    </a:p>
                    <a:p>
                      <a:pPr marL="363600" indent="-363600" algn="just">
                        <a:spcBef>
                          <a:spcPts val="238"/>
                        </a:spcBef>
                        <a:spcAft>
                          <a:spcPts val="587"/>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ktisadi nitelik taşıyan ve piyasa ekonomisinde rekabet eşitliğini bozan muafiyetler sınırlandırılmıştı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D071A84D-613A-4EAB-9858-5878839CBC62}"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684360" y="620640"/>
          <a:ext cx="8064360" cy="935280"/>
        </p:xfrm>
        <a:graphic>
          <a:graphicData uri="http://schemas.openxmlformats.org/drawingml/2006/table">
            <a:tbl>
              <a:tblPr/>
              <a:tblGrid>
                <a:gridCol w="8064360"/>
              </a:tblGrid>
              <a:tr h="935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7 </a:t>
                      </a:r>
                      <a:r>
                        <a:rPr b="1" lang="en-US" sz="2600" spc="-1" strike="noStrike">
                          <a:solidFill>
                            <a:srgbClr val="000000"/>
                          </a:solidFill>
                          <a:latin typeface="Times New Roman"/>
                        </a:rPr>
                        <a:t>–KALDIRILAN MUAFİYETLER (2)</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64" name=""/>
          <p:cNvGraphicFramePr/>
          <p:nvPr/>
        </p:nvGraphicFramePr>
        <p:xfrm>
          <a:off x="682560" y="1773360"/>
          <a:ext cx="8066160" cy="10152000"/>
        </p:xfrm>
        <a:graphic>
          <a:graphicData uri="http://schemas.openxmlformats.org/drawingml/2006/table">
            <a:tbl>
              <a:tblPr/>
              <a:tblGrid>
                <a:gridCol w="8066160"/>
              </a:tblGrid>
              <a:tr h="7031160">
                <a:tc>
                  <a:txBody>
                    <a:bodyPr lIns="360000" rIns="90000" tIns="46800" bIns="46800" anchor="ctr">
                      <a:noAutofit/>
                    </a:bodyPr>
                    <a:p>
                      <a:pPr marL="536400" indent="-536400" algn="just">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fik Kanunu uyarınca kağıt ve plaka satışı yapan müesseseler, </a:t>
                      </a:r>
                      <a:endParaRPr b="0" lang="en-US" sz="1900" spc="-1" strike="noStrike">
                        <a:solidFill>
                          <a:srgbClr val="000000"/>
                        </a:solidFill>
                        <a:latin typeface="Arial"/>
                      </a:endParaRPr>
                    </a:p>
                    <a:p>
                      <a:pPr marL="536400" indent="-5364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l özel idareleri, belediye ve köyler ile bunların kurmuş oldukları birliklere ait elektrik, havagazı ve soğuk hava deposu işletmeleri. </a:t>
                      </a:r>
                      <a:endParaRPr b="0" lang="en-US" sz="1900" spc="-1" strike="noStrike">
                        <a:solidFill>
                          <a:srgbClr val="000000"/>
                        </a:solidFill>
                        <a:latin typeface="Arial"/>
                      </a:endParaRPr>
                    </a:p>
                    <a:p>
                      <a:pPr marL="536400" indent="-5364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elediyelerin, şehir şebeke suyu satışı kurumlar vergisinden muaf olacak, şişe ve damacana ile satılan kaynak suyu satışı kurumlar vergisine tabi olacak</a:t>
                      </a:r>
                      <a:endParaRPr b="0" lang="en-US" sz="1900" spc="-1" strike="noStrike">
                        <a:solidFill>
                          <a:srgbClr val="000000"/>
                        </a:solidFill>
                        <a:latin typeface="Arial"/>
                      </a:endParaRPr>
                    </a:p>
                    <a:p>
                      <a:pPr marL="536400" indent="-5364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elediyelerin belediye sınırları içinde faaliyet gösteren yolcu taşıma işletmeleri eskiden olduğu gibi kurumlar vergisinden muaf olacak  </a:t>
                      </a:r>
                      <a:endParaRPr b="0" lang="en-US" sz="1900" spc="-1" strike="noStrike">
                        <a:solidFill>
                          <a:srgbClr val="000000"/>
                        </a:solidFill>
                        <a:latin typeface="Arial"/>
                      </a:endParaRPr>
                    </a:p>
                    <a:p>
                      <a:pPr marL="536400" indent="-5364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ncak köylere ait soğuk hava deposu işletmeleri yine muaf olacaktır.</a:t>
                      </a:r>
                      <a:endParaRPr b="0" lang="en-US" sz="1900" spc="-1" strike="noStrike">
                        <a:solidFill>
                          <a:srgbClr val="000000"/>
                        </a:solidFill>
                        <a:latin typeface="Arial"/>
                      </a:endParaRPr>
                    </a:p>
                    <a:p>
                      <a:pPr marL="536400" indent="-536400" algn="just">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6400" indent="-536400" algn="just">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6400" indent="-5364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r h="3120840">
                <a:tc>
                  <a:txBody>
                    <a:bodyPr lIns="360000" rIns="90000" tIns="46800" bIns="46800" anchor="ctr">
                      <a:noAutofit/>
                    </a:bodyPr>
                    <a:p>
                      <a:pPr marL="536400" indent="-5364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0" marR="90000">
                    <a:lnL w="5760">
                      <a:solidFill>
                        <a:srgbClr val="e82c00"/>
                      </a:solidFill>
                    </a:lnL>
                    <a:lnR w="5760">
                      <a:solidFill>
                        <a:srgbClr val="e82c00"/>
                      </a:solidFill>
                    </a:lnR>
                    <a:lnT w="1368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9245AB56-042F-4535-9517-5E4CF67B3B31}"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684360" y="620640"/>
          <a:ext cx="8064360" cy="935280"/>
        </p:xfrm>
        <a:graphic>
          <a:graphicData uri="http://schemas.openxmlformats.org/drawingml/2006/table">
            <a:tbl>
              <a:tblPr/>
              <a:tblGrid>
                <a:gridCol w="8064360"/>
              </a:tblGrid>
              <a:tr h="935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7 </a:t>
                      </a:r>
                      <a:r>
                        <a:rPr b="1" lang="en-US" sz="2600" spc="-1" strike="noStrike">
                          <a:solidFill>
                            <a:srgbClr val="000000"/>
                          </a:solidFill>
                          <a:latin typeface="Times New Roman"/>
                        </a:rPr>
                        <a:t>–KALDIRILAN MUAFİYETLER (2)</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66" name=""/>
          <p:cNvGraphicFramePr/>
          <p:nvPr/>
        </p:nvGraphicFramePr>
        <p:xfrm>
          <a:off x="682560" y="1773360"/>
          <a:ext cx="8066160" cy="8286480"/>
        </p:xfrm>
        <a:graphic>
          <a:graphicData uri="http://schemas.openxmlformats.org/drawingml/2006/table">
            <a:tbl>
              <a:tblPr/>
              <a:tblGrid>
                <a:gridCol w="8066160"/>
              </a:tblGrid>
              <a:tr h="5832360">
                <a:tc>
                  <a:txBody>
                    <a:bodyPr lIns="360000" rIns="90000" tIns="46800" bIns="46800" anchor="ctr">
                      <a:noAutofit/>
                    </a:bodyPr>
                    <a:p>
                      <a:pPr marL="536400" indent="-5364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r>
                        <a:rPr b="1" lang="tr-TR" sz="1900" spc="-1" strike="noStrike">
                          <a:solidFill>
                            <a:srgbClr val="000000"/>
                          </a:solidFill>
                          <a:latin typeface="Arial"/>
                        </a:rPr>
                        <a:t>	</a:t>
                      </a:r>
                      <a:r>
                        <a:rPr b="1" lang="tr-TR" sz="1900" spc="-1" strike="noStrike">
                          <a:solidFill>
                            <a:srgbClr val="000000"/>
                          </a:solidFill>
                          <a:latin typeface="Arial"/>
                        </a:rPr>
                        <a:t>Kantinlere ilişkin muafiyet, sadece askeri kışlalardaki kantinler için muhafaza edilmiştir.</a:t>
                      </a:r>
                      <a:endParaRPr b="0" lang="en-US" sz="1900" spc="-1" strike="noStrike">
                        <a:solidFill>
                          <a:srgbClr val="000000"/>
                        </a:solidFill>
                        <a:latin typeface="Arial"/>
                      </a:endParaRPr>
                    </a:p>
                    <a:p>
                      <a:pPr marL="536400" indent="-5364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r>
                        <a:rPr b="1" lang="tr-TR" sz="1900" spc="-1" strike="noStrike">
                          <a:solidFill>
                            <a:srgbClr val="000000"/>
                          </a:solidFill>
                          <a:latin typeface="Arial"/>
                        </a:rPr>
                        <a:t>Askeri Kantinde sadece kışladaki askerlerin günlük ihtiyacı olan kısıtlı malların satılması gerekir.</a:t>
                      </a:r>
                      <a:endParaRPr b="0" lang="en-US" sz="1900" spc="-1" strike="noStrike">
                        <a:solidFill>
                          <a:srgbClr val="000000"/>
                        </a:solidFill>
                        <a:latin typeface="Arial"/>
                      </a:endParaRPr>
                    </a:p>
                    <a:p>
                      <a:pPr marL="536400" indent="-5364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r>
                        <a:rPr b="1" lang="tr-TR" sz="1900" spc="-1" strike="noStrike">
                          <a:solidFill>
                            <a:srgbClr val="000000"/>
                          </a:solidFill>
                          <a:latin typeface="Arial"/>
                        </a:rPr>
                        <a:t>Okul kantinleri daha önce olduğu gibi kurumlar vergisinden muaftır.</a:t>
                      </a:r>
                      <a:endParaRPr b="0" lang="en-US" sz="1900" spc="-1" strike="noStrike">
                        <a:solidFill>
                          <a:srgbClr val="000000"/>
                        </a:solidFill>
                        <a:latin typeface="Arial"/>
                      </a:endParaRPr>
                    </a:p>
                    <a:p>
                      <a:pPr marL="536400" indent="-5364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r>
                        <a:rPr b="1" lang="tr-TR" sz="1900" spc="-1" strike="noStrike">
                          <a:solidFill>
                            <a:srgbClr val="000000"/>
                          </a:solidFill>
                          <a:latin typeface="Arial"/>
                        </a:rPr>
                        <a:t>Vakıf üniversiteleri Yükseköğretim Kanununun 56 ncı maddesi gereğince devlet üniversitelerine tanınan istisna ve muafiyetlerden aynen yararlanacaklarından kurumlar vergisinden muaf olacaklardır. Okul ücretine yemek bedelinin de dahil olması halinde yemek bedeli vergilendirilmeyecektir. Vakıflara ait özel ilkokul ve orta öğretim kurumları kurumlar vergisine tabi olacaktır.</a:t>
                      </a:r>
                      <a:endParaRPr b="0" lang="en-US" sz="1900" spc="-1" strike="noStrike">
                        <a:solidFill>
                          <a:srgbClr val="000000"/>
                        </a:solidFill>
                        <a:latin typeface="Arial"/>
                      </a:endParaRPr>
                    </a:p>
                    <a:p>
                      <a:pPr marL="536400" indent="-536400" algn="just">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6400" indent="-5364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r h="2454120">
                <a:tc>
                  <a:txBody>
                    <a:bodyPr lIns="360000" rIns="90000" tIns="46800" bIns="46800" anchor="ctr">
                      <a:noAutofit/>
                    </a:bodyPr>
                    <a:p>
                      <a:pPr marL="536400" indent="-5364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0" marR="90000">
                    <a:lnL w="5760">
                      <a:solidFill>
                        <a:srgbClr val="e82c00"/>
                      </a:solidFill>
                    </a:lnL>
                    <a:lnR w="5760">
                      <a:solidFill>
                        <a:srgbClr val="e82c00"/>
                      </a:solidFill>
                    </a:lnR>
                    <a:lnT w="13680">
                      <a:solidFill>
                        <a:srgbClr val="e82c00"/>
                      </a:solidFill>
                    </a:lnT>
                    <a:lnB w="13680">
                      <a:solidFill>
                        <a:srgbClr val="e82c00"/>
                      </a:solidFill>
                    </a:lnB>
                    <a:noFill/>
                  </a:tcPr>
                </a:tc>
              </a:tr>
            </a:tbl>
          </a:graphicData>
        </a:graphic>
      </p:graphicFrame>
      <p:sp>
        <p:nvSpPr>
          <p:cNvPr id="67" name=""/>
          <p:cNvSpPr/>
          <p:nvPr/>
        </p:nvSpPr>
        <p:spPr>
          <a:xfrm>
            <a:off x="1023840" y="27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DBD46C8-3819-4DBF-BB33-6243EC48EFE2}"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684360" y="260280"/>
          <a:ext cx="8064360" cy="935280"/>
        </p:xfrm>
        <a:graphic>
          <a:graphicData uri="http://schemas.openxmlformats.org/drawingml/2006/table">
            <a:tbl>
              <a:tblPr/>
              <a:tblGrid>
                <a:gridCol w="8064360"/>
              </a:tblGrid>
              <a:tr h="935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Condensed"/>
                        </a:rPr>
                        <a:t>7 </a:t>
                      </a:r>
                      <a:r>
                        <a:rPr b="1" lang="en-US" sz="2000" spc="-1" strike="noStrike">
                          <a:solidFill>
                            <a:srgbClr val="000000"/>
                          </a:solidFill>
                          <a:latin typeface="Times New Roman"/>
                        </a:rPr>
                        <a:t>–KOOPERATİFLERİN MUAFİYETİ</a:t>
                      </a:r>
                      <a:r>
                        <a:rPr b="1" lang="en-US" sz="2600" spc="-1" strike="noStrike">
                          <a:solidFill>
                            <a:srgbClr val="000000"/>
                          </a:solidFill>
                          <a:latin typeface="Times New Roman"/>
                        </a:rPr>
                        <a:t> </a:t>
                      </a:r>
                      <a:r>
                        <a:rPr b="1" lang="en-US" sz="2000" spc="-1" strike="noStrike">
                          <a:solidFill>
                            <a:srgbClr val="000000"/>
                          </a:solidFill>
                          <a:latin typeface="Times New Roman"/>
                        </a:rPr>
                        <a:t>YENİDEN DÜZENLENDİ(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69" name=""/>
          <p:cNvGraphicFramePr/>
          <p:nvPr/>
        </p:nvGraphicFramePr>
        <p:xfrm>
          <a:off x="682560" y="1413000"/>
          <a:ext cx="8066160" cy="4248000"/>
        </p:xfrm>
        <a:graphic>
          <a:graphicData uri="http://schemas.openxmlformats.org/drawingml/2006/table">
            <a:tbl>
              <a:tblPr/>
              <a:tblGrid>
                <a:gridCol w="8066160"/>
              </a:tblGrid>
              <a:tr h="4248000">
                <a:tc>
                  <a:txBody>
                    <a:bodyPr lIns="360000" rIns="90000" tIns="46800" bIns="46800" anchor="ctr">
                      <a:noAutofit/>
                    </a:bodyPr>
                    <a:p>
                      <a:pPr marL="449280" indent="-449280" algn="just">
                        <a:spcBef>
                          <a:spcPts val="238"/>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üketim ve taşımacılık kooperatiflerinin muafiyeti kaldırıldı.  (Madde 4/k)</a:t>
                      </a:r>
                      <a:endParaRPr b="0" lang="en-US" sz="1900" spc="-1" strike="noStrike">
                        <a:solidFill>
                          <a:srgbClr val="000000"/>
                        </a:solidFill>
                        <a:latin typeface="Arial"/>
                      </a:endParaRPr>
                    </a:p>
                    <a:p>
                      <a:pPr marL="449280" indent="-449280" algn="just">
                        <a:spcBef>
                          <a:spcPts val="238"/>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apı Kooperatiflerinin muafiyetinde ilave şartlar getirildi. Buna göre, yapı kooperatiflerinde muafiyetin uygulanabilmesi için ana sözleşmelerinde bulunması gereken hususlar dışında aşağıdaki şartlar da aranacaktır.</a:t>
                      </a:r>
                      <a:endParaRPr b="0" lang="en-US" sz="1900" spc="-1" strike="noStrike">
                        <a:solidFill>
                          <a:srgbClr val="000000"/>
                        </a:solidFill>
                        <a:latin typeface="Arial"/>
                      </a:endParaRPr>
                    </a:p>
                    <a:p>
                      <a:pPr marL="449280" indent="-449280" algn="just">
                        <a:spcBef>
                          <a:spcPts val="238"/>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apı Kooperatifin kuruluşundan inşaatın bitim tarihine kadar, kooperatif yönetim ve denetim kurullarında aşağıdaki kişiler yer almayacaktır;</a:t>
                      </a:r>
                      <a:endParaRPr b="0" lang="en-US" sz="1900" spc="-1" strike="noStrike">
                        <a:solidFill>
                          <a:srgbClr val="000000"/>
                        </a:solidFill>
                        <a:latin typeface="Arial"/>
                      </a:endParaRPr>
                    </a:p>
                    <a:p>
                      <a:pPr marL="449280" indent="-4492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Arial"/>
                      </a:endParaRPr>
                    </a:p>
                    <a:p>
                      <a:pPr marL="449280" indent="-449280" algn="just">
                        <a:spcBef>
                          <a:spcPts val="238"/>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49280" indent="-449280" algn="just">
                        <a:spcBef>
                          <a:spcPts val="23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A1F64846-95CB-4334-9B77-16868E55B323}"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684360" y="260280"/>
          <a:ext cx="8064360" cy="935280"/>
        </p:xfrm>
        <a:graphic>
          <a:graphicData uri="http://schemas.openxmlformats.org/drawingml/2006/table">
            <a:tbl>
              <a:tblPr/>
              <a:tblGrid>
                <a:gridCol w="8064360"/>
              </a:tblGrid>
              <a:tr h="935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Condensed"/>
                        </a:rPr>
                        <a:t>7 </a:t>
                      </a:r>
                      <a:r>
                        <a:rPr b="1" lang="en-US" sz="2000" spc="-1" strike="noStrike">
                          <a:solidFill>
                            <a:srgbClr val="000000"/>
                          </a:solidFill>
                          <a:latin typeface="Times New Roman"/>
                        </a:rPr>
                        <a:t>–KOOPERATİFLERİN MUAFİYETİ</a:t>
                      </a:r>
                      <a:r>
                        <a:rPr b="1" lang="en-US" sz="2600" spc="-1" strike="noStrike">
                          <a:solidFill>
                            <a:srgbClr val="000000"/>
                          </a:solidFill>
                          <a:latin typeface="Times New Roman"/>
                        </a:rPr>
                        <a:t> </a:t>
                      </a:r>
                      <a:r>
                        <a:rPr b="1" lang="en-US" sz="2000" spc="-1" strike="noStrike">
                          <a:solidFill>
                            <a:srgbClr val="000000"/>
                          </a:solidFill>
                          <a:latin typeface="Times New Roman"/>
                        </a:rPr>
                        <a:t>YENİDEN DÜZENLENDİ(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71" name=""/>
          <p:cNvGraphicFramePr/>
          <p:nvPr/>
        </p:nvGraphicFramePr>
        <p:xfrm>
          <a:off x="682560" y="1413000"/>
          <a:ext cx="8066160" cy="4248000"/>
        </p:xfrm>
        <a:graphic>
          <a:graphicData uri="http://schemas.openxmlformats.org/drawingml/2006/table">
            <a:tbl>
              <a:tblPr/>
              <a:tblGrid>
                <a:gridCol w="8066160"/>
              </a:tblGrid>
              <a:tr h="4261680">
                <a:tc>
                  <a:txBody>
                    <a:bodyPr lIns="360000" rIns="90000" tIns="46800" bIns="46800" anchor="ctr">
                      <a:noAutofit/>
                    </a:bodyPr>
                    <a:p>
                      <a:pPr marL="449280" indent="-449280" algn="just">
                        <a:spcBef>
                          <a:spcPts val="23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endParaRPr b="0" lang="en-US" sz="1900" spc="-1" strike="noStrike">
                        <a:solidFill>
                          <a:srgbClr val="000000"/>
                        </a:solidFill>
                        <a:latin typeface="Arial"/>
                      </a:endParaRPr>
                    </a:p>
                    <a:p>
                      <a:pPr marL="449280" indent="-449280" algn="just">
                        <a:spcBef>
                          <a:spcPts val="23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r>
                        <a:rPr b="1" lang="tr-TR" sz="1900" spc="-1" strike="noStrike">
                          <a:solidFill>
                            <a:srgbClr val="000000"/>
                          </a:solidFill>
                          <a:latin typeface="Arial"/>
                        </a:rPr>
                        <a:t>-- İnşaat işini üstlenen müteahhit,</a:t>
                      </a:r>
                      <a:endParaRPr b="0" lang="en-US" sz="1900" spc="-1" strike="noStrike">
                        <a:solidFill>
                          <a:srgbClr val="000000"/>
                        </a:solidFill>
                        <a:latin typeface="Arial"/>
                      </a:endParaRPr>
                    </a:p>
                    <a:p>
                      <a:pPr marL="449280" indent="-4492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r>
                        <a:rPr b="1" lang="tr-TR" sz="1900" spc="-1" strike="noStrike">
                          <a:solidFill>
                            <a:srgbClr val="000000"/>
                          </a:solidFill>
                          <a:latin typeface="Arial"/>
                        </a:rPr>
                        <a:t>-- İnşaat işini üstlenen müteahhit tüzel kişi ise temsilcisi,</a:t>
                      </a:r>
                      <a:endParaRPr b="0" lang="en-US" sz="1900" spc="-1" strike="noStrike">
                        <a:solidFill>
                          <a:srgbClr val="000000"/>
                        </a:solidFill>
                        <a:latin typeface="Arial"/>
                      </a:endParaRPr>
                    </a:p>
                    <a:p>
                      <a:pPr marL="449280" indent="-4492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r>
                        <a:rPr b="1" lang="tr-TR" sz="1900" spc="-1" strike="noStrike">
                          <a:solidFill>
                            <a:srgbClr val="000000"/>
                          </a:solidFill>
                          <a:latin typeface="Arial"/>
                        </a:rPr>
                        <a:t>--Müteahhitin ilişkili olduğu kişiler (ilişkili olduğu kişiler  Kanununun 13/2 inci maddesinde kurum ve ortaklarının ilgili olduğu kişiler, kurumun denetim ve sermayesi bakımından nüfuzu altında bulunan kişiler, ortaklar, ortakların eşleri, ortakların veya eşlerinin üstsoy ve altsoyu ile üçüncü derece dahil yansoy hısımları ve kayın hısımları)</a:t>
                      </a:r>
                      <a:endParaRPr b="0" lang="en-US" sz="1900" spc="-1" strike="noStrike">
                        <a:solidFill>
                          <a:srgbClr val="000000"/>
                        </a:solidFill>
                        <a:latin typeface="Arial"/>
                      </a:endParaRPr>
                    </a:p>
                    <a:p>
                      <a:pPr marL="449280" indent="-4492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r>
                        <a:rPr b="1" lang="tr-TR" sz="1900" spc="-1" strike="noStrike">
                          <a:solidFill>
                            <a:srgbClr val="000000"/>
                          </a:solidFill>
                          <a:latin typeface="Arial"/>
                        </a:rPr>
                        <a:t>--Yukarıda sayılanlarla işçi ve işveren ilişkisi içinde bulunanlar. </a:t>
                      </a:r>
                      <a:endParaRPr b="0" lang="en-US" sz="1900" spc="-1" strike="noStrike">
                        <a:solidFill>
                          <a:srgbClr val="000000"/>
                        </a:solidFill>
                        <a:latin typeface="Arial"/>
                      </a:endParaRPr>
                    </a:p>
                    <a:p>
                      <a:pPr marL="449280" indent="-449280" algn="just">
                        <a:spcBef>
                          <a:spcPts val="238"/>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49280" indent="-449280" algn="just">
                        <a:spcBef>
                          <a:spcPts val="23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1E3937C7-DAE6-4AEB-B05B-21452AF3AEC2}"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684360" y="404640"/>
          <a:ext cx="8064360" cy="935280"/>
        </p:xfrm>
        <a:graphic>
          <a:graphicData uri="http://schemas.openxmlformats.org/drawingml/2006/table">
            <a:tbl>
              <a:tblPr/>
              <a:tblGrid>
                <a:gridCol w="8064360"/>
              </a:tblGrid>
              <a:tr h="935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7 </a:t>
                      </a:r>
                      <a:r>
                        <a:rPr b="1" lang="en-US" sz="2600" spc="-1" strike="noStrike">
                          <a:solidFill>
                            <a:srgbClr val="000000"/>
                          </a:solidFill>
                          <a:latin typeface="Times New Roman"/>
                        </a:rPr>
                        <a:t>- KOOPERATİFLERİN MUAFİYET ŞARTLARI(2)</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73" name=""/>
          <p:cNvGraphicFramePr/>
          <p:nvPr/>
        </p:nvGraphicFramePr>
        <p:xfrm>
          <a:off x="682560" y="1555920"/>
          <a:ext cx="8066160" cy="4536720"/>
        </p:xfrm>
        <a:graphic>
          <a:graphicData uri="http://schemas.openxmlformats.org/drawingml/2006/table">
            <a:tbl>
              <a:tblPr/>
              <a:tblGrid>
                <a:gridCol w="8066160"/>
              </a:tblGrid>
              <a:tr h="4536720">
                <a:tc>
                  <a:txBody>
                    <a:bodyPr lIns="360000" rIns="90000" tIns="46800" bIns="46800" anchor="ctr">
                      <a:noAutofit/>
                    </a:bodyPr>
                    <a:p>
                      <a:pPr marL="363600" indent="-3636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şa edilen konut veya işyerinin bitim tarihine kadar yapı ruhsatı ile arsa tapusu kooperatif adına tescil edilmiş olmalıdır. Arsa tapusunun veya yapı ruhsatının kooperatif birlik veya merkez birliğinde olması halinde bu şart  yerine gelmiş kabul edilecektir.</a:t>
                      </a:r>
                      <a:endParaRPr b="0" lang="en-US" sz="1900" spc="-1" strike="noStrike">
                        <a:solidFill>
                          <a:srgbClr val="000000"/>
                        </a:solidFill>
                        <a:latin typeface="Arial"/>
                      </a:endParaRPr>
                    </a:p>
                    <a:p>
                      <a:pPr marL="363600" indent="-3636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apı kooperatiflerinin, kendilerine ait arsaları kat karşılığı vermeleri, her bir ortak için bir konut veya işyeri elde etmeleri şartıyla ortak dışı işlem sayılmamaktadır. Böylece kooperatiflerin muafiyeti devam edecektir.</a:t>
                      </a:r>
                      <a:endParaRPr b="0" lang="en-US" sz="1900" spc="-1" strike="noStrike">
                        <a:solidFill>
                          <a:srgbClr val="000000"/>
                        </a:solidFill>
                        <a:latin typeface="Arial"/>
                      </a:endParaRPr>
                    </a:p>
                    <a:p>
                      <a:pPr marL="363600" indent="-3636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ooperatiflerin kurumlar vergisinden muaf olmak için üst birliklere üye olma şartı, Kooperatifler Kanununda yer alan özel hüküm nedeniyle devam edecektir.</a:t>
                      </a:r>
                      <a:endParaRPr b="0" lang="en-US" sz="1900" spc="-1" strike="noStrike">
                        <a:solidFill>
                          <a:srgbClr val="000000"/>
                        </a:solidFill>
                        <a:latin typeface="Arial"/>
                      </a:endParaRPr>
                    </a:p>
                    <a:p>
                      <a:pPr marL="363600" indent="-363600" algn="just">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2D80F97B-3CB2-4E8D-8B0A-90AA5E10D4A2}"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684360" y="404640"/>
          <a:ext cx="8064360" cy="935280"/>
        </p:xfrm>
        <a:graphic>
          <a:graphicData uri="http://schemas.openxmlformats.org/drawingml/2006/table">
            <a:tbl>
              <a:tblPr/>
              <a:tblGrid>
                <a:gridCol w="8064360"/>
              </a:tblGrid>
              <a:tr h="935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7 </a:t>
                      </a:r>
                      <a:r>
                        <a:rPr b="1" lang="en-US" sz="2600" spc="-1" strike="noStrike">
                          <a:solidFill>
                            <a:srgbClr val="000000"/>
                          </a:solidFill>
                          <a:latin typeface="Times New Roman"/>
                        </a:rPr>
                        <a:t>- KOOPERATİFLERİN MUAFİYET ŞARTLARI(3)</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75" name=""/>
          <p:cNvGraphicFramePr/>
          <p:nvPr/>
        </p:nvGraphicFramePr>
        <p:xfrm>
          <a:off x="682560" y="1555920"/>
          <a:ext cx="8066160" cy="4536720"/>
        </p:xfrm>
        <a:graphic>
          <a:graphicData uri="http://schemas.openxmlformats.org/drawingml/2006/table">
            <a:tbl>
              <a:tblPr/>
              <a:tblGrid>
                <a:gridCol w="8066160"/>
              </a:tblGrid>
              <a:tr h="4536720">
                <a:tc>
                  <a:txBody>
                    <a:bodyPr lIns="360000" rIns="90000" tIns="46800" bIns="46800" anchor="ctr">
                      <a:noAutofit/>
                    </a:bodyPr>
                    <a:p>
                      <a:pPr marL="363600" indent="-3636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osyal tesislerin kat karşılığı inşa ettirilmesi muafiyet şartlarını ihlal etmez, kooperatif işletirse ortak dışı işlem sayılıp kurumlar vergisine tabi tutulur. </a:t>
                      </a:r>
                      <a:endParaRPr b="0" lang="en-US" sz="1900" spc="-1" strike="noStrike">
                        <a:solidFill>
                          <a:srgbClr val="000000"/>
                        </a:solidFill>
                        <a:latin typeface="Arial"/>
                      </a:endParaRPr>
                    </a:p>
                    <a:p>
                      <a:pPr marL="363600" indent="-3636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ooperatif aidatlarının bankada tutularak bankada tutularak faiz alınması ve stopaja tabi olması, muafiyeti ihlal etmez.</a:t>
                      </a:r>
                      <a:endParaRPr b="0" lang="en-US" sz="1900" spc="-1" strike="noStrike">
                        <a:solidFill>
                          <a:srgbClr val="000000"/>
                        </a:solidFill>
                        <a:latin typeface="Arial"/>
                      </a:endParaRPr>
                    </a:p>
                    <a:p>
                      <a:pPr marL="363600" indent="-36360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ooperatifin fazla konut, işyeri veya sosyal tesisleri kiraya vermesi ortak dışı işlem olup, kooperatif kurumlar vergisine tabidir. Ancak kooperatifin geliri sadece stopaja tabi mevduat faizi ve gayrimenkul sermaye iradı ise yıllık beyanname verilmez. </a:t>
                      </a:r>
                      <a:endParaRPr b="0" lang="en-US" sz="1900" spc="-1" strike="noStrike">
                        <a:solidFill>
                          <a:srgbClr val="000000"/>
                        </a:solidFill>
                        <a:latin typeface="Arial"/>
                      </a:endParaRPr>
                    </a:p>
                    <a:p>
                      <a:pPr marL="363600" indent="-363600" algn="just">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8008EB5B-6534-4911-BD65-CC7AB1A5C40D}"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611280" y="549360"/>
          <a:ext cx="7993080" cy="885600"/>
        </p:xfrm>
        <a:graphic>
          <a:graphicData uri="http://schemas.openxmlformats.org/drawingml/2006/table">
            <a:tbl>
              <a:tblPr/>
              <a:tblGrid>
                <a:gridCol w="7993080"/>
              </a:tblGrid>
              <a:tr h="885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8 - İSTİSNALAR YENİDEN DÜZENLENDİ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ŞTİRAK KAZANCI İSTİSNASI</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77" name=""/>
          <p:cNvGraphicFramePr/>
          <p:nvPr/>
        </p:nvGraphicFramePr>
        <p:xfrm>
          <a:off x="679320" y="1700280"/>
          <a:ext cx="7991640" cy="4682880"/>
        </p:xfrm>
        <a:graphic>
          <a:graphicData uri="http://schemas.openxmlformats.org/drawingml/2006/table">
            <a:tbl>
              <a:tblPr/>
              <a:tblGrid>
                <a:gridCol w="7991640"/>
              </a:tblGrid>
              <a:tr h="4701240">
                <a:tc>
                  <a:txBody>
                    <a:bodyPr lIns="360000" rIns="90000" tIns="46800" bIns="46800" anchor="ctr">
                      <a:noAutofit/>
                    </a:bodyPr>
                    <a:p>
                      <a:pPr marL="449280" indent="-449280" algn="just">
                        <a:spcBef>
                          <a:spcPts val="349"/>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Kurumlar, tam mükellef statüsünde olan başka bir kurumdan kar payı elde ettiklerinde, bu kazanç üzerinden kurumlar vergisi ödemeyeceklerdir. Kar payını alan kurumun tam ve dar mükellef olması önem arzetmiyor.</a:t>
                      </a:r>
                      <a:endParaRPr b="0" lang="en-US" sz="1900" spc="-1" strike="noStrike">
                        <a:solidFill>
                          <a:srgbClr val="000000"/>
                        </a:solidFill>
                        <a:latin typeface="Arial"/>
                      </a:endParaRPr>
                    </a:p>
                    <a:p>
                      <a:pPr marL="449280" indent="-449280" algn="just">
                        <a:spcBef>
                          <a:spcPts val="349"/>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Yatırım fonu katılma belgeleri ile yatırım ortaklıklarının hisse senetlerinden elde edilen kar payları bu istisnadan yararlanamıyor. </a:t>
                      </a:r>
                      <a:endParaRPr b="0" lang="en-US" sz="1900" spc="-1" strike="noStrike">
                        <a:solidFill>
                          <a:srgbClr val="000000"/>
                        </a:solidFill>
                        <a:latin typeface="Arial"/>
                      </a:endParaRPr>
                    </a:p>
                    <a:p>
                      <a:pPr marL="449280" indent="-449280" algn="just">
                        <a:spcBef>
                          <a:spcPts val="349"/>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Tam mükellef statüsünde olan başka bir kurumun karına katılma imkanı veren kurucu senetleri ile diğer intifa senetlerinden elde edilen kar payları da kurumlar vergisinden istisna edilmektedir.</a:t>
                      </a:r>
                      <a:endParaRPr b="0" lang="en-US" sz="1900" spc="-1" strike="noStrike">
                        <a:solidFill>
                          <a:srgbClr val="000000"/>
                        </a:solidFill>
                        <a:latin typeface="Arial"/>
                      </a:endParaRPr>
                    </a:p>
                    <a:p>
                      <a:pPr marL="449280" indent="-449280" algn="just">
                        <a:spcBef>
                          <a:spcPts val="349"/>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Dağıtılan kar payının dağıtım yapan kurumda kurumlar vergisinden istisna edilmiş olması iştirak kazancı istisnası uygulamasını etkilemez.İstisna uygulaması için belli bir oranda iştirak etme şartı aranmamaktadı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6BE944A6-5BEE-489B-825A-D3317375F2D1}"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755640" y="304920"/>
          <a:ext cx="7704000" cy="1371600"/>
        </p:xfrm>
        <a:graphic>
          <a:graphicData uri="http://schemas.openxmlformats.org/drawingml/2006/table">
            <a:tbl>
              <a:tblPr/>
              <a:tblGrid>
                <a:gridCol w="7704000"/>
              </a:tblGrid>
              <a:tr h="1371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9 - YURT DIŞINDAKİ ANONİM VE LİMİTED ŞİRKETLERDEN ELDE EDİLEN İŞTİRAK KAZANÇLARINA İLİŞKİN İSTİSNA (1) 5/1-b</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79" name=""/>
          <p:cNvGraphicFramePr/>
          <p:nvPr/>
        </p:nvGraphicFramePr>
        <p:xfrm>
          <a:off x="762120" y="1916280"/>
          <a:ext cx="7704000" cy="4176720"/>
        </p:xfrm>
        <a:graphic>
          <a:graphicData uri="http://schemas.openxmlformats.org/drawingml/2006/table">
            <a:tbl>
              <a:tblPr/>
              <a:tblGrid>
                <a:gridCol w="7704000"/>
              </a:tblGrid>
              <a:tr h="4176720">
                <a:tc>
                  <a:txBody>
                    <a:bodyPr lIns="360000" rIns="90000" tIns="46800" bIns="46800" anchor="ctr">
                      <a:noAutofit/>
                    </a:bodyPr>
                    <a:p>
                      <a:pPr marL="441360" indent="-441360" algn="just">
                        <a:spcBef>
                          <a:spcPts val="238"/>
                        </a:spcBef>
                        <a:spcAft>
                          <a:spcPts val="476"/>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Yurt dışı iştirak edilen kurum anonim veya limited şirket statüsünde olmalı.</a:t>
                      </a:r>
                      <a:endParaRPr b="0" lang="en-US" sz="1900" spc="-1" strike="noStrike">
                        <a:solidFill>
                          <a:srgbClr val="000000"/>
                        </a:solidFill>
                        <a:latin typeface="Arial"/>
                      </a:endParaRPr>
                    </a:p>
                    <a:p>
                      <a:pPr marL="441360" indent="-441360" algn="just">
                        <a:spcBef>
                          <a:spcPts val="238"/>
                        </a:spcBef>
                        <a:spcAft>
                          <a:spcPts val="476"/>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İştirak edilen kurumun kanuni veya iş merkezi  yurt dışında olmalı.</a:t>
                      </a:r>
                      <a:endParaRPr b="0" lang="en-US" sz="1900" spc="-1" strike="noStrike">
                        <a:solidFill>
                          <a:srgbClr val="000000"/>
                        </a:solidFill>
                        <a:latin typeface="Arial"/>
                      </a:endParaRPr>
                    </a:p>
                    <a:p>
                      <a:pPr marL="441360" indent="-441360" algn="just">
                        <a:spcBef>
                          <a:spcPts val="238"/>
                        </a:spcBef>
                        <a:spcAft>
                          <a:spcPts val="476"/>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Yurt dışı şirkete en az iştirak oranı %25’ten ödenmiş sermayenin %10’a düşürüldü.</a:t>
                      </a:r>
                      <a:endParaRPr b="0" lang="en-US" sz="1900" spc="-1" strike="noStrike">
                        <a:solidFill>
                          <a:srgbClr val="000000"/>
                        </a:solidFill>
                        <a:latin typeface="Arial"/>
                      </a:endParaRPr>
                    </a:p>
                    <a:p>
                      <a:pPr marL="441360" indent="-441360" algn="just">
                        <a:spcBef>
                          <a:spcPts val="238"/>
                        </a:spcBef>
                        <a:spcAft>
                          <a:spcPts val="476"/>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İştirak kazancının elde edildiği elde edildiği tarih itibariyle, iştirak payı en az bir yıl süre ile elde tutulmalı.  </a:t>
                      </a:r>
                      <a:endParaRPr b="0" lang="en-US" sz="1900" spc="-1" strike="noStrike">
                        <a:solidFill>
                          <a:srgbClr val="000000"/>
                        </a:solidFill>
                        <a:latin typeface="Arial"/>
                      </a:endParaRPr>
                    </a:p>
                    <a:p>
                      <a:pPr marL="441360" indent="-441360" algn="just">
                        <a:spcBef>
                          <a:spcPts val="238"/>
                        </a:spcBef>
                        <a:spcAft>
                          <a:spcPts val="476"/>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Rüçhan hakkı kullanılarak veya sermaye artırımı nedeniyle bedelsiz edinilen hisselerde elde tutma süresinin belirlenmesinde, sahip olunan eski hisse senetlerinin iktisap tarihi esas alınacaktı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BF6D924B-64C3-4A79-B15F-35E6C9044037}"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 name=""/>
          <p:cNvGraphicFramePr/>
          <p:nvPr/>
        </p:nvGraphicFramePr>
        <p:xfrm>
          <a:off x="611280" y="765000"/>
          <a:ext cx="7993080" cy="792000"/>
        </p:xfrm>
        <a:graphic>
          <a:graphicData uri="http://schemas.openxmlformats.org/drawingml/2006/table">
            <a:tbl>
              <a:tblPr/>
              <a:tblGrid>
                <a:gridCol w="7993080"/>
              </a:tblGrid>
              <a:tr h="79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1 - YENİ SİSTEMATİK ve KODİFİKASYON</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43" name=""/>
          <p:cNvGraphicFramePr/>
          <p:nvPr/>
        </p:nvGraphicFramePr>
        <p:xfrm>
          <a:off x="612720" y="1844640"/>
          <a:ext cx="7991640" cy="4321080"/>
        </p:xfrm>
        <a:graphic>
          <a:graphicData uri="http://schemas.openxmlformats.org/drawingml/2006/table">
            <a:tbl>
              <a:tblPr/>
              <a:tblGrid>
                <a:gridCol w="7991640"/>
              </a:tblGrid>
              <a:tr h="4321080">
                <a:tc>
                  <a:txBody>
                    <a:bodyPr lIns="360000" rIns="90000" tIns="46800" bIns="46800" anchor="ctr">
                      <a:noAutofit/>
                    </a:bodyPr>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am ve dar mükellefiyet  esasında  vergilendirmeye ilişkin hükümler ayrı bölümde düzenlenmiş, Kanunun kendi içinde bütünlüğü sağlanmış,</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urum kazancına yönelik hükümler Kurumlar Vergisi Kanunu’nda toplanmış, Gelir Vergisine yapılan atıflar azaltılmaya çalışılmıştır.</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anun&gt;Kısım &gt;Bölüm şeklinde </a:t>
                      </a:r>
                      <a:r>
                        <a:rPr b="1" lang="en-US" sz="1900" spc="-1" strike="noStrike">
                          <a:solidFill>
                            <a:srgbClr val="e82c00"/>
                          </a:solidFill>
                          <a:latin typeface="Arial"/>
                        </a:rPr>
                        <a:t>tasnif</a:t>
                      </a:r>
                      <a:r>
                        <a:rPr b="1" lang="en-US" sz="1900" spc="-1" strike="noStrike">
                          <a:solidFill>
                            <a:srgbClr val="000000"/>
                          </a:solidFill>
                          <a:latin typeface="Arial"/>
                        </a:rPr>
                        <a:t> edilerek, </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Madde  1-, 2-, 3-</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Fıkra   (1), (2), (3)</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Bent    a), b), c)</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Alt bent   1), 2), 3)  </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olarak numaralandırılmıştı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4480F9C6-206E-4118-BE0B-CD6404667249}"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684360" y="345960"/>
          <a:ext cx="7775280" cy="1282680"/>
        </p:xfrm>
        <a:graphic>
          <a:graphicData uri="http://schemas.openxmlformats.org/drawingml/2006/table">
            <a:tbl>
              <a:tblPr/>
              <a:tblGrid>
                <a:gridCol w="77752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9 - YURT DIŞINDAKİ ANONİM VE LİMİTED ŞİRKETLERDEN ELDE EDİLEN İŞTİRAK KAZANÇLARINA İLİŞKİN İSTİSNA (2)</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81" name=""/>
          <p:cNvGraphicFramePr/>
          <p:nvPr/>
        </p:nvGraphicFramePr>
        <p:xfrm>
          <a:off x="684360" y="1844640"/>
          <a:ext cx="7775280" cy="4400640"/>
        </p:xfrm>
        <a:graphic>
          <a:graphicData uri="http://schemas.openxmlformats.org/drawingml/2006/table">
            <a:tbl>
              <a:tblPr/>
              <a:tblGrid>
                <a:gridCol w="7775280"/>
              </a:tblGrid>
              <a:tr h="4400640">
                <a:tc>
                  <a:txBody>
                    <a:bodyPr lIns="360000" rIns="90000" tIns="46800" bIns="46800" anchor="ctr">
                      <a:noAutofit/>
                    </a:bodyPr>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ştirak edilen kurum kazancı üzerinde doğduğu ülkede taşıması gereken en az vergi yükü, %20’den %15’e indirildi.</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ergi yükü hesabında iştirak edilen kurumun bulunduğu ülkede kazanç üzerinden ve dağıtım sırasında ödenen kurumlar vergisi ve gelir vergisi dikkate alınacaktır. Bu kurumun başka ülkelerde ödediği vergiler dikkate alınmayacaktır. Geçmiş yıl zararları mahsup edildikten sonraki kazanç vergi yükü hesabında dikkate alınacak, karşılık ve yedek akçeler dağıtılabilir kara dahil olacaktır. Kanunen kabul edilmeyen giderler ise harcama yapılmış olduğundan dağıtılabilir kazanca dahil edilmeyecekti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8B02D386-A17B-46A9-B35A-55C5ADB2E61D}"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2" name=""/>
          <p:cNvGraphicFramePr/>
          <p:nvPr/>
        </p:nvGraphicFramePr>
        <p:xfrm>
          <a:off x="684360" y="345960"/>
          <a:ext cx="7775280" cy="1282680"/>
        </p:xfrm>
        <a:graphic>
          <a:graphicData uri="http://schemas.openxmlformats.org/drawingml/2006/table">
            <a:tbl>
              <a:tblPr/>
              <a:tblGrid>
                <a:gridCol w="77752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9 - YURT DIŞINDAKİ ANONİM VE LİMİTED ŞİRKETLERDEN ELDE EDİLEN İŞTİRAK KAZANÇLARINA İLİŞKİN İSTİSNA (3)</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83" name=""/>
          <p:cNvGraphicFramePr/>
          <p:nvPr/>
        </p:nvGraphicFramePr>
        <p:xfrm>
          <a:off x="684360" y="1844640"/>
          <a:ext cx="7775280" cy="4400640"/>
        </p:xfrm>
        <a:graphic>
          <a:graphicData uri="http://schemas.openxmlformats.org/drawingml/2006/table">
            <a:tbl>
              <a:tblPr/>
              <a:tblGrid>
                <a:gridCol w="7775280"/>
              </a:tblGrid>
              <a:tr h="4400640">
                <a:tc>
                  <a:txBody>
                    <a:bodyPr lIns="360000" rIns="90000" tIns="46800" bIns="46800" anchor="ctr">
                      <a:noAutofit/>
                    </a:bodyPr>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ştirak edilen şirketin esas faaliyet konusunun finansal kiralama dahil finansman temini veya sigorta hizmetlerinin sunulması veya her çeşit menkul kıymet yatırımı olması durumunda iştirak edilen bu şirketin bulunduğu ülkede en az Türkiye’deki kurumlar vergisi oranında vergi ödemiş olması halinde istisna uygulanacaktır.</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ştirak kazancı, elde edildiği yıla ait kurumlar vergisi beyannamesinin verileceği tarihe kadar Türkiye’ye transfer edilmelidi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32AAFAB8-7D9D-466B-B9F0-CDF1F4A0F24E}"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611280" y="228600"/>
          <a:ext cx="7993080" cy="1142640"/>
        </p:xfrm>
        <a:graphic>
          <a:graphicData uri="http://schemas.openxmlformats.org/drawingml/2006/table">
            <a:tbl>
              <a:tblPr/>
              <a:tblGrid>
                <a:gridCol w="7993080"/>
              </a:tblGrid>
              <a:tr h="114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0 - YURT DIŞI ŞUBE KAZANÇLARI İSTİSNASI (3)</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adde 5/g)</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85" name=""/>
          <p:cNvGraphicFramePr/>
          <p:nvPr/>
        </p:nvGraphicFramePr>
        <p:xfrm>
          <a:off x="611280" y="1571760"/>
          <a:ext cx="7993080" cy="4925880"/>
        </p:xfrm>
        <a:graphic>
          <a:graphicData uri="http://schemas.openxmlformats.org/drawingml/2006/table">
            <a:tbl>
              <a:tblPr/>
              <a:tblGrid>
                <a:gridCol w="7993080"/>
              </a:tblGrid>
              <a:tr h="4959360">
                <a:tc>
                  <a:txBody>
                    <a:bodyPr lIns="360000" rIns="90000" tIns="46800" bIns="46800" anchor="ctr">
                      <a:noAutofit/>
                    </a:bodyPr>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urumların yurt dışında bulunan işyerleri veya daimi temsilcileri aracılığıyla elde ettikleri kazançlara ilişkin istisna şartları hafifletilmiştir.</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azancın doğduğu ülkede taşıması gereken en az vergi yükü %20’den %15’e indirildi. </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stisna, esas faaliyet konusu finansal kiralama dahil finansman temini, sigorta hizmetleri veya her çeşit menkul kıymet yatırımı olan kurumların kazançlarının bulunulan ülkede en az Türkiye’deki kurumlar vergisi oranında vergi ödenmiş olması şartıyla uygulanacaktır.</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urt dışı şube kazanç; kurumlar vergisi beyannamesinin verileceği tarihe kadar Türkiye’ye getirilecektir.</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ergi yükü yurt dışı iştirak kazançlarındaki açıklamalara göre bulunacaktır.</a:t>
                      </a:r>
                      <a:endParaRPr b="0" lang="en-US" sz="1900" spc="-1" strike="noStrike">
                        <a:solidFill>
                          <a:srgbClr val="000000"/>
                        </a:solidFill>
                        <a:latin typeface="Arial"/>
                      </a:endParaRPr>
                    </a:p>
                    <a:p>
                      <a:pPr marL="533520" indent="-533520" algn="just">
                        <a:spcBef>
                          <a:spcPts val="476"/>
                        </a:spcBef>
                        <a:spcAft>
                          <a:spcPts val="349"/>
                        </a:spcAft>
                        <a:tabLst>
                          <a:tab algn="l" pos="0"/>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1FF3E9FA-97E0-4006-B775-F8486787C36D}"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539640" y="333360"/>
          <a:ext cx="8209080" cy="1295280"/>
        </p:xfrm>
        <a:graphic>
          <a:graphicData uri="http://schemas.openxmlformats.org/drawingml/2006/table">
            <a:tbl>
              <a:tblPr/>
              <a:tblGrid>
                <a:gridCol w="8209080"/>
              </a:tblGrid>
              <a:tr h="1295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11 –</a:t>
                      </a:r>
                      <a:r>
                        <a:rPr b="1" lang="en-US" sz="2200" spc="-1" strike="noStrike">
                          <a:solidFill>
                            <a:srgbClr val="000000"/>
                          </a:solidFill>
                          <a:latin typeface="Rockwell Condensed"/>
                        </a:rPr>
                        <a:t>TAM MÜKELLEF ANONİM  ŞİRKETLERİN YURT DIŞI İŞTİRAK HİSSELERİNİN ELDEN ÇIKARILMASINDAN DOĞAN KAZANCA İLİŞKİN İSTİSNA (Madde 5/c)</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87" name=""/>
          <p:cNvGraphicFramePr/>
          <p:nvPr/>
        </p:nvGraphicFramePr>
        <p:xfrm>
          <a:off x="539640" y="1844640"/>
          <a:ext cx="8209080" cy="4537080"/>
        </p:xfrm>
        <a:graphic>
          <a:graphicData uri="http://schemas.openxmlformats.org/drawingml/2006/table">
            <a:tbl>
              <a:tblPr/>
              <a:tblGrid>
                <a:gridCol w="8209080"/>
              </a:tblGrid>
              <a:tr h="4565160">
                <a:tc>
                  <a:txBody>
                    <a:bodyPr lIns="360000" rIns="90000" tIns="46800" bIns="46800" anchor="ctr">
                      <a:noAutofit/>
                    </a:bodyPr>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Tam mükellef uluslararası holding şirketlerinin; yurt dışı anonim veya limited şirket niteliğindeki iştiraklerine ait iştirak hisselerinin satışından doğan kazançları da aşağıdaki şartlarla istisna kapsamına alındı.</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Tam mükellef şirketin; nakit varlıklar dışında kalan aktif toplamının %75 veya daha fazlasının kanuni ve iş merkezi Türkiye’de bulunmayan anonim veya limited şirketlerin sermayesine iştirakten oluşması</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Bu düzeydeki bir iştirak yapısının kazancın elde edildiği tarih itibariyle kesintisiz olarak bir yıl süre ile var olması</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Yurt dışındaki şirketlerin her birinin sermayesine en az %10 oranında iştirak edilmesi (%75 aktif toplamında zorunlu)</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İştirak hissesinin elden çıkarıldığı tarih itibarıyla en az 2 tam yıl süreyle aktifte yer alması</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A840CE03-3C41-4943-8482-CF13CE1EA942}"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755640" y="693720"/>
          <a:ext cx="7777080" cy="1282680"/>
        </p:xfrm>
        <a:graphic>
          <a:graphicData uri="http://schemas.openxmlformats.org/drawingml/2006/table">
            <a:tbl>
              <a:tblPr/>
              <a:tblGrid>
                <a:gridCol w="77770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1 - GAYRİMENKUL VE İŞTİRAK HİSSESİ SATIŞ KAZANCI İSTİSNASI  (1)</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adde 5/e)</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89" name=""/>
          <p:cNvGraphicFramePr/>
          <p:nvPr/>
        </p:nvGraphicFramePr>
        <p:xfrm>
          <a:off x="755640" y="2133720"/>
          <a:ext cx="7777080" cy="4031640"/>
        </p:xfrm>
        <a:graphic>
          <a:graphicData uri="http://schemas.openxmlformats.org/drawingml/2006/table">
            <a:tbl>
              <a:tblPr/>
              <a:tblGrid>
                <a:gridCol w="7777080"/>
              </a:tblGrid>
              <a:tr h="4031640">
                <a:tc>
                  <a:txBody>
                    <a:bodyPr lIns="360000" rIns="90000" tIns="46800" bIns="46800" anchor="ctr">
                      <a:noAutofit/>
                    </a:bodyPr>
                    <a:p>
                      <a:pPr marL="363600" indent="-3636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ayrimenkul ve iştirak hissesi satış kazancı istisnası bazı değişikliklerle muhafaza edildi. </a:t>
                      </a:r>
                      <a:endParaRPr b="0" lang="en-US" sz="1900" spc="-1" strike="noStrike">
                        <a:solidFill>
                          <a:srgbClr val="000000"/>
                        </a:solidFill>
                        <a:latin typeface="Arial"/>
                      </a:endParaRPr>
                    </a:p>
                    <a:p>
                      <a:pPr marL="363600" indent="-3636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urumların, en az 2 tam yıl süreyle (730 gün) aktiflerinde yer alan taşınmazlar ve iştirak hisseleri ile aynı süreyle sahip oldukları kurucu senetleri, intifa senetleri ve rüçhan haklarının satışından doğan kazançların %75’lik kısmı kurumlar vergisinden istisna edilmektedir.</a:t>
                      </a:r>
                      <a:endParaRPr b="0" lang="en-US" sz="1900" spc="-1" strike="noStrike">
                        <a:solidFill>
                          <a:srgbClr val="000000"/>
                        </a:solidFill>
                        <a:latin typeface="Arial"/>
                      </a:endParaRPr>
                    </a:p>
                    <a:p>
                      <a:pPr marL="363600" indent="-3636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atış kazancının %25’i vergiye tabi kazanca dahil edilecektir.</a:t>
                      </a:r>
                      <a:endParaRPr b="0" lang="en-US" sz="1900" spc="-1" strike="noStrike">
                        <a:solidFill>
                          <a:srgbClr val="000000"/>
                        </a:solidFill>
                        <a:latin typeface="Arial"/>
                      </a:endParaRPr>
                    </a:p>
                    <a:p>
                      <a:pPr marL="363600" indent="-3636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stisnanın uygulanmasında sermayeye ekleme şartı kaldırılmıştır.</a:t>
                      </a:r>
                      <a:endParaRPr b="0" lang="en-US" sz="1900" spc="-1" strike="noStrike">
                        <a:solidFill>
                          <a:srgbClr val="000000"/>
                        </a:solidFill>
                        <a:latin typeface="Arial"/>
                      </a:endParaRPr>
                    </a:p>
                    <a:p>
                      <a:pPr marL="363600" indent="-363600">
                        <a:spcBef>
                          <a:spcPts val="476"/>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atışın yapıldığı dönemde istisna uygulanacaktı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F4CEF8FB-B685-48F3-902E-45F67B5D9496}"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611280" y="304920"/>
          <a:ext cx="7993080" cy="990360"/>
        </p:xfrm>
        <a:graphic>
          <a:graphicData uri="http://schemas.openxmlformats.org/drawingml/2006/table">
            <a:tbl>
              <a:tblPr/>
              <a:tblGrid>
                <a:gridCol w="7993080"/>
              </a:tblGrid>
              <a:tr h="990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 - GAYRİMENKUL VE İŞTİRAK HİSSESİ SATIŞ KAZANCI </a:t>
                      </a:r>
                      <a:r>
                        <a:rPr b="1" lang="en-US" sz="2600" spc="-1" strike="noStrike">
                          <a:solidFill>
                            <a:srgbClr val="000000"/>
                          </a:solidFill>
                          <a:latin typeface="Times New Roman"/>
                        </a:rPr>
                        <a:t>İSTİSNASI</a:t>
                      </a:r>
                      <a:r>
                        <a:rPr b="1" lang="en-US" sz="2400" spc="-1" strike="noStrike">
                          <a:solidFill>
                            <a:srgbClr val="000000"/>
                          </a:solidFill>
                          <a:latin typeface="Times New Roman"/>
                        </a:rPr>
                        <a:t>  (2)  -   (Madde 5/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91" name=""/>
          <p:cNvGraphicFramePr/>
          <p:nvPr/>
        </p:nvGraphicFramePr>
        <p:xfrm>
          <a:off x="611280" y="1712880"/>
          <a:ext cx="7993080" cy="4668840"/>
        </p:xfrm>
        <a:graphic>
          <a:graphicData uri="http://schemas.openxmlformats.org/drawingml/2006/table">
            <a:tbl>
              <a:tblPr/>
              <a:tblGrid>
                <a:gridCol w="7993080"/>
              </a:tblGrid>
              <a:tr h="4668840">
                <a:tc>
                  <a:txBody>
                    <a:bodyPr lIns="360000" rIns="90000" tIns="46800" bIns="46800" anchor="ctr">
                      <a:noAutofit/>
                    </a:bodyPr>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adeli satışlarda, istisnadan satışın yapıldığı yılda yararlanmak mümkündür. Bu durumda, satış bedelinin satışın yapıldığı yılı izleyen ikinci takvim yılının sonuna kadar tahsil edilmesi gerekmektedir.</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zleyen ikinci yılın sonuna kadar tahsilat yapılmazsa, yapılmayan tahsilatın istisna uygulanan kazanca isabet eden kısmı dolayısıyla ödenmemiş olan vergiler ziyaa uğramış sayılı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7B1B6E65-6994-4E38-9387-D4A534E292A3}"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611280" y="304920"/>
          <a:ext cx="7993080" cy="990360"/>
        </p:xfrm>
        <a:graphic>
          <a:graphicData uri="http://schemas.openxmlformats.org/drawingml/2006/table">
            <a:tbl>
              <a:tblPr/>
              <a:tblGrid>
                <a:gridCol w="7993080"/>
              </a:tblGrid>
              <a:tr h="990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 - GAYRİMENKUL VE İŞTİRAK HİSSESİ SATIŞ KAZANCI </a:t>
                      </a:r>
                      <a:r>
                        <a:rPr b="1" lang="en-US" sz="2600" spc="-1" strike="noStrike">
                          <a:solidFill>
                            <a:srgbClr val="000000"/>
                          </a:solidFill>
                          <a:latin typeface="Times New Roman"/>
                        </a:rPr>
                        <a:t>İSTİSNASI</a:t>
                      </a:r>
                      <a:r>
                        <a:rPr b="1" lang="en-US" sz="2400" spc="-1" strike="noStrike">
                          <a:solidFill>
                            <a:srgbClr val="000000"/>
                          </a:solidFill>
                          <a:latin typeface="Times New Roman"/>
                        </a:rPr>
                        <a:t>  (3)  -   (Madde 5/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93" name=""/>
          <p:cNvGraphicFramePr/>
          <p:nvPr/>
        </p:nvGraphicFramePr>
        <p:xfrm>
          <a:off x="611280" y="1712880"/>
          <a:ext cx="7993080" cy="4668840"/>
        </p:xfrm>
        <a:graphic>
          <a:graphicData uri="http://schemas.openxmlformats.org/drawingml/2006/table">
            <a:tbl>
              <a:tblPr/>
              <a:tblGrid>
                <a:gridCol w="7993080"/>
              </a:tblGrid>
              <a:tr h="4668840">
                <a:tc>
                  <a:txBody>
                    <a:bodyPr lIns="360000" rIns="90000" tIns="46800" bIns="46800" anchor="ctr">
                      <a:noAutofit/>
                    </a:bodyPr>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atış sonucu elde edilen kazancın istisnadan yararlandırılan kısmının izleyen 5 yılın sonuna kadar özel bir fon hesabında tutulması gerekir. Kazancın tamamının fona alınma şartı aranmayacaktır. Mükellef isterse istisnadan kısmi olarak da yararlanabilir.</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 yıl içerisinde bu fon sadece sermayeye ilave edilebilir.</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on hesabının sermayeye ilave dışında bir hesaba aktarılması veya işletmeden çekilmesi veya işletmenin tasfiyesi halinde zamanında alınmayan vergiler ziyaa uğramış sayılır. </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04760F32-6B29-4EFC-A47F-EF641A9C3BE9}"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611280" y="304920"/>
          <a:ext cx="7993080" cy="1282680"/>
        </p:xfrm>
        <a:graphic>
          <a:graphicData uri="http://schemas.openxmlformats.org/drawingml/2006/table">
            <a:tbl>
              <a:tblPr/>
              <a:tblGrid>
                <a:gridCol w="79930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1 - GAYRİMENKUL VE İŞTİRAK HİSSESİ SATIŞ KAZANCI İSTİSNASI  (4)</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adde 5/e)</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95" name=""/>
          <p:cNvGraphicFramePr/>
          <p:nvPr/>
        </p:nvGraphicFramePr>
        <p:xfrm>
          <a:off x="611280" y="1844640"/>
          <a:ext cx="7993080" cy="4308480"/>
        </p:xfrm>
        <a:graphic>
          <a:graphicData uri="http://schemas.openxmlformats.org/drawingml/2006/table">
            <a:tbl>
              <a:tblPr/>
              <a:tblGrid>
                <a:gridCol w="7993080"/>
              </a:tblGrid>
              <a:tr h="4308480">
                <a:tc>
                  <a:txBody>
                    <a:bodyPr lIns="360000" rIns="90000" tIns="46800" bIns="46800" anchor="ctr">
                      <a:noAutofit/>
                    </a:bodyPr>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stisnadan yararlanacak kurumun menkul kıymet ve taşınmaz ticareti ile uğraşmaması gerekir.</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atış bedeli nakit karşılığı olmaz ise istisna uygulanmaz. Ancak, borç karşılığı satışta uygulanır. Satış bedelinin altın, Devlet tahvili, Hazine bonosu, İMKB’de işlem gören hisse senedi, tahvil ve bono ile tahsili de nakit olarak kabul edilir.</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ooperatifler, satış bedelini amaçlarına harcamak şartıyla istisnadan yararlanır.</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atış vaadi halinde, satış gerçekleşmediğinden istisna uygulanmaz.</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stimlaklerde, aynı şartlarla istisna uygulanır. Mahkeme kararı ile satışı izleyen ikinci yılın sonuna kadar alınan tezyidi bedeller için de istisna uygulanır.   </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802DF0F1-5D24-40A9-B487-03930CF32BCD}"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611280" y="304920"/>
          <a:ext cx="7993080" cy="1282680"/>
        </p:xfrm>
        <a:graphic>
          <a:graphicData uri="http://schemas.openxmlformats.org/drawingml/2006/table">
            <a:tbl>
              <a:tblPr/>
              <a:tblGrid>
                <a:gridCol w="79930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1 - GAYRİMENKUL VE İŞTİRAK HİSSESİ SATIŞ KAZANCI İSTİSNASI  (5)</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adde 5/e)</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97" name=""/>
          <p:cNvGraphicFramePr/>
          <p:nvPr/>
        </p:nvGraphicFramePr>
        <p:xfrm>
          <a:off x="611280" y="1844640"/>
          <a:ext cx="7993080" cy="4437000"/>
        </p:xfrm>
        <a:graphic>
          <a:graphicData uri="http://schemas.openxmlformats.org/drawingml/2006/table">
            <a:tbl>
              <a:tblPr/>
              <a:tblGrid>
                <a:gridCol w="7993080"/>
              </a:tblGrid>
              <a:tr h="4460400">
                <a:tc>
                  <a:txBody>
                    <a:bodyPr lIns="360000" rIns="90000" tIns="46800" bIns="46800" anchor="ctr">
                      <a:noAutofit/>
                    </a:bodyPr>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 yıllık süre dolmadan işletmenin tasfiyesi halinde fonda duran kazanç tasfiye karına dahil edilerek vergilendirilir.</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urumlar Vergisi Kanununa göre yapılan devir, tam ve kısmi bölünme hallerinde istisnanın uygulanması devam edecek ayrıca bu şekilde devreden taşınmaz ve iştirak hisselerinin satışında 2 yıllık sürenin hesabında eski şirketteki iktisap tarihi esas alınacak.</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edelsiz olarak ve rüçhan hakkı kullanılmak suretiyle iktisap edilen iştirak hisselerinde iki yıllık sürenin hesabında eski hisselerin iktisap tarihi esas alınır.</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şa halindeki binaların satışında, arsaya isabet eden kazanç diğer şartlar varsa istisnadan yararlanacaktır. Ancak bina tamamlanır, cins tahsisi yapılır ve 2 yıl süre sonra satılırsa tamamı için istisna uygulanı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7C8D920C-2990-42AE-958E-AD0F8209E170}"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468360" y="228600"/>
          <a:ext cx="8280360" cy="1760040"/>
        </p:xfrm>
        <a:graphic>
          <a:graphicData uri="http://schemas.openxmlformats.org/drawingml/2006/table">
            <a:tbl>
              <a:tblPr/>
              <a:tblGrid>
                <a:gridCol w="8280360"/>
              </a:tblGrid>
              <a:tr h="1760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2 - BANKALARA VE TMSF’YE BORÇLU KURUMLARIN GAYRİMENKUL VE İŞTİRAK HİSSELERİNİN BU KURUMLARA DEVRİNDEN SAĞLANAN KAZANÇLARDA İSTİSNA </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99" name=""/>
          <p:cNvGraphicFramePr/>
          <p:nvPr/>
        </p:nvGraphicFramePr>
        <p:xfrm>
          <a:off x="468360" y="2133720"/>
          <a:ext cx="8280360" cy="4336920"/>
        </p:xfrm>
        <a:graphic>
          <a:graphicData uri="http://schemas.openxmlformats.org/drawingml/2006/table">
            <a:tbl>
              <a:tblPr/>
              <a:tblGrid>
                <a:gridCol w="8280360"/>
              </a:tblGrid>
              <a:tr h="4355640">
                <a:tc>
                  <a:txBody>
                    <a:bodyPr lIns="360000" rIns="90000" tIns="46800" bIns="46800" anchor="ctr">
                      <a:noAutofit/>
                    </a:bodyPr>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Bankalara borçları nedeniyle kanuni takibe alınmış veya TMSF’ye borçlu durumda olan kurumlar ile bunların kefillerinin ve ipotek verenlerin; taşınmaz ve iştirak hisselerinin, kurucu ve intifa senetleri ile rüçhan haklarının bu borçlara karşılık bankalara veya Fona devrinden sağlanan hasılatın, bu borçların tasfiyesinde kullanılan kısmına isabet eden kazançların tamamı istisnadan yararlanmaktadır.</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İstisna, icra ve iflas kanununa göre kanuni takibe alınmış veya TMSF’ye olan borçlar için yapılan devirlerde uygulanır. İstisnadan, borçlular, kefiller ile bu kurumlar adına ipotek veren kurumlar yararlanacaktır. </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Bankaların bu şekilde elde ettikleri söz konusu kıymetlerin satışından doğan kazançların %75’lik kısmı,  kurumlar vergisinden istisna edilmişti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2B4170AF-4616-49B1-ADC8-A2E09CD2074F}"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826920" y="620640"/>
          <a:ext cx="7632720" cy="936720"/>
        </p:xfrm>
        <a:graphic>
          <a:graphicData uri="http://schemas.openxmlformats.org/drawingml/2006/table">
            <a:tbl>
              <a:tblPr/>
              <a:tblGrid>
                <a:gridCol w="7632720"/>
              </a:tblGrid>
              <a:tr h="93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3 - BELİRSİZ VE İHTİLAFLI KONULARDA AÇIKLIK GETİRİLDİ</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45" name=""/>
          <p:cNvGraphicFramePr/>
          <p:nvPr/>
        </p:nvGraphicFramePr>
        <p:xfrm>
          <a:off x="826920" y="1844640"/>
          <a:ext cx="7632720" cy="3816360"/>
        </p:xfrm>
        <a:graphic>
          <a:graphicData uri="http://schemas.openxmlformats.org/drawingml/2006/table">
            <a:tbl>
              <a:tblPr/>
              <a:tblGrid>
                <a:gridCol w="7632720"/>
              </a:tblGrid>
              <a:tr h="3816360">
                <a:tc>
                  <a:txBody>
                    <a:bodyPr lIns="360000" rIns="90000" tIns="46800" bIns="46800" anchor="ctr">
                      <a:noAutofit/>
                    </a:bodyPr>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Örtülü sermaye ve örtülü kazanç (transfer fiyatlandırması) konularında uluslararası standartlara uygun </a:t>
                      </a:r>
                      <a:r>
                        <a:rPr b="1" lang="en-US" sz="1900" spc="-1" strike="noStrike">
                          <a:solidFill>
                            <a:srgbClr val="e82c00"/>
                          </a:solidFill>
                          <a:latin typeface="Arial"/>
                        </a:rPr>
                        <a:t>objektif kriterler</a:t>
                      </a:r>
                      <a:r>
                        <a:rPr b="1" lang="en-US" sz="1900" spc="-1" strike="noStrike">
                          <a:solidFill>
                            <a:srgbClr val="000000"/>
                          </a:solidFill>
                          <a:latin typeface="Arial"/>
                        </a:rPr>
                        <a:t> getirildi. Böylece belirsizlik ortadan kaldırıldı.</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u müesseselere </a:t>
                      </a:r>
                      <a:r>
                        <a:rPr b="1" lang="en-US" sz="1900" spc="-1" strike="noStrike">
                          <a:solidFill>
                            <a:srgbClr val="e82c00"/>
                          </a:solidFill>
                          <a:latin typeface="Arial"/>
                        </a:rPr>
                        <a:t>işlerlik</a:t>
                      </a:r>
                      <a:r>
                        <a:rPr b="1" lang="en-US" sz="1900" spc="-1" strike="noStrike">
                          <a:solidFill>
                            <a:srgbClr val="000000"/>
                          </a:solidFill>
                          <a:latin typeface="Arial"/>
                        </a:rPr>
                        <a:t> kazandırıldı.</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urtdışı inşaat onarma işleri için ilgili  ülke mevzuatı gereğince </a:t>
                      </a:r>
                      <a:r>
                        <a:rPr b="1" lang="en-US" sz="1900" spc="-1" strike="noStrike">
                          <a:solidFill>
                            <a:srgbClr val="e82c00"/>
                          </a:solidFill>
                          <a:latin typeface="Arial"/>
                        </a:rPr>
                        <a:t>zorunlu olarak kurulan</a:t>
                      </a:r>
                      <a:r>
                        <a:rPr b="1" lang="en-US" sz="1900" spc="-1" strike="noStrike">
                          <a:solidFill>
                            <a:srgbClr val="000000"/>
                          </a:solidFill>
                          <a:latin typeface="Arial"/>
                        </a:rPr>
                        <a:t> </a:t>
                      </a:r>
                      <a:r>
                        <a:rPr b="1" lang="en-US" sz="1900" spc="-1" strike="noStrike">
                          <a:solidFill>
                            <a:srgbClr val="e82c00"/>
                          </a:solidFill>
                          <a:latin typeface="Arial"/>
                        </a:rPr>
                        <a:t>iştirakler</a:t>
                      </a:r>
                      <a:r>
                        <a:rPr b="1" lang="en-US" sz="1900" spc="-1" strike="noStrike">
                          <a:solidFill>
                            <a:srgbClr val="000000"/>
                          </a:solidFill>
                          <a:latin typeface="Arial"/>
                        </a:rPr>
                        <a:t>in kazançları da istisna kapsamına alındı.</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71C0FDC4-E193-4347-B54C-56B9A2A481CD}"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684360" y="336600"/>
          <a:ext cx="7991280" cy="1507680"/>
        </p:xfrm>
        <a:graphic>
          <a:graphicData uri="http://schemas.openxmlformats.org/drawingml/2006/table">
            <a:tbl>
              <a:tblPr/>
              <a:tblGrid>
                <a:gridCol w="7991280"/>
              </a:tblGrid>
              <a:tr h="150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3 - YURT DIŞINDA YAPILAN İNŞAAT İŞLERİ İLE TEKNİK HİZMETLERDEN ELDE EDİLEN KAZANÇLARA İLİŞKİN İSTİSNA (KVK/5-1/H)</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01" name=""/>
          <p:cNvGraphicFramePr/>
          <p:nvPr/>
        </p:nvGraphicFramePr>
        <p:xfrm>
          <a:off x="684360" y="2125800"/>
          <a:ext cx="7991280" cy="4147920"/>
        </p:xfrm>
        <a:graphic>
          <a:graphicData uri="http://schemas.openxmlformats.org/drawingml/2006/table">
            <a:tbl>
              <a:tblPr/>
              <a:tblGrid>
                <a:gridCol w="7991280"/>
              </a:tblGrid>
              <a:tr h="4170960">
                <a:tc>
                  <a:txBody>
                    <a:bodyPr lIns="360000" rIns="90000" tIns="46800" bIns="46800" anchor="ctr">
                      <a:noAutofit/>
                    </a:bodyPr>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urumların yurt dışında yapılan inşaat, onarım, montaj işleri ile teknik hizmetlerden sağladıkları ve Türkiye’de sonuç hesaplarına intikal ettirdikleri kazançlarının, kurumlar vergisinden istisna edilmesine devam edilmekted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u konuda herhangi bir koşul aranmamaktadı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urt dışındaki inşaat ihalesini alan kurumların, bu işe ilişkin proje gibi teknik hizmetleri ister yurt içinde ister yurt dışında yapsın teknik hizmetlere ilişkin kazanç istisnadan yararlandırılacaktı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urumların yurt dışında yaptıkları bir inşaat ve onarım işinin olmaması halinde ancak yurt dışında bir işyeri veya daimi temsilci aracılığıyla yaptıkları teknik hizmetlerden sağladıkları kazançlar istisnadan yararlanacaktı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5DABB952-5F93-473A-8603-3172EBE14E13}"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684360" y="336600"/>
          <a:ext cx="7991280" cy="1507680"/>
        </p:xfrm>
        <a:graphic>
          <a:graphicData uri="http://schemas.openxmlformats.org/drawingml/2006/table">
            <a:tbl>
              <a:tblPr/>
              <a:tblGrid>
                <a:gridCol w="7991280"/>
              </a:tblGrid>
              <a:tr h="150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3 - YURT DIŞINDA YAPILAN İNŞAAT İŞLERİ İLE TEKNİK HİZMETLERDEN ELDE EDİLEN KAZANÇLARA İLİŞKİN İSTİSNA (KVK/5-1/H)</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03" name=""/>
          <p:cNvGraphicFramePr/>
          <p:nvPr/>
        </p:nvGraphicFramePr>
        <p:xfrm>
          <a:off x="684360" y="2125800"/>
          <a:ext cx="7991280" cy="4047840"/>
        </p:xfrm>
        <a:graphic>
          <a:graphicData uri="http://schemas.openxmlformats.org/drawingml/2006/table">
            <a:tbl>
              <a:tblPr/>
              <a:tblGrid>
                <a:gridCol w="7991280"/>
              </a:tblGrid>
              <a:tr h="4066200">
                <a:tc>
                  <a:txBody>
                    <a:bodyPr lIns="360000" rIns="90000" tIns="46800" bIns="46800" anchor="ctr">
                      <a:noAutofit/>
                    </a:bodyPr>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stisna uygulamasında, yurt dışı kazançların Türkiye’ye getirilme zorunluluğu bulunmamaktadı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urt dışında yapılan inşaat işlerinde kullanılmak üzere alınmış krediler için, inşaat işinin sona ermesinden sonra ödenen faiz ve kur farkları, yabancı ülkede bunları ödeyecek işyerinin kalmaması ve söz konusu inşaat işinden elde edilen hasılatın inşaata harcanan kredi kadar kısmının Türkiye’ye getirilmesi halinde, Türkiye’deki merkezin kazancından gider olarak indirebil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mortismana tabi iktisadi kıymetlerin, inşaat işleri için yurt dışına götürülmesi halinde, Türkiye’de amortisman ayrılmayacak, işin bitiminde yurda getirilmesini takiben amortisman kaldığı yerden ayrılmaya devam edecektir.   </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8BCF0095-555F-4E58-9D86-FF277729F8C9}"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611280" y="765000"/>
          <a:ext cx="7993080" cy="854280"/>
        </p:xfrm>
        <a:graphic>
          <a:graphicData uri="http://schemas.openxmlformats.org/drawingml/2006/table">
            <a:tbl>
              <a:tblPr/>
              <a:tblGrid>
                <a:gridCol w="7993080"/>
              </a:tblGrid>
              <a:tr h="85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14 – </a:t>
                      </a:r>
                      <a:r>
                        <a:rPr b="1" lang="en-US" sz="2400" spc="-1" strike="noStrike">
                          <a:solidFill>
                            <a:srgbClr val="000000"/>
                          </a:solidFill>
                          <a:latin typeface="Rockwell Condensed"/>
                        </a:rPr>
                        <a:t>EĞİTİM VE REHABİLİTASYON TESİSLERİ İSTİSNASI (1) (KVK-mad:5/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05" name=""/>
          <p:cNvGraphicFramePr/>
          <p:nvPr/>
        </p:nvGraphicFramePr>
        <p:xfrm>
          <a:off x="612720" y="1844640"/>
          <a:ext cx="7991640" cy="4365720"/>
        </p:xfrm>
        <a:graphic>
          <a:graphicData uri="http://schemas.openxmlformats.org/drawingml/2006/table">
            <a:tbl>
              <a:tblPr/>
              <a:tblGrid>
                <a:gridCol w="7991640"/>
              </a:tblGrid>
              <a:tr h="4388040">
                <a:tc>
                  <a:txBody>
                    <a:bodyPr lIns="360000" rIns="90000" tIns="46800" bIns="46800" anchor="ctr">
                      <a:noAutofit/>
                    </a:bodyPr>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25 sayılı Özel Öğretim Kurumları Kanunu Kapsamında yer alan okul öncesi eğitim, ilköğretim okulu, ortaöğretim okullarının işletilmesinden sağlanan kazançlar,</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akanlar Kurulunca vergi muafiyeti tanınan vakıflar ve kamu yararına çalışan derneklere bağlı rehabilitasyon merkezlerinin işletilmesinden elde edilen kazançlar istisna kapsamındadır.</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stisna uygulaması tesis bazında yapılır.</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stisna eğitim hizmetlerinden sağlanan kazanca uygulanacak. Konaklama ve yemek hizmeti de verilmesi halinde, söz konusu hizmetlerin okulda verilmesi ve bedelin okul ücretine dahil olduğu durumda elde edilen kazanç ayrım yapılmaksızın istisna edilecek.</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EB4E8069-18F7-4703-A17D-84B6C6F600F0}"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11280" y="765000"/>
          <a:ext cx="7993080" cy="854280"/>
        </p:xfrm>
        <a:graphic>
          <a:graphicData uri="http://schemas.openxmlformats.org/drawingml/2006/table">
            <a:tbl>
              <a:tblPr/>
              <a:tblGrid>
                <a:gridCol w="7993080"/>
              </a:tblGrid>
              <a:tr h="85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14 – </a:t>
                      </a:r>
                      <a:r>
                        <a:rPr b="1" lang="en-US" sz="2400" spc="-1" strike="noStrike">
                          <a:solidFill>
                            <a:srgbClr val="000000"/>
                          </a:solidFill>
                          <a:latin typeface="Rockwell Condensed"/>
                        </a:rPr>
                        <a:t>EĞİTİM VE REHABİLİTASYON TESİSLERİ İSTİSNASI (2)  (KVK-mad:5/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07" name=""/>
          <p:cNvGraphicFramePr/>
          <p:nvPr/>
        </p:nvGraphicFramePr>
        <p:xfrm>
          <a:off x="612720" y="1844640"/>
          <a:ext cx="7991640" cy="4321080"/>
        </p:xfrm>
        <a:graphic>
          <a:graphicData uri="http://schemas.openxmlformats.org/drawingml/2006/table">
            <a:tbl>
              <a:tblPr/>
              <a:tblGrid>
                <a:gridCol w="7991640"/>
              </a:tblGrid>
              <a:tr h="4321080">
                <a:tc>
                  <a:txBody>
                    <a:bodyPr lIns="360000" rIns="90000" tIns="46800" bIns="46800" anchor="ctr">
                      <a:noAutofit/>
                    </a:bodyPr>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kuldaki büfe, kantin, kafeterya, kitap satış gelirleri istisna kapsamında değildir. Yemek hizmetinin dışardan satın alınması istisnanın uygulanmasına engel değildir.</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Üniversiteye hazırlık, kolejlere hazırlık, bilgisayar, sürücü kursu, dans, mankenlik, spor kursları kazançları istisnaya konu olamaz.</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stisna vergilendirme dönemi için uygulanır. Bu konuda Maliye Bakanlığına Başvurulması gerekir. Eğitim tesislerinin devri halinde devralan kurum, kalan süre için yararlanır.</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5A97C823-8477-4645-BFAE-1287999322C0}"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609480" y="325440"/>
          <a:ext cx="8062920" cy="1447920"/>
        </p:xfrm>
        <a:graphic>
          <a:graphicData uri="http://schemas.openxmlformats.org/drawingml/2006/table">
            <a:tbl>
              <a:tblPr/>
              <a:tblGrid>
                <a:gridCol w="8062920"/>
              </a:tblGrid>
              <a:tr h="1447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5 - MATRAHIN TESPİTİNDE İNDİRİLECEK GİDER, ZARAR MAHSUBU VE DİĞER İNDİRİMLER</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09" name=""/>
          <p:cNvGraphicFramePr/>
          <p:nvPr/>
        </p:nvGraphicFramePr>
        <p:xfrm>
          <a:off x="611280" y="2057400"/>
          <a:ext cx="8064360" cy="4343040"/>
        </p:xfrm>
        <a:graphic>
          <a:graphicData uri="http://schemas.openxmlformats.org/drawingml/2006/table">
            <a:tbl>
              <a:tblPr/>
              <a:tblGrid>
                <a:gridCol w="8064360"/>
              </a:tblGrid>
              <a:tr h="4343040">
                <a:tc>
                  <a:txBody>
                    <a:bodyPr lIns="360000" rIns="90000" tIns="46800" bIns="46800" anchor="ctr">
                      <a:noAutofit/>
                    </a:bodyPr>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Kurum kazancından </a:t>
                      </a:r>
                      <a:r>
                        <a:rPr b="1" lang="tr-TR" sz="1900" spc="-1" strike="noStrike">
                          <a:solidFill>
                            <a:srgbClr val="e82c00"/>
                          </a:solidFill>
                          <a:latin typeface="Arial"/>
                        </a:rPr>
                        <a:t>indirilecek giderler</a:t>
                      </a:r>
                      <a:r>
                        <a:rPr b="1" lang="tr-TR" sz="1900" spc="-1" strike="noStrike">
                          <a:solidFill>
                            <a:srgbClr val="000000"/>
                          </a:solidFill>
                          <a:latin typeface="Arial"/>
                        </a:rPr>
                        <a:t>, </a:t>
                      </a:r>
                      <a:r>
                        <a:rPr b="1" lang="tr-TR" sz="1900" spc="-1" strike="noStrike">
                          <a:solidFill>
                            <a:srgbClr val="e82c00"/>
                          </a:solidFill>
                          <a:latin typeface="Arial"/>
                        </a:rPr>
                        <a:t>zarar mahsubu</a:t>
                      </a:r>
                      <a:r>
                        <a:rPr b="1" lang="tr-TR" sz="1900" spc="-1" strike="noStrike">
                          <a:solidFill>
                            <a:srgbClr val="000000"/>
                          </a:solidFill>
                          <a:latin typeface="Arial"/>
                        </a:rPr>
                        <a:t> ya da beyanname üzerinde gösterilerek </a:t>
                      </a:r>
                      <a:r>
                        <a:rPr b="1" lang="tr-TR" sz="1900" spc="-1" strike="noStrike">
                          <a:solidFill>
                            <a:srgbClr val="e82c00"/>
                          </a:solidFill>
                          <a:latin typeface="Arial"/>
                        </a:rPr>
                        <a:t>indirim konusu yapılan unsurlar</a:t>
                      </a:r>
                      <a:r>
                        <a:rPr b="1" lang="tr-TR" sz="1900" spc="-1" strike="noStrike">
                          <a:solidFill>
                            <a:srgbClr val="000000"/>
                          </a:solidFill>
                          <a:latin typeface="Arial"/>
                        </a:rPr>
                        <a:t> ayrı maddelerde düzenlenmiştir.</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Zararların 5 yıl içinde indirilebilmesine ilişkin hüküm korunmuştur.</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Günün koşulları ve gereklerine göre bir takım giderlerin indirimi mümkün hale getirilmiştir. Örnek deprem hasar karşılıkları. </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İlgili dönemde matrahın yetersiz olması nedeniyle indirim konusu yapılamayan diğer indirimlerden,   </a:t>
                      </a:r>
                      <a:r>
                        <a:rPr b="1" lang="tr-TR" sz="1900" spc="-1" strike="noStrike">
                          <a:solidFill>
                            <a:srgbClr val="e82c00"/>
                          </a:solidFill>
                          <a:latin typeface="Arial"/>
                        </a:rPr>
                        <a:t>Ar-Ge hariç</a:t>
                      </a:r>
                      <a:r>
                        <a:rPr b="1" lang="tr-TR" sz="1900" spc="-1" strike="noStrike">
                          <a:solidFill>
                            <a:srgbClr val="000000"/>
                          </a:solidFill>
                          <a:latin typeface="Arial"/>
                        </a:rPr>
                        <a:t> diğerleri sonraki yıllara devredilemeyecektir.</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Devralınan veya bölünen kurum zararlarının indirilebilmesine ilişkin değişiklik yapılmıştı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640A95C9-4E33-40BB-9433-A3C168BBD883}"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611280" y="333360"/>
          <a:ext cx="7993080" cy="1282680"/>
        </p:xfrm>
        <a:graphic>
          <a:graphicData uri="http://schemas.openxmlformats.org/drawingml/2006/table">
            <a:tbl>
              <a:tblPr/>
              <a:tblGrid>
                <a:gridCol w="79930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16 - DEVRALINAN VEYA BÖLÜNEN KURUM ZARARLARININ İNDİRİLMESİNE İLİŞKİN HÜKÜMLER YENİDEN DÜZENLENDİ (1)</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11" name=""/>
          <p:cNvGraphicFramePr/>
          <p:nvPr/>
        </p:nvGraphicFramePr>
        <p:xfrm>
          <a:off x="611280" y="1852560"/>
          <a:ext cx="7993080" cy="4926240"/>
        </p:xfrm>
        <a:graphic>
          <a:graphicData uri="http://schemas.openxmlformats.org/drawingml/2006/table">
            <a:tbl>
              <a:tblPr/>
              <a:tblGrid>
                <a:gridCol w="7993080"/>
              </a:tblGrid>
              <a:tr h="4959360">
                <a:tc>
                  <a:txBody>
                    <a:bodyPr lIns="360000" rIns="90000" tIns="46800" bIns="46800" anchor="ctr">
                      <a:noAutofit/>
                    </a:bodyPr>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Kanunun 20 nci maddesi çerçevesinde</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Devralınan kurumların devir tarihi itibariyle özsermayelerini aşmayan zararları kurumlar vergisi matrahının tespitinde indirilebilecek</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Tam bölünmede, bölünen kurumdaki devralınan özsermayesini aşmayan ve devralınan kıymetle orantılı zararlar indirim konusu yapılabilecek </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Özsermaya kavramı olarak Vergi Usul Kanununun 192 nci maddesine göre; aktif (Mevcutlar+Alacaklar) toplamı ile borçlar arasındaki farktır. Örtülü sermayenin negatif veya sıfır olması durumunda devralınan veya bölünün kurum zararı yeni kurumda indirilemez.</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Devralınan ve bölünen kurum zararlarının indirim konusu yapılabilmesi için ayrıca aşağıdaki şartlara uyulması gerekir.</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DEC7E3CB-9BDA-47A6-B386-CB520ACE6683}"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611280" y="333360"/>
          <a:ext cx="7993080" cy="1282680"/>
        </p:xfrm>
        <a:graphic>
          <a:graphicData uri="http://schemas.openxmlformats.org/drawingml/2006/table">
            <a:tbl>
              <a:tblPr/>
              <a:tblGrid>
                <a:gridCol w="79930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16 - DEVRALINAN VEYA BÖLÜNEN KURUM ZARARLARININ İNDİRİLMESİNE İLİŞKİN HÜKÜMLER YENİDEN DÜZENLENDİ (2)</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13" name=""/>
          <p:cNvGraphicFramePr/>
          <p:nvPr/>
        </p:nvGraphicFramePr>
        <p:xfrm>
          <a:off x="611280" y="1852560"/>
          <a:ext cx="7993080" cy="4672080"/>
        </p:xfrm>
        <a:graphic>
          <a:graphicData uri="http://schemas.openxmlformats.org/drawingml/2006/table">
            <a:tbl>
              <a:tblPr/>
              <a:tblGrid>
                <a:gridCol w="7993080"/>
              </a:tblGrid>
              <a:tr h="4672080">
                <a:tc>
                  <a:txBody>
                    <a:bodyPr lIns="360000" rIns="90000" tIns="46800" bIns="46800" anchor="ctr">
                      <a:noAutofit/>
                    </a:bodyPr>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on beş yıla ait kurumlar vergisi beyannameleri kanuni süresinde verilmelidir.</a:t>
                      </a:r>
                      <a:endParaRPr b="0" lang="en-US" sz="1900" spc="-1" strike="noStrike">
                        <a:solidFill>
                          <a:srgbClr val="000000"/>
                        </a:solidFill>
                        <a:latin typeface="Arial"/>
                      </a:endParaRPr>
                    </a:p>
                    <a:p>
                      <a:pPr marL="533520" indent="-533520" algn="just">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vralınan kurum faaliyetine en 5 yıl süreyle devam etmelidi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9C197657-48B7-4281-A997-B703D2EE0033}" type="slidenum">
              <a:t>3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533520" y="304920"/>
          <a:ext cx="8207280" cy="1008000"/>
        </p:xfrm>
        <a:graphic>
          <a:graphicData uri="http://schemas.openxmlformats.org/drawingml/2006/table">
            <a:tbl>
              <a:tblPr/>
              <a:tblGrid>
                <a:gridCol w="8207280"/>
              </a:tblGrid>
              <a:tr h="100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ea typeface="Times New Roman"/>
                        </a:rPr>
                        <a:t>17 – AR-GE İNDİRİMİ (1)</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15" name=""/>
          <p:cNvGraphicFramePr/>
          <p:nvPr/>
        </p:nvGraphicFramePr>
        <p:xfrm>
          <a:off x="539640" y="1555920"/>
          <a:ext cx="8209080" cy="4925880"/>
        </p:xfrm>
        <a:graphic>
          <a:graphicData uri="http://schemas.openxmlformats.org/drawingml/2006/table">
            <a:tbl>
              <a:tblPr/>
              <a:tblGrid>
                <a:gridCol w="8209080"/>
              </a:tblGrid>
              <a:tr h="4959360">
                <a:tc>
                  <a:txBody>
                    <a:bodyPr lIns="360000" rIns="90000" tIns="46800" bIns="46800" anchor="ctr">
                      <a:noAutofit/>
                    </a:bodyPr>
                    <a:p>
                      <a:pPr marL="363600" indent="-3636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Kurumlar AR-GE harcamalarını aktifleştirip proje sonunda bir gayri maddi hak ortaya çıkması halinde, amortisman yoluyla itfa etmeleri gerekir. </a:t>
                      </a:r>
                      <a:endParaRPr b="0" lang="en-US" sz="1900" spc="-1" strike="noStrike">
                        <a:solidFill>
                          <a:srgbClr val="000000"/>
                        </a:solidFill>
                        <a:latin typeface="Arial"/>
                      </a:endParaRPr>
                    </a:p>
                    <a:p>
                      <a:pPr marL="363600" indent="-3636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Ayrıca AR-GE harcamalarının %40’ı oranında hesaplayacakları AR-GE indirimini beyanname üzerinde indirim konusu yapılacaktır. Geçici vergi dönemlerinde de bu indirim yapılabilecek.</a:t>
                      </a:r>
                      <a:endParaRPr b="0" lang="en-US" sz="1900" spc="-1" strike="noStrike">
                        <a:solidFill>
                          <a:srgbClr val="000000"/>
                        </a:solidFill>
                        <a:latin typeface="Arial"/>
                      </a:endParaRPr>
                    </a:p>
                    <a:p>
                      <a:pPr marL="363600" indent="-3636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Kazanç yetersizliği nedeniyle indirilemeyen AR-GE indirimi sonraki hesap dönemlerine devreder.</a:t>
                      </a:r>
                      <a:endParaRPr b="0" lang="en-US" sz="1900" spc="-1" strike="noStrike">
                        <a:solidFill>
                          <a:srgbClr val="000000"/>
                        </a:solidFill>
                        <a:latin typeface="Arial"/>
                      </a:endParaRPr>
                    </a:p>
                    <a:p>
                      <a:pPr marL="363600" indent="-3636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AR-GE projesinden vazgeçilmesi veya bir gayrimaddi hak ortaya çıkmaması durumunda aktifleştirilen tutarlar doğrudan gider yazılır.</a:t>
                      </a:r>
                      <a:endParaRPr b="0" lang="en-US" sz="1900" spc="-1" strike="noStrike">
                        <a:solidFill>
                          <a:srgbClr val="000000"/>
                        </a:solidFill>
                        <a:latin typeface="Arial"/>
                      </a:endParaRPr>
                    </a:p>
                    <a:p>
                      <a:pPr marL="363600" indent="-3636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AR-GE faaliyeti esas itibariyle dönemlerin son bulduğu ve ilk üretimin yapıldığı aşamada sona erer.</a:t>
                      </a:r>
                      <a:endParaRPr b="0" lang="en-US" sz="1900" spc="-1" strike="noStrike">
                        <a:solidFill>
                          <a:srgbClr val="000000"/>
                        </a:solidFill>
                        <a:latin typeface="Arial"/>
                      </a:endParaRPr>
                    </a:p>
                    <a:p>
                      <a:pPr marL="363600" indent="-363600">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A91C5D84-425A-4942-8692-49B2E7B49350}"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533520" y="304920"/>
          <a:ext cx="8207280" cy="1008000"/>
        </p:xfrm>
        <a:graphic>
          <a:graphicData uri="http://schemas.openxmlformats.org/drawingml/2006/table">
            <a:tbl>
              <a:tblPr/>
              <a:tblGrid>
                <a:gridCol w="8207280"/>
              </a:tblGrid>
              <a:tr h="100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ea typeface="Times New Roman"/>
                        </a:rPr>
                        <a:t>17 – AR-GE İNDİRİMİ (2)</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17" name=""/>
          <p:cNvGraphicFramePr/>
          <p:nvPr/>
        </p:nvGraphicFramePr>
        <p:xfrm>
          <a:off x="539640" y="1555920"/>
          <a:ext cx="8209080" cy="4897440"/>
        </p:xfrm>
        <a:graphic>
          <a:graphicData uri="http://schemas.openxmlformats.org/drawingml/2006/table">
            <a:tbl>
              <a:tblPr/>
              <a:tblGrid>
                <a:gridCol w="8209080"/>
              </a:tblGrid>
              <a:tr h="4897440">
                <a:tc>
                  <a:txBody>
                    <a:bodyPr lIns="360000" rIns="90000" tIns="46800" bIns="46800" anchor="ctr">
                      <a:noAutofit/>
                    </a:bodyPr>
                    <a:p>
                      <a:pPr marL="363600" indent="-3636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R-GE harcamaları; ilk madde ve malzeme gideri, personel gideri, genel gider, dışardan sağlanan fayda ve hizmetler, vergi, resim ve harçlar, amortisman ve finansman giderleridir.</a:t>
                      </a:r>
                      <a:endParaRPr b="0" lang="en-US" sz="1900" spc="-1" strike="noStrike">
                        <a:solidFill>
                          <a:srgbClr val="000000"/>
                        </a:solidFill>
                        <a:latin typeface="Arial"/>
                      </a:endParaRPr>
                    </a:p>
                    <a:p>
                      <a:pPr marL="363600" indent="-3636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R-GE indiriminden yararlanacaklar, indirimin uygulanmasına başlayacağı geçici vergi beyannamesinin verileceği tarihe kadar, Gelir İdaresi Başkanlığına başvurmaları gerekir.</a:t>
                      </a:r>
                      <a:endParaRPr b="0" lang="en-US" sz="1900" spc="-1" strike="noStrike">
                        <a:solidFill>
                          <a:srgbClr val="000000"/>
                        </a:solidFill>
                        <a:latin typeface="Arial"/>
                      </a:endParaRPr>
                    </a:p>
                    <a:p>
                      <a:pPr marL="363600" indent="-3636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ükellef, projenin TÜBİTAK tarafından incelenmesi için proje bütçesinin %0,03’ü oranında 15.000-YTL geçmemek üzere anılan kuruluşa yatırması zorunludur.</a:t>
                      </a:r>
                      <a:endParaRPr b="0" lang="en-US" sz="1900" spc="-1" strike="noStrike">
                        <a:solidFill>
                          <a:srgbClr val="000000"/>
                        </a:solidFill>
                        <a:latin typeface="Arial"/>
                      </a:endParaRPr>
                    </a:p>
                    <a:p>
                      <a:pPr marL="363600" indent="-3636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R-GE indiriminin YMM tasdik raporuna bağlanması gerekir.</a:t>
                      </a:r>
                      <a:endParaRPr b="0" lang="en-US" sz="1900" spc="-1" strike="noStrike">
                        <a:solidFill>
                          <a:srgbClr val="000000"/>
                        </a:solidFill>
                        <a:latin typeface="Arial"/>
                      </a:endParaRPr>
                    </a:p>
                    <a:p>
                      <a:pPr marL="363600" indent="-3636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63600" indent="-363600">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D073B950-9B89-4803-AED1-8BC899EB9C1E}" type="slidenum">
              <a:t>38</a:t>
            </a:fld>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 name=""/>
          <p:cNvGraphicFramePr/>
          <p:nvPr/>
        </p:nvGraphicFramePr>
        <p:xfrm>
          <a:off x="611280" y="333360"/>
          <a:ext cx="7993080" cy="946080"/>
        </p:xfrm>
        <a:graphic>
          <a:graphicData uri="http://schemas.openxmlformats.org/drawingml/2006/table">
            <a:tbl>
              <a:tblPr/>
              <a:tblGrid>
                <a:gridCol w="7993080"/>
              </a:tblGrid>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8 –SPONSORLUK HARCAMALARI İNDİRİMİ (KVK Mad: 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19" name=""/>
          <p:cNvGraphicFramePr/>
          <p:nvPr/>
        </p:nvGraphicFramePr>
        <p:xfrm>
          <a:off x="611280" y="1484280"/>
          <a:ext cx="7993080" cy="5749920"/>
        </p:xfrm>
        <a:graphic>
          <a:graphicData uri="http://schemas.openxmlformats.org/drawingml/2006/table">
            <a:tbl>
              <a:tblPr/>
              <a:tblGrid>
                <a:gridCol w="7993080"/>
              </a:tblGrid>
              <a:tr h="5787720">
                <a:tc>
                  <a:txBody>
                    <a:bodyPr lIns="360000" rIns="90000" tIns="46800" bIns="46800" anchor="ctr">
                      <a:noAutofit/>
                    </a:bodyPr>
                    <a:p>
                      <a:pPr marL="533520" indent="-533520">
                        <a:spcBef>
                          <a:spcPts val="476"/>
                        </a:spcBef>
                        <a:spcAft>
                          <a:spcPts val="476"/>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289 ve 38/3 sayılı Kanun kapsamında yapılan sponsorluk harcamalarının amatör spor dallarında tamamı, profesyonel spor dallarında %50’si indirim konusu yapılabilir.</a:t>
                      </a:r>
                      <a:endParaRPr b="0" lang="en-US" sz="1900" spc="-1" strike="noStrike">
                        <a:solidFill>
                          <a:srgbClr val="000000"/>
                        </a:solidFill>
                        <a:latin typeface="Arial"/>
                      </a:endParaRPr>
                    </a:p>
                    <a:p>
                      <a:pPr marL="533520" indent="-533520">
                        <a:spcBef>
                          <a:spcPts val="476"/>
                        </a:spcBef>
                        <a:spcAft>
                          <a:spcPts val="476"/>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ponsorluk harcamaları, ticari kazancın elde edilmesi ile doğrudan ilişkili olmayan sosyal amaçlı harcamalar olup reklam harcamalarından ayrılır.</a:t>
                      </a:r>
                      <a:endParaRPr b="0" lang="en-US" sz="1900" spc="-1" strike="noStrike">
                        <a:solidFill>
                          <a:srgbClr val="000000"/>
                        </a:solidFill>
                        <a:latin typeface="Arial"/>
                      </a:endParaRPr>
                    </a:p>
                    <a:p>
                      <a:pPr marL="533520" indent="-533520">
                        <a:spcBef>
                          <a:spcPts val="476"/>
                        </a:spcBef>
                        <a:spcAft>
                          <a:spcPts val="476"/>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ponsor kuruluşunun adının geçmesi suretiyle; spor organizasyonları salon, tesis kira bedelleri, sporcuların seyahat, ikamet ve iaşe giderleri, spor malzemeleri bedeli, spor tesisleri için yapılan harcamalar, sporcu bonservis bedeli, sporculara ödenen primler sponsorluk harcamalarıdır. Firma amblemi, markası ve ismini taşıyan spor malzemeleri, araçları temini reklam harcamalarıdır. Aynı şekilde bonservisi temin edilen sporcu firmanın reklamında hizmet verecek ise reklam bedelinin ayrıştırılması gerekir.</a:t>
                      </a:r>
                      <a:endParaRPr b="0" lang="en-US" sz="1900" spc="-1" strike="noStrike">
                        <a:solidFill>
                          <a:srgbClr val="000000"/>
                        </a:solidFill>
                        <a:latin typeface="Arial"/>
                      </a:endParaRPr>
                    </a:p>
                    <a:p>
                      <a:pPr marL="533520" indent="-533520">
                        <a:spcBef>
                          <a:spcPts val="476"/>
                        </a:spcBef>
                        <a:spcAft>
                          <a:spcPts val="476"/>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ponsorluk harcamalarının, makbuz, banka dekontu veya fatura ile belgelenmesi gerekir.</a:t>
                      </a:r>
                      <a:endParaRPr b="0" lang="en-US" sz="1900" spc="-1" strike="noStrike">
                        <a:solidFill>
                          <a:srgbClr val="000000"/>
                        </a:solidFill>
                        <a:latin typeface="Arial"/>
                      </a:endParaRPr>
                    </a:p>
                    <a:p>
                      <a:pPr marL="533520" indent="-533520">
                        <a:spcBef>
                          <a:spcPts val="476"/>
                        </a:spcBef>
                        <a:spcAft>
                          <a:spcPts val="476"/>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822A6B9E-7DF4-4D8F-AA32-F9BD6C74EFBE}"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611280" y="476280"/>
          <a:ext cx="7993080" cy="1282680"/>
        </p:xfrm>
        <a:graphic>
          <a:graphicData uri="http://schemas.openxmlformats.org/drawingml/2006/table">
            <a:tbl>
              <a:tblPr/>
              <a:tblGrid>
                <a:gridCol w="79930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 – KANUNDA VERGİ TABANININ GENİŞLETİLMESİNE YÖNELİK DÜZENLEMELERE YER VERİLDİ</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47" name=""/>
          <p:cNvGraphicFramePr/>
          <p:nvPr/>
        </p:nvGraphicFramePr>
        <p:xfrm>
          <a:off x="611280" y="1989000"/>
          <a:ext cx="7993080" cy="4032360"/>
        </p:xfrm>
        <a:graphic>
          <a:graphicData uri="http://schemas.openxmlformats.org/drawingml/2006/table">
            <a:tbl>
              <a:tblPr/>
              <a:tblGrid>
                <a:gridCol w="7993080"/>
              </a:tblGrid>
              <a:tr h="4032360">
                <a:tc>
                  <a:txBody>
                    <a:bodyPr lIns="360000" rIns="90000" tIns="46800" bIns="46800" anchor="ctr">
                      <a:noAutofit/>
                    </a:bodyPr>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ergi oranları aşağı çekildi.</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uafiyet ve istisnaların kapsamı daraltıldı,</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Kantinler</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 Kooperatifler gibi</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ergi güvenlik müesseseleri geliştirildi.</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 Kontrol edilen yabancı şirket, </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 Örtülü sermaye, </a:t>
                      </a:r>
                      <a:endParaRPr b="0" lang="en-US" sz="1900" spc="-1" strike="noStrike">
                        <a:solidFill>
                          <a:srgbClr val="000000"/>
                        </a:solidFill>
                        <a:latin typeface="Arial"/>
                      </a:endParaRPr>
                    </a:p>
                    <a:p>
                      <a:pPr marL="533520" indent="-533520">
                        <a:spcBef>
                          <a:spcPts val="476"/>
                        </a:spcBef>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 Transfer fiyatlandırması suretiyle örtülü kazanç dağıtımı, </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 Vergi cennetleriyle mücadele gibi</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CC3F56E5-286E-424C-BE88-C96B9CE9D5C8}"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755640" y="693720"/>
          <a:ext cx="7777080" cy="885960"/>
        </p:xfrm>
        <a:graphic>
          <a:graphicData uri="http://schemas.openxmlformats.org/drawingml/2006/table">
            <a:tbl>
              <a:tblPr/>
              <a:tblGrid>
                <a:gridCol w="7777080"/>
              </a:tblGrid>
              <a:tr h="885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9 – BAĞIŞ VE YARDIMLAR (1)</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KVK Mad:10)</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21" name=""/>
          <p:cNvGraphicFramePr/>
          <p:nvPr/>
        </p:nvGraphicFramePr>
        <p:xfrm>
          <a:off x="755640" y="1987560"/>
          <a:ext cx="7777080" cy="4148280"/>
        </p:xfrm>
        <a:graphic>
          <a:graphicData uri="http://schemas.openxmlformats.org/drawingml/2006/table">
            <a:tbl>
              <a:tblPr/>
              <a:tblGrid>
                <a:gridCol w="7777080"/>
              </a:tblGrid>
              <a:tr h="4170960">
                <a:tc>
                  <a:txBody>
                    <a:bodyPr lIns="360000" rIns="90000" tIns="46800" bIns="46800" anchor="ctr">
                      <a:noAutofit/>
                    </a:bodyPr>
                    <a:p>
                      <a:pPr marL="533520" indent="-533520">
                        <a:spcBef>
                          <a:spcPts val="476"/>
                        </a:spcBef>
                        <a:spcAft>
                          <a:spcPts val="349"/>
                        </a:spcAft>
                        <a:buClr>
                          <a:srgbClr val="e82c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amu kurum ve kuruluşlarına, vergi muafiyeti tanınan vakıflara, kamu yararına çalışan derneklere şartsız yapılan bağış ve yardımlar o yıla ilişkin kurum kazancının %5 ile sınırlı olmak üzere indirim yapılır.</a:t>
                      </a:r>
                      <a:endParaRPr b="0" lang="en-US" sz="1900" spc="-1" strike="noStrike">
                        <a:solidFill>
                          <a:srgbClr val="000000"/>
                        </a:solidFill>
                        <a:latin typeface="Arial"/>
                      </a:endParaRPr>
                    </a:p>
                    <a:p>
                      <a:pPr marL="533520" indent="-533520">
                        <a:spcBef>
                          <a:spcPts val="476"/>
                        </a:spcBef>
                        <a:spcAft>
                          <a:spcPts val="349"/>
                        </a:spcAft>
                        <a:buClr>
                          <a:srgbClr val="e82c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 indirim sınırının hesaplanmasında esas olunacak kurum kazancı; [(Ticari bilanço karı-(İştirak kazancı istisnası + geçmiş yıl zararları)] tutarıdır.</a:t>
                      </a:r>
                      <a:endParaRPr b="0" lang="en-US" sz="1900" spc="-1" strike="noStrike">
                        <a:solidFill>
                          <a:srgbClr val="000000"/>
                        </a:solidFill>
                        <a:latin typeface="Arial"/>
                      </a:endParaRPr>
                    </a:p>
                    <a:p>
                      <a:pPr marL="533520" indent="-533520">
                        <a:spcBef>
                          <a:spcPts val="476"/>
                        </a:spcBef>
                        <a:spcAft>
                          <a:spcPts val="349"/>
                        </a:spcAft>
                        <a:buClr>
                          <a:srgbClr val="e82c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ğitim ve sağlık tesislerine ilişkin olarak kamu kurum ve kuruluşlarına yapılan bağış ve yardımların tamamı indirim konusu yapılabilir</a:t>
                      </a:r>
                      <a:endParaRPr b="0" lang="en-US" sz="1900" spc="-1" strike="noStrike">
                        <a:solidFill>
                          <a:srgbClr val="000000"/>
                        </a:solidFill>
                        <a:latin typeface="Arial"/>
                      </a:endParaRPr>
                    </a:p>
                    <a:p>
                      <a:pPr marL="533520" indent="-533520">
                        <a:spcBef>
                          <a:spcPts val="476"/>
                        </a:spcBef>
                        <a:spcAft>
                          <a:spcPts val="349"/>
                        </a:spcAft>
                        <a:buClr>
                          <a:srgbClr val="e82c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lgili yıl kurum faaliyeti zararla sonuçlanmış ise bağış indirimi yapılamaz. İndirim konusu yapılamayan bağış tutarı sonraki yıllara devredilemez.</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9E304F74-A489-48F8-B85B-1825121169C2}"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755640" y="693720"/>
          <a:ext cx="7777080" cy="885960"/>
        </p:xfrm>
        <a:graphic>
          <a:graphicData uri="http://schemas.openxmlformats.org/drawingml/2006/table">
            <a:tbl>
              <a:tblPr/>
              <a:tblGrid>
                <a:gridCol w="7777080"/>
              </a:tblGrid>
              <a:tr h="885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9 – BAĞIŞ VE YARDIMLAR (2)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KVK Mad:10)</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23" name=""/>
          <p:cNvGraphicFramePr/>
          <p:nvPr/>
        </p:nvGraphicFramePr>
        <p:xfrm>
          <a:off x="755640" y="1987560"/>
          <a:ext cx="7777080" cy="3962520"/>
        </p:xfrm>
        <a:graphic>
          <a:graphicData uri="http://schemas.openxmlformats.org/drawingml/2006/table">
            <a:tbl>
              <a:tblPr/>
              <a:tblGrid>
                <a:gridCol w="7777080"/>
              </a:tblGrid>
              <a:tr h="3962520">
                <a:tc>
                  <a:txBody>
                    <a:bodyPr lIns="360000" rIns="90000" tIns="46800" bIns="46800" anchor="ctr">
                      <a:noAutofit/>
                    </a:bodyPr>
                    <a:p>
                      <a:pPr marL="533520" indent="-533520">
                        <a:spcBef>
                          <a:spcPts val="476"/>
                        </a:spcBef>
                        <a:spcAft>
                          <a:spcPts val="349"/>
                        </a:spcAft>
                        <a:buClr>
                          <a:srgbClr val="e82c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akdi bağışlar makbuzlar belgelendirilecektir. İşletmelerden aktif veya stoklara çekilen iktisadi kıymetin bağışlanması halinde mükellefin fatura düzenleyerek işletmeden çekiş yapması gerekir. Faturanın arka yüzüne bağış olarak gönderildiği belirtilerek bağış alan kamu kuruluşu yetkilisince imzalanması gerekir.</a:t>
                      </a:r>
                      <a:endParaRPr b="0" lang="en-US" sz="1900" spc="-1" strike="noStrike">
                        <a:solidFill>
                          <a:srgbClr val="000000"/>
                        </a:solidFill>
                        <a:latin typeface="Arial"/>
                      </a:endParaRPr>
                    </a:p>
                    <a:p>
                      <a:pPr marL="533520" indent="-533520">
                        <a:spcBef>
                          <a:spcPts val="476"/>
                        </a:spcBef>
                        <a:spcAft>
                          <a:spcPts val="349"/>
                        </a:spcAft>
                        <a:buClr>
                          <a:srgbClr val="e82c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yni yardımın dışardan satın alınarak bağışlanması halinde bağışı teslim alan kuruluş tarafından düzenlenecek makbuzda değer, cins, miktar belirtilmelidi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40DDB928-93EC-45E1-A794-7B5EAF61F7D3}"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611280" y="476280"/>
          <a:ext cx="7993080" cy="885960"/>
        </p:xfrm>
        <a:graphic>
          <a:graphicData uri="http://schemas.openxmlformats.org/drawingml/2006/table">
            <a:tbl>
              <a:tblPr/>
              <a:tblGrid>
                <a:gridCol w="7993080"/>
              </a:tblGrid>
              <a:tr h="885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20 - BANKALARIN AYIRDIKLARI GENEL KARŞILIKLAR GİDER KABUL EDİLMEMİŞTİR.</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25" name=""/>
          <p:cNvGraphicFramePr/>
          <p:nvPr/>
        </p:nvGraphicFramePr>
        <p:xfrm>
          <a:off x="611280" y="1557360"/>
          <a:ext cx="7993080" cy="4824360"/>
        </p:xfrm>
        <a:graphic>
          <a:graphicData uri="http://schemas.openxmlformats.org/drawingml/2006/table">
            <a:tbl>
              <a:tblPr/>
              <a:tblGrid>
                <a:gridCol w="7993080"/>
              </a:tblGrid>
              <a:tr h="4824360">
                <a:tc>
                  <a:txBody>
                    <a:bodyPr lIns="360000" rIns="90000" tIns="46800" bIns="46800" anchor="ctr">
                      <a:noAutofit/>
                    </a:bodyPr>
                    <a:p>
                      <a:pPr marL="533520" indent="-533520">
                        <a:spcBef>
                          <a:spcPts val="476"/>
                        </a:spcBef>
                        <a:spcAft>
                          <a:spcPts val="476"/>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ankalar Kanununa göre, bankaların ayırdıkları özel karşılıklar, safi kurum kazancının tespitinde daha önce olduğu gibi gider olarak indirilebilecektir.</a:t>
                      </a:r>
                      <a:endParaRPr b="0" lang="en-US" sz="1900" spc="-1" strike="noStrike">
                        <a:solidFill>
                          <a:srgbClr val="000000"/>
                        </a:solidFill>
                        <a:latin typeface="Arial"/>
                      </a:endParaRPr>
                    </a:p>
                    <a:p>
                      <a:pPr marL="533520" indent="-533520">
                        <a:spcBef>
                          <a:spcPts val="476"/>
                        </a:spcBef>
                        <a:spcAft>
                          <a:spcPts val="476"/>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ankalar Kanununa göre ayrılan genel karşılıkların ise gider olarak indirilemeyeceği maddede açıkça belirtildi. (Madde 11/ç)</a:t>
                      </a:r>
                      <a:endParaRPr b="0" lang="en-US" sz="1900" spc="-1" strike="noStrike">
                        <a:solidFill>
                          <a:srgbClr val="000000"/>
                        </a:solidFill>
                        <a:latin typeface="Arial"/>
                      </a:endParaRPr>
                    </a:p>
                    <a:p>
                      <a:pPr marL="533520" indent="-533520">
                        <a:spcBef>
                          <a:spcPts val="476"/>
                        </a:spcBef>
                        <a:spcAft>
                          <a:spcPts val="476"/>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ar mükellef kurumların ana merkez veya Türkiye dışındaki şubelerinin genel yönetim giderlerine katılmak üzere ayrılan paylar aşağıdaki şartlarla gider yazılabilecek</a:t>
                      </a:r>
                      <a:endParaRPr b="0" lang="en-US" sz="1900" spc="-1" strike="noStrike">
                        <a:solidFill>
                          <a:srgbClr val="000000"/>
                        </a:solidFill>
                        <a:latin typeface="Arial"/>
                      </a:endParaRPr>
                    </a:p>
                    <a:p>
                      <a:pPr marL="533520" indent="-533520">
                        <a:spcBef>
                          <a:spcPts val="476"/>
                        </a:spcBef>
                        <a:spcAft>
                          <a:spcPts val="476"/>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Genel yönetim giderinin, Türkiye’deki kurum </a:t>
                      </a:r>
                      <a:r>
                        <a:rPr b="1" lang="en-US" sz="1900" spc="-1" strike="noStrike">
                          <a:solidFill>
                            <a:srgbClr val="000000"/>
                          </a:solidFill>
                          <a:latin typeface="Arial"/>
                        </a:rPr>
                        <a:t>	</a:t>
                      </a:r>
                      <a:r>
                        <a:rPr b="1" lang="en-US" sz="1900" spc="-1" strike="noStrike">
                          <a:solidFill>
                            <a:srgbClr val="000000"/>
                          </a:solidFill>
                          <a:latin typeface="Arial"/>
                        </a:rPr>
                        <a:t>kazancının elde edilmesi ve idamesi ile ilgili olmalıdır.</a:t>
                      </a:r>
                      <a:endParaRPr b="0" lang="en-US" sz="1900" spc="-1" strike="noStrike">
                        <a:solidFill>
                          <a:srgbClr val="000000"/>
                        </a:solidFill>
                        <a:latin typeface="Arial"/>
                      </a:endParaRPr>
                    </a:p>
                    <a:p>
                      <a:pPr marL="533520" indent="-533520">
                        <a:spcBef>
                          <a:spcPts val="476"/>
                        </a:spcBef>
                        <a:spcAft>
                          <a:spcPts val="476"/>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Ayrılan payları emsallerine uygunluk ilkesine göre </a:t>
                      </a:r>
                      <a:r>
                        <a:rPr b="1" lang="en-US" sz="1900" spc="-1" strike="noStrike">
                          <a:solidFill>
                            <a:srgbClr val="000000"/>
                          </a:solidFill>
                          <a:latin typeface="Arial"/>
                        </a:rPr>
                        <a:t>	</a:t>
                      </a:r>
                      <a:r>
                        <a:rPr b="1" lang="en-US" sz="1900" spc="-1" strike="noStrike">
                          <a:solidFill>
                            <a:srgbClr val="000000"/>
                          </a:solidFill>
                          <a:latin typeface="Arial"/>
                        </a:rPr>
                        <a:t>belirlenen dağıtım anahtarına göre ayrılmalıdı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A203CE48-8292-498E-8DB5-CFCD22A19C2E}"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 VERGİ GÜVENLİK MÜESSESELERİ</a:t>
            </a:r>
            <a:endParaRPr b="0" lang="en-US" sz="2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24"/>
              </a:spcBef>
              <a:spcAft>
                <a:spcPts val="388"/>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Örtülü sermaye,</a:t>
            </a:r>
            <a:endParaRPr b="0" lang="en-US" sz="2100" spc="-1" strike="noStrike">
              <a:solidFill>
                <a:srgbClr val="000000"/>
              </a:solidFill>
              <a:latin typeface="Arial"/>
            </a:endParaRPr>
          </a:p>
          <a:p>
            <a:pPr marL="343080" indent="-343080">
              <a:spcBef>
                <a:spcPts val="524"/>
              </a:spcBef>
              <a:spcAft>
                <a:spcPts val="388"/>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ransfer fiyatlandırması suretiyle örtülü kazanç dağıtımı,</a:t>
            </a:r>
            <a:endParaRPr b="0" lang="en-US" sz="2100" spc="-1" strike="noStrike">
              <a:solidFill>
                <a:srgbClr val="000000"/>
              </a:solidFill>
              <a:latin typeface="Arial"/>
            </a:endParaRPr>
          </a:p>
          <a:p>
            <a:pPr marL="343080" indent="-343080">
              <a:spcBef>
                <a:spcPts val="524"/>
              </a:spcBef>
              <a:spcAft>
                <a:spcPts val="388"/>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Kontrol edilen yabancı şirket,</a:t>
            </a:r>
            <a:endParaRPr b="0" lang="en-US" sz="2100" spc="-1" strike="noStrike">
              <a:solidFill>
                <a:srgbClr val="000000"/>
              </a:solidFill>
              <a:latin typeface="Arial"/>
            </a:endParaRPr>
          </a:p>
          <a:p>
            <a:pPr marL="343080" indent="-343080">
              <a:spcBef>
                <a:spcPts val="524"/>
              </a:spcBef>
              <a:spcAft>
                <a:spcPts val="388"/>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Zararlı vergi rekabetine stopaj uygulaması.</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E5399A7C-3EDD-4BCA-9846-E5FDF0EB0EB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Condensed"/>
              </a:rPr>
              <a:t>22 - ÖRTÜLÜ SERMAYE (1)</a:t>
            </a:r>
            <a:br>
              <a:rPr sz="2400"/>
            </a:br>
            <a:endParaRPr b="0" lang="en-US" sz="2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24"/>
              </a:spcBef>
              <a:spcAft>
                <a:spcPts val="388"/>
              </a:spcAft>
              <a:buClr>
                <a:srgbClr val="e82c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55 ülkenin mevzuatı taranarak, belirsizlikler içeren örtülü sermaye kavramı objektif kriterlere bağlanmıştır.</a:t>
            </a:r>
            <a:endParaRPr b="0" lang="en-US" sz="2100" spc="-1" strike="noStrike">
              <a:solidFill>
                <a:srgbClr val="000000"/>
              </a:solidFill>
              <a:latin typeface="Arial"/>
            </a:endParaRPr>
          </a:p>
          <a:p>
            <a:pPr marL="343080" indent="-343080">
              <a:spcBef>
                <a:spcPts val="524"/>
              </a:spcBef>
              <a:spcAft>
                <a:spcPts val="388"/>
              </a:spcAft>
              <a:buClr>
                <a:srgbClr val="e82c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evcut düzenlemede açık olmayan ve uygulamada ihtilaflara yol açan konularda </a:t>
            </a:r>
            <a:r>
              <a:rPr b="1" lang="en-US" sz="2100" spc="-1" strike="noStrike">
                <a:solidFill>
                  <a:srgbClr val="e82c00"/>
                </a:solidFill>
                <a:latin typeface="Arial"/>
              </a:rPr>
              <a:t>somut belirlemeler</a:t>
            </a:r>
            <a:r>
              <a:rPr b="1" lang="en-US" sz="2100" spc="-1" strike="noStrike">
                <a:solidFill>
                  <a:srgbClr val="000000"/>
                </a:solidFill>
                <a:latin typeface="Arial"/>
              </a:rPr>
              <a:t> yapılmaktadır. (ilişkili kişi, borç/öz sermaye oranı gibi)</a:t>
            </a:r>
            <a:endParaRPr b="0" lang="en-US" sz="2100" spc="-1" strike="noStrike">
              <a:solidFill>
                <a:srgbClr val="000000"/>
              </a:solidFill>
              <a:latin typeface="Arial"/>
            </a:endParaRPr>
          </a:p>
          <a:p>
            <a:pPr marL="343080" indent="-343080">
              <a:spcBef>
                <a:spcPts val="524"/>
              </a:spcBef>
              <a:spcAft>
                <a:spcPts val="388"/>
              </a:spcAft>
              <a:buClr>
                <a:srgbClr val="e82c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Örtülü sermaye </a:t>
            </a:r>
            <a:r>
              <a:rPr b="1" lang="en-US" sz="2100" spc="-1" strike="noStrike">
                <a:solidFill>
                  <a:srgbClr val="e82c00"/>
                </a:solidFill>
                <a:latin typeface="Arial"/>
              </a:rPr>
              <a:t>kapsamına girmeyen borçlar</a:t>
            </a:r>
            <a:r>
              <a:rPr b="1" lang="en-US" sz="2100" spc="-1" strike="noStrike">
                <a:solidFill>
                  <a:srgbClr val="000000"/>
                </a:solidFill>
                <a:latin typeface="Arial"/>
              </a:rPr>
              <a:t> açıkça belirlenmektedir.</a:t>
            </a:r>
            <a:endParaRPr b="0" lang="en-US" sz="2100" spc="-1" strike="noStrike">
              <a:solidFill>
                <a:srgbClr val="000000"/>
              </a:solidFill>
              <a:latin typeface="Arial"/>
            </a:endParaRPr>
          </a:p>
          <a:p>
            <a:pPr marL="343080" indent="-343080">
              <a:spcBef>
                <a:spcPts val="524"/>
              </a:spcBef>
              <a:spcAft>
                <a:spcPts val="388"/>
              </a:spcAft>
              <a:buClr>
                <a:srgbClr val="e82c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Örtülü sermaye üzerinden hesaplanan ve ödenen </a:t>
            </a:r>
            <a:r>
              <a:rPr b="1" lang="en-US" sz="2100" spc="-1" strike="noStrike">
                <a:solidFill>
                  <a:srgbClr val="e82c00"/>
                </a:solidFill>
                <a:latin typeface="Arial"/>
              </a:rPr>
              <a:t>kur farkları</a:t>
            </a:r>
            <a:r>
              <a:rPr b="1" lang="en-US" sz="2100" spc="-1" strike="noStrike">
                <a:solidFill>
                  <a:srgbClr val="000000"/>
                </a:solidFill>
                <a:latin typeface="Arial"/>
              </a:rPr>
              <a:t> hariç </a:t>
            </a:r>
            <a:r>
              <a:rPr b="1" lang="en-US" sz="2100" spc="-1" strike="noStrike">
                <a:solidFill>
                  <a:srgbClr val="e82c00"/>
                </a:solidFill>
                <a:latin typeface="Arial"/>
              </a:rPr>
              <a:t>faiz, </a:t>
            </a:r>
            <a:r>
              <a:rPr b="1" lang="en-US" sz="2100" spc="-1" strike="noStrike">
                <a:solidFill>
                  <a:srgbClr val="000000"/>
                </a:solidFill>
                <a:latin typeface="Arial"/>
              </a:rPr>
              <a:t>hesap döneminin son günü itibarıyla </a:t>
            </a:r>
            <a:r>
              <a:rPr b="1" lang="en-US" sz="2100" spc="-1" strike="noStrike">
                <a:solidFill>
                  <a:srgbClr val="e82c00"/>
                </a:solidFill>
                <a:latin typeface="Arial"/>
              </a:rPr>
              <a:t>dağıtılmış kâr payı </a:t>
            </a:r>
            <a:r>
              <a:rPr b="1" lang="en-US" sz="2100" spc="-1" strike="noStrike">
                <a:solidFill>
                  <a:srgbClr val="000000"/>
                </a:solidFill>
                <a:latin typeface="Arial"/>
              </a:rPr>
              <a:t>ya da</a:t>
            </a:r>
            <a:r>
              <a:rPr b="1" lang="en-US" sz="2100" spc="-1" strike="noStrike">
                <a:solidFill>
                  <a:srgbClr val="e82c00"/>
                </a:solidFill>
                <a:latin typeface="Arial"/>
              </a:rPr>
              <a:t> ana merkeze aktarılan tutar </a:t>
            </a:r>
            <a:r>
              <a:rPr b="1" lang="en-US" sz="2100" spc="-1" strike="noStrike">
                <a:solidFill>
                  <a:srgbClr val="000000"/>
                </a:solidFill>
                <a:latin typeface="Arial"/>
              </a:rPr>
              <a:t>sayılmaktadır.</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CA3E8CA9-C566-4856-8EE5-68022FE3A58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611280" y="476280"/>
          <a:ext cx="7993080" cy="863640"/>
        </p:xfrm>
        <a:graphic>
          <a:graphicData uri="http://schemas.openxmlformats.org/drawingml/2006/table">
            <a:tbl>
              <a:tblPr/>
              <a:tblGrid>
                <a:gridCol w="7993080"/>
              </a:tblGrid>
              <a:tr h="86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3 - ÖRTÜLÜ SERMAYE TANIMI (2)</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31" name=""/>
          <p:cNvGraphicFramePr/>
          <p:nvPr/>
        </p:nvGraphicFramePr>
        <p:xfrm>
          <a:off x="611280" y="1557360"/>
          <a:ext cx="7993080" cy="4824360"/>
        </p:xfrm>
        <a:graphic>
          <a:graphicData uri="http://schemas.openxmlformats.org/drawingml/2006/table">
            <a:tbl>
              <a:tblPr/>
              <a:tblGrid>
                <a:gridCol w="7993080"/>
              </a:tblGrid>
              <a:tr h="4824360">
                <a:tc>
                  <a:txBody>
                    <a:bodyPr lIns="360000" rIns="90000" tIns="46800" bIns="46800" anchor="ctr">
                      <a:noAutofit/>
                    </a:bodyPr>
                    <a:p>
                      <a:pPr>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r>
                        <a:rPr b="1" lang="en-US" sz="1900" spc="-1" strike="noStrike" u="sng">
                          <a:solidFill>
                            <a:srgbClr val="000000"/>
                          </a:solidFill>
                          <a:uFillTx/>
                          <a:latin typeface="Arial"/>
                        </a:rPr>
                        <a:t>Tanım</a:t>
                      </a:r>
                      <a:r>
                        <a:rPr b="1" lang="en-US" sz="1900" spc="-1" strike="noStrike">
                          <a:solidFill>
                            <a:srgbClr val="000000"/>
                          </a:solidFill>
                          <a:latin typeface="Arial"/>
                        </a:rPr>
                        <a:t>:</a:t>
                      </a:r>
                      <a:endParaRPr b="0" lang="en-US" sz="1900" spc="-1" strike="noStrike">
                        <a:solidFill>
                          <a:srgbClr val="000000"/>
                        </a:solidFill>
                        <a:latin typeface="Arial"/>
                      </a:endParaRPr>
                    </a:p>
                    <a:p>
                      <a:pPr algn="just">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urumların Ortaklarından veya ortaklarla ilişkili olan kişilerden doğrudan veya dolaylı olarak temin ederek kullandıkları borçların hesap dönemi içinde herhangi bir tarihte öz sermayenin üç katını aşan kısmı örtülü sermayedir.</a:t>
                      </a:r>
                      <a:endParaRPr b="0" lang="en-US" sz="1900" spc="-1" strike="noStrike">
                        <a:solidFill>
                          <a:srgbClr val="000000"/>
                        </a:solidFill>
                        <a:latin typeface="Arial"/>
                      </a:endParaRPr>
                    </a:p>
                    <a:p>
                      <a:pPr algn="just">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r>
                        <a:rPr b="1" lang="en-US" sz="1900" spc="-1" strike="noStrike" u="sng">
                          <a:solidFill>
                            <a:srgbClr val="000000"/>
                          </a:solidFill>
                          <a:uFillTx/>
                          <a:latin typeface="Arial"/>
                        </a:rPr>
                        <a:t>İlişkili Kişiler</a:t>
                      </a:r>
                      <a:r>
                        <a:rPr b="1" lang="en-US" sz="1900" spc="-1" strike="noStrike">
                          <a:solidFill>
                            <a:srgbClr val="000000"/>
                          </a:solidFill>
                          <a:latin typeface="Arial"/>
                        </a:rPr>
                        <a:t>:</a:t>
                      </a:r>
                      <a:endParaRPr b="0" lang="en-US" sz="1900" spc="-1" strike="noStrike">
                        <a:solidFill>
                          <a:srgbClr val="000000"/>
                        </a:solidFill>
                        <a:latin typeface="Arial"/>
                      </a:endParaRPr>
                    </a:p>
                    <a:p>
                      <a:pPr algn="just">
                        <a:spcBef>
                          <a:spcPts val="476"/>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rtağın doğrudan veya dolaylı olarak en az % 10 oranında ortağı olduğu veya en az bu oranda oy veya kar payı hakkına sahip olduğu bir kurum,</a:t>
                      </a:r>
                      <a:endParaRPr b="0" lang="en-US" sz="1900" spc="-1" strike="noStrike">
                        <a:solidFill>
                          <a:srgbClr val="000000"/>
                        </a:solidFill>
                        <a:latin typeface="Arial"/>
                      </a:endParaRPr>
                    </a:p>
                    <a:p>
                      <a:pPr algn="just">
                        <a:spcBef>
                          <a:spcPts val="476"/>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oğrudan veya dolaylı olarak ortağın veya ortakla ilişkili bu kurumun sermayesinin, oy veya kar payı hakkına sahip hisselerinin  en az % 10’unu elinde bulunduran bir gerçek kişi veya kurum, </a:t>
                      </a:r>
                      <a:endParaRPr b="0" lang="en-US" sz="1900" spc="-1" strike="noStrike">
                        <a:solidFill>
                          <a:srgbClr val="000000"/>
                        </a:solidFill>
                        <a:latin typeface="Arial"/>
                      </a:endParaRPr>
                    </a:p>
                    <a:p>
                      <a:pPr algn="just">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rtaklarla ilişkili kişi sayılmaktadı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F158D98B-5A9D-4D75-8E3F-F00D6CFE0A48}" type="slidenum">
              <a:t>45</a:t>
            </a:fld>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059280" y="476280"/>
            <a:ext cx="2808000" cy="187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TAK KURU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3" name=""/>
          <p:cNvSpPr/>
          <p:nvPr/>
        </p:nvSpPr>
        <p:spPr>
          <a:xfrm>
            <a:off x="7164360" y="1197000"/>
            <a:ext cx="158436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KURUMU</a:t>
            </a:r>
            <a:endParaRPr b="0" lang="en-US" sz="1800" spc="-1" strike="noStrike">
              <a:solidFill>
                <a:srgbClr val="000000"/>
              </a:solidFill>
              <a:latin typeface="Arial"/>
            </a:endParaRPr>
          </a:p>
        </p:txBody>
      </p:sp>
      <p:sp>
        <p:nvSpPr>
          <p:cNvPr id="134" name=""/>
          <p:cNvSpPr/>
          <p:nvPr/>
        </p:nvSpPr>
        <p:spPr>
          <a:xfrm>
            <a:off x="3276720" y="3500280"/>
            <a:ext cx="2447640" cy="144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Ç KULLAN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RU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539640" y="3500280"/>
            <a:ext cx="158436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KURUMU</a:t>
            </a:r>
            <a:endParaRPr b="0" lang="en-US" sz="1800" spc="-1" strike="noStrike">
              <a:solidFill>
                <a:srgbClr val="000000"/>
              </a:solidFill>
              <a:latin typeface="Arial"/>
            </a:endParaRPr>
          </a:p>
        </p:txBody>
      </p:sp>
      <p:sp>
        <p:nvSpPr>
          <p:cNvPr id="136" name=""/>
          <p:cNvSpPr/>
          <p:nvPr/>
        </p:nvSpPr>
        <p:spPr>
          <a:xfrm>
            <a:off x="539640" y="1197000"/>
            <a:ext cx="158436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KURUMU</a:t>
            </a:r>
            <a:endParaRPr b="0" lang="en-US" sz="1800" spc="-1" strike="noStrike">
              <a:solidFill>
                <a:srgbClr val="000000"/>
              </a:solidFill>
              <a:latin typeface="Arial"/>
            </a:endParaRPr>
          </a:p>
        </p:txBody>
      </p:sp>
      <p:sp>
        <p:nvSpPr>
          <p:cNvPr id="137" name=""/>
          <p:cNvSpPr/>
          <p:nvPr/>
        </p:nvSpPr>
        <p:spPr>
          <a:xfrm>
            <a:off x="4356000" y="234936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67280" y="162864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116000" y="213372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2124000" y="2420640"/>
            <a:ext cx="863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995080" y="114444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0</a:t>
            </a:r>
            <a:endParaRPr b="0" lang="en-US" sz="1800" spc="-1" strike="noStrike">
              <a:solidFill>
                <a:srgbClr val="000000"/>
              </a:solidFill>
              <a:latin typeface="Arial"/>
            </a:endParaRPr>
          </a:p>
        </p:txBody>
      </p:sp>
      <p:sp>
        <p:nvSpPr>
          <p:cNvPr id="142" name=""/>
          <p:cNvSpPr/>
          <p:nvPr/>
        </p:nvSpPr>
        <p:spPr>
          <a:xfrm>
            <a:off x="449640" y="24400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95</a:t>
            </a:r>
            <a:endParaRPr b="0" lang="en-US" sz="1800" spc="-1" strike="noStrike">
              <a:solidFill>
                <a:srgbClr val="000000"/>
              </a:solidFill>
              <a:latin typeface="Arial"/>
            </a:endParaRPr>
          </a:p>
        </p:txBody>
      </p:sp>
      <p:sp>
        <p:nvSpPr>
          <p:cNvPr id="143" name=""/>
          <p:cNvSpPr/>
          <p:nvPr/>
        </p:nvSpPr>
        <p:spPr>
          <a:xfrm>
            <a:off x="2537280" y="294480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1</a:t>
            </a:r>
            <a:endParaRPr b="0" lang="en-US" sz="1800" spc="-1" strike="noStrike">
              <a:solidFill>
                <a:srgbClr val="000000"/>
              </a:solidFill>
              <a:latin typeface="Arial"/>
            </a:endParaRPr>
          </a:p>
        </p:txBody>
      </p:sp>
      <p:sp>
        <p:nvSpPr>
          <p:cNvPr id="144" name=""/>
          <p:cNvSpPr/>
          <p:nvPr/>
        </p:nvSpPr>
        <p:spPr>
          <a:xfrm>
            <a:off x="468360" y="5229360"/>
            <a:ext cx="842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546120" y="5373720"/>
            <a:ext cx="784188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rumunun, ortağı (B) den ve ilişkili Kurum olan (C) ve (E) Kurumunda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ptığı borçlanma örtülü sermaye kapsamındadır.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EBB49DA-E961-4640-AA38-A68F10582CD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611280" y="476280"/>
          <a:ext cx="7993080" cy="885960"/>
        </p:xfrm>
        <a:graphic>
          <a:graphicData uri="http://schemas.openxmlformats.org/drawingml/2006/table">
            <a:tbl>
              <a:tblPr/>
              <a:tblGrid>
                <a:gridCol w="7993080"/>
              </a:tblGrid>
              <a:tr h="885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5 - ÖRTÜLÜ SERMAYE UYGULAMASINDA KRİTERLER (3)</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47" name=""/>
          <p:cNvGraphicFramePr/>
          <p:nvPr/>
        </p:nvGraphicFramePr>
        <p:xfrm>
          <a:off x="611280" y="1557360"/>
          <a:ext cx="7993080" cy="4824360"/>
        </p:xfrm>
        <a:graphic>
          <a:graphicData uri="http://schemas.openxmlformats.org/drawingml/2006/table">
            <a:tbl>
              <a:tblPr/>
              <a:tblGrid>
                <a:gridCol w="7993080"/>
              </a:tblGrid>
              <a:tr h="4824360">
                <a:tc>
                  <a:txBody>
                    <a:bodyPr lIns="360000" rIns="90000" tIns="46800" bIns="46800" anchor="ctr">
                      <a:noAutofit/>
                    </a:bodyPr>
                    <a:p>
                      <a:pPr marL="262080" indent="-262080">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r>
                        <a:rPr b="1" lang="tr-TR" sz="1900" spc="-1" strike="noStrike">
                          <a:solidFill>
                            <a:srgbClr val="000000"/>
                          </a:solidFill>
                          <a:latin typeface="Arial"/>
                        </a:rPr>
                        <a:t>Borç/Özsermaye Oranı</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Hesap Dönemi içinde herhangi bir tarihte kurumun öz sermayesinin 3 katını </a:t>
                      </a:r>
                      <a:r>
                        <a:rPr b="1" lang="tr-TR" sz="1900" spc="-1" strike="noStrike">
                          <a:solidFill>
                            <a:srgbClr val="f82f00"/>
                          </a:solidFill>
                          <a:latin typeface="Arial"/>
                        </a:rPr>
                        <a:t>aşan borçlanmaların üç katını aşan kısmı </a:t>
                      </a:r>
                      <a:r>
                        <a:rPr b="1" lang="tr-TR" sz="1900" spc="-1" strike="noStrike">
                          <a:solidFill>
                            <a:srgbClr val="000000"/>
                          </a:solidFill>
                          <a:latin typeface="Arial"/>
                        </a:rPr>
                        <a:t>örtülü sermaye sayılacak. </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Kurumun dönembaşı özsermayesinin sıfır veya negatif olması durumunda ortak ve ilişkili kişilerden yapılan borçlanmaların tamamı örtülü sermaye sayılacak.</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Ortak veya ortakla ilişkili kişi, banka veya benzeri kredi kuruluşu ise borç/öz sermaye oranı hesaplamasında bu kurumlardan alınan borçlar % 50 oranında dikkate alınacak. </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Ticari teamüllere göre yapılan vadeli mal ve hizmet alımları ile ilgili borçlanmaların vade farkı tutarı ayrıca hesaplanmış olsa dahi borçlar örtülü sermaye sayılmayacak.</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372DBD76-5E55-456F-97FF-FD7C03739695}" type="slidenum">
              <a:t>47</a:t>
            </a:fld>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611280" y="476280"/>
          <a:ext cx="7993080" cy="885960"/>
        </p:xfrm>
        <a:graphic>
          <a:graphicData uri="http://schemas.openxmlformats.org/drawingml/2006/table">
            <a:tbl>
              <a:tblPr/>
              <a:tblGrid>
                <a:gridCol w="7993080"/>
              </a:tblGrid>
              <a:tr h="885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5 - ÖRTÜLÜ SERMAYE UYGULAMASINDA KRİTERLER (4)</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49" name=""/>
          <p:cNvGraphicFramePr/>
          <p:nvPr/>
        </p:nvGraphicFramePr>
        <p:xfrm>
          <a:off x="611280" y="1557360"/>
          <a:ext cx="7993080" cy="4824360"/>
        </p:xfrm>
        <a:graphic>
          <a:graphicData uri="http://schemas.openxmlformats.org/drawingml/2006/table">
            <a:tbl>
              <a:tblPr/>
              <a:tblGrid>
                <a:gridCol w="7993080"/>
              </a:tblGrid>
              <a:tr h="4824360">
                <a:tc>
                  <a:txBody>
                    <a:bodyPr lIns="360000" rIns="90000" tIns="46800" bIns="46800" anchor="ctr">
                      <a:noAutofit/>
                    </a:bodyPr>
                    <a:p>
                      <a:pPr marL="262080" indent="-262080">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r>
                        <a:rPr b="1" lang="tr-TR" sz="1900" spc="-1" strike="noStrike">
                          <a:solidFill>
                            <a:srgbClr val="000000"/>
                          </a:solidFill>
                          <a:latin typeface="Arial"/>
                        </a:rPr>
                        <a:t>Örtülü Sermaye hesabında bu oranlar ortaklar ve ilişkili kişiler için topluca dikkate alınacaktır.</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Hesaplamada kurumun VUK uyarınca tespit edilen hesap dönemi başındaki öz sermayesi kullanılacak.</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Yabancı para ile olan borçlarda borç/özsermaye oranının belirlenmesinde borcun alındığı tarihteki döviz kuru dikkate alınacak.</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Avanslar, örtülü sermaye uygulamasında borç olarak değerlendirilecek. Ancak inşaat işlerinde alınan istihkak bedelleri örtülü sermaye hesaplanmasında dikkate alınmayacak.</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6ED517F6-0811-413A-B42A-FB39C3BB0C9A}" type="slidenum">
              <a:t>48</a:t>
            </a:fld>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611280" y="476280"/>
          <a:ext cx="7993080" cy="885960"/>
        </p:xfrm>
        <a:graphic>
          <a:graphicData uri="http://schemas.openxmlformats.org/drawingml/2006/table">
            <a:tbl>
              <a:tblPr/>
              <a:tblGrid>
                <a:gridCol w="7993080"/>
              </a:tblGrid>
              <a:tr h="885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6 - ÖRTÜLÜ SERMAYE UYGULAMASI KAPSAMINDA OLMAYAN BORÇLAR</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51" name=""/>
          <p:cNvGraphicFramePr/>
          <p:nvPr/>
        </p:nvGraphicFramePr>
        <p:xfrm>
          <a:off x="611280" y="1557360"/>
          <a:ext cx="7993080" cy="5114880"/>
        </p:xfrm>
        <a:graphic>
          <a:graphicData uri="http://schemas.openxmlformats.org/drawingml/2006/table">
            <a:tbl>
              <a:tblPr/>
              <a:tblGrid>
                <a:gridCol w="7993080"/>
              </a:tblGrid>
              <a:tr h="5144040">
                <a:tc>
                  <a:txBody>
                    <a:bodyPr lIns="360000" rIns="90000" tIns="46800" bIns="46800" anchor="ctr">
                      <a:noAutofit/>
                    </a:bodyPr>
                    <a:p>
                      <a:pPr marL="262080" indent="-262080">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r>
                        <a:rPr b="1" lang="tr-TR" sz="1900" spc="-1" strike="noStrike">
                          <a:solidFill>
                            <a:srgbClr val="000000"/>
                          </a:solidFill>
                          <a:latin typeface="Arial"/>
                        </a:rPr>
                        <a:t>Ortakların veya ortaklarla ilişkili kişilerin gayri nakdi teminatıyla üçüncü kişilerden sağlanan borçlar. (Kasada veya bankada bulunan yerli ve yabancı para, Devlet tahvil ve Hazine bonosu, çek, altın İMKB’de işlem gören hisse senedi ve tahvil dışındaki her türlü teminat gayrinakdi teminattır.)</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Kurumların iştiraklerinin, ortaklar veya ortaklarla ilişkili kişilerin, banka veya finans kurumları ya da sermaye piyasasından temin ederek aynı şartlarla kullandırdıkları krediler.</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Bankalar tarafından yapılan borçlanmalar,</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Finansal kiralama şirketleri,</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90 Sayılı Ödünç Para Verme İşleri Hakkında Kanun Hükmünde Kararname kapsamında faaliyet gösteren finansman ve factoring şirketleri ile ipotek finansman kuruluşlarının bu faaliyetleri ile ilgili olarak ortak veya ortaklarla ilişkili kişi sayılan bankalardan yaptıkları borçlanmala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FF512A66-2B90-4C1E-8D0B-3B3ADF05A372}" type="slidenum">
              <a:t>49</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611280" y="333360"/>
          <a:ext cx="7993080" cy="936720"/>
        </p:xfrm>
        <a:graphic>
          <a:graphicData uri="http://schemas.openxmlformats.org/drawingml/2006/table">
            <a:tbl>
              <a:tblPr/>
              <a:tblGrid>
                <a:gridCol w="7993080"/>
              </a:tblGrid>
              <a:tr h="93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 - KURUMLAR VERGİSİ  ORANI</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49" name=""/>
          <p:cNvGraphicFramePr/>
          <p:nvPr/>
        </p:nvGraphicFramePr>
        <p:xfrm>
          <a:off x="611280" y="1484280"/>
          <a:ext cx="7993080" cy="4960800"/>
        </p:xfrm>
        <a:graphic>
          <a:graphicData uri="http://schemas.openxmlformats.org/drawingml/2006/table">
            <a:tbl>
              <a:tblPr/>
              <a:tblGrid>
                <a:gridCol w="7993080"/>
              </a:tblGrid>
              <a:tr h="4960800">
                <a:tc>
                  <a:txBody>
                    <a:bodyPr lIns="360000" rIns="90000" tIns="46800" bIns="46800" anchor="ctr">
                      <a:noAutofit/>
                    </a:bodyPr>
                    <a:p>
                      <a:pPr marL="457200" indent="-4572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Kurumlar vergisi oranı %30’dan %20’ye indi</a:t>
                      </a:r>
                      <a:endParaRPr b="0" lang="en-US" sz="1900" spc="-1" strike="noStrike">
                        <a:solidFill>
                          <a:srgbClr val="000000"/>
                        </a:solidFill>
                        <a:latin typeface="Arial"/>
                      </a:endParaRPr>
                    </a:p>
                    <a:p>
                      <a:pPr marL="457200" indent="-4572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Özel hesap dönemi 2006 yılı içinde biten kurumlar 2005 yılındaki aylar için %30 2006 yılındaki aylar için %20 uygulayacak, toplam tutarı 12’ye bölerek uygulanacak kurumlar vergisi bulunacaktır. (Geçici madde 1/6)</a:t>
                      </a:r>
                      <a:endParaRPr b="0" lang="en-US" sz="1900" spc="-1" strike="noStrike">
                        <a:solidFill>
                          <a:srgbClr val="000000"/>
                        </a:solidFill>
                        <a:latin typeface="Arial"/>
                      </a:endParaRPr>
                    </a:p>
                    <a:p>
                      <a:pPr marL="457200" indent="-4572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Kurumlar vergisi oranında yapılan indirim sonucu kurumlardan kar payı elde eden ortakların nihai vergi yükü aşağıya çekildi.</a:t>
                      </a:r>
                      <a:endParaRPr b="0" lang="en-US" sz="1900" spc="-1" strike="noStrike">
                        <a:solidFill>
                          <a:srgbClr val="000000"/>
                        </a:solidFill>
                        <a:latin typeface="Arial"/>
                      </a:endParaRPr>
                    </a:p>
                    <a:p>
                      <a:pPr marL="457200" indent="-4572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Kurumlardan elde edilen kar paylarında vergi yükü ortağın niteliğine bakılmaksızın % 32 olmaktadır. Dağıtılmayan kazançlarda bu vergi %20’de kalmaktadır.</a:t>
                      </a:r>
                      <a:endParaRPr b="0" lang="en-US" sz="1900" spc="-1" strike="noStrike">
                        <a:solidFill>
                          <a:srgbClr val="000000"/>
                        </a:solidFill>
                        <a:latin typeface="Arial"/>
                      </a:endParaRPr>
                    </a:p>
                    <a:p>
                      <a:pPr marL="457200" indent="-45720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r>
                        <a:rPr b="1" lang="tr-TR" sz="1900" spc="-1" strike="noStrike">
                          <a:solidFill>
                            <a:srgbClr val="000000"/>
                          </a:solidFill>
                          <a:latin typeface="Arial"/>
                        </a:rPr>
                        <a:t>Dağıtılan kar paylarından % 15 oranında tevkifat yapılmaktadır. (22.07.2006 tarih ve 2006/10731 sayılı Bakanlar Kurulu Kararı)</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31F315E8-F02F-4B0A-AD9D-2A52D54514A7}" type="slidenum">
              <a:t>5</a:t>
            </a:fld>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611280" y="189000"/>
          <a:ext cx="7993080" cy="885600"/>
        </p:xfrm>
        <a:graphic>
          <a:graphicData uri="http://schemas.openxmlformats.org/drawingml/2006/table">
            <a:tbl>
              <a:tblPr/>
              <a:tblGrid>
                <a:gridCol w="7993080"/>
              </a:tblGrid>
              <a:tr h="885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7 -ÖRTÜLÜ SERMAYE UYGULAMASI (1) SONUÇLARI     (Madde: 13/7)</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53" name=""/>
          <p:cNvGraphicFramePr/>
          <p:nvPr/>
        </p:nvGraphicFramePr>
        <p:xfrm>
          <a:off x="611280" y="1268280"/>
          <a:ext cx="7993080" cy="5415120"/>
        </p:xfrm>
        <a:graphic>
          <a:graphicData uri="http://schemas.openxmlformats.org/drawingml/2006/table">
            <a:tbl>
              <a:tblPr/>
              <a:tblGrid>
                <a:gridCol w="7993080"/>
              </a:tblGrid>
              <a:tr h="5458320">
                <a:tc>
                  <a:txBody>
                    <a:bodyPr lIns="360000" rIns="90000" tIns="46800" bIns="46800" anchor="ctr">
                      <a:noAutofit/>
                    </a:bodyPr>
                    <a:p>
                      <a:pPr marL="262080" indent="-262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Ortaklar veya ortaklarla ilişkili kişilerden yapılan borçlanmaların özsermayenin 3 katını aşması durumunda aşan kısma ilişkin ödenen veya hesaplanan faiz ve benzeri ödemeler, hesap döneminin (Geçici vergi dönemi dahil) son günü itibariyle dağıtılmış kar payı sayılır.</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Dar mükellefler için ise ana merkeze aktarılmış tutar sayılacaktır. </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Bu tutarlar kurum kazancından indirilemeyecektir.</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Kur farkları bu uygulamanın kapsamı dışındadır.</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Daha önce yapılan vergilendirme işlemleri, gerek borç alan gerekse borç veren nezdinde bu sonuca göre düzeltilir.</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Tam mükellefler nezdinde yapılan düzeltmede kur farkları da düzeltilir.</a:t>
                      </a:r>
                      <a:endParaRPr b="0" lang="en-US" sz="1900" spc="-1" strike="noStrike">
                        <a:solidFill>
                          <a:srgbClr val="000000"/>
                        </a:solidFill>
                        <a:latin typeface="Arial"/>
                      </a:endParaRPr>
                    </a:p>
                    <a:p>
                      <a:pPr marL="262080" indent="-262080">
                        <a:spcBef>
                          <a:spcPts val="476"/>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Düzeltme işleminin yapılabilmesi için örtülü sermaye kullanan kurum adına tarh edilen vergilerin ödenmesi şarttı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C30A4C06-91DC-4362-B5DF-43B03344D922}" type="slidenum">
              <a:t>50</a:t>
            </a:fld>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611280" y="189000"/>
          <a:ext cx="7993080" cy="885600"/>
        </p:xfrm>
        <a:graphic>
          <a:graphicData uri="http://schemas.openxmlformats.org/drawingml/2006/table">
            <a:tbl>
              <a:tblPr/>
              <a:tblGrid>
                <a:gridCol w="7993080"/>
              </a:tblGrid>
              <a:tr h="885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7 -ÖRTÜLÜ SERMAYE UYGULAMASI (2) SONUÇLARI    (Madde: 13/7)</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55" name=""/>
          <p:cNvGraphicFramePr/>
          <p:nvPr/>
        </p:nvGraphicFramePr>
        <p:xfrm>
          <a:off x="611280" y="1268280"/>
          <a:ext cx="7993080" cy="5564160"/>
        </p:xfrm>
        <a:graphic>
          <a:graphicData uri="http://schemas.openxmlformats.org/drawingml/2006/table">
            <a:tbl>
              <a:tblPr/>
              <a:tblGrid>
                <a:gridCol w="7993080"/>
              </a:tblGrid>
              <a:tr h="5590080">
                <a:tc>
                  <a:txBody>
                    <a:bodyPr lIns="360000" rIns="90000" tIns="46800" bIns="46800" anchor="ctr">
                      <a:noAutofit/>
                    </a:bodyPr>
                    <a:p>
                      <a:pPr marL="262080" indent="-262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Arial"/>
                      </a:endParaRPr>
                    </a:p>
                    <a:p>
                      <a:pPr marL="262080" indent="-262080">
                        <a:spcBef>
                          <a:spcPts val="476"/>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Örtülü sermaye şartları geçici vergi döneminde gerçekleşmiş ise borç veren ve alan nezdinde kayıtlarda gerekli düzeltme yapılabilir.</a:t>
                      </a:r>
                      <a:endParaRPr b="0" lang="en-US" sz="1900" spc="-1" strike="noStrike">
                        <a:solidFill>
                          <a:srgbClr val="000000"/>
                        </a:solidFill>
                        <a:latin typeface="Arial"/>
                      </a:endParaRPr>
                    </a:p>
                    <a:p>
                      <a:pPr marL="262080" indent="-262080">
                        <a:spcBef>
                          <a:spcPts val="476"/>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üzeltmenin gider yazılan geçici vergi döneminden sonra yapılması halinde, borç alan düzeltme beyannamesi verir, beyannameye göre tahakkuk eden vergilerin kesinleşip ödenmesinden sonra borç veren kurum bir sonraki geçici vergi döneminde düzeltme yapabilir.</a:t>
                      </a:r>
                      <a:endParaRPr b="0" lang="en-US" sz="1900" spc="-1" strike="noStrike">
                        <a:solidFill>
                          <a:srgbClr val="000000"/>
                        </a:solidFill>
                        <a:latin typeface="Arial"/>
                      </a:endParaRPr>
                    </a:p>
                    <a:p>
                      <a:pPr marL="262080" indent="-262080">
                        <a:spcBef>
                          <a:spcPts val="476"/>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orç veren kurum tarafından düzeltme yapılırken faiz gelirinin örtülü sermayeye isabet eden kısmı kar payı olarak dikkate alınır ve iştirak kazancı istisnası olarak değerlendirilir. Örtülü sermayeye isabet eden kur farkları vergiye tabi gelirin tespitinde dikkate alınmayacak.</a:t>
                      </a:r>
                      <a:endParaRPr b="0" lang="en-US" sz="1900" spc="-1" strike="noStrike">
                        <a:solidFill>
                          <a:srgbClr val="000000"/>
                        </a:solidFill>
                        <a:latin typeface="Arial"/>
                      </a:endParaRPr>
                    </a:p>
                    <a:p>
                      <a:pPr marL="262080" indent="-262080">
                        <a:spcBef>
                          <a:spcPts val="476"/>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orç para verenin dar mükellef kurum, gerçek kişi veya vergiden muaf kişi olması halinde örtülü sermaye üzerinden ödenen faizler, dağıtılmış kar payı sayıldığından brüte tamamlanarak belirlenen oranda stopaja tabi tutulacak. </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306B4762-E15E-41BC-AA74-40868894CFA6}" type="slidenum">
              <a:t>51</a:t>
            </a:fld>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539640" y="620640"/>
          <a:ext cx="8209080" cy="1282680"/>
        </p:xfrm>
        <a:graphic>
          <a:graphicData uri="http://schemas.openxmlformats.org/drawingml/2006/table">
            <a:tbl>
              <a:tblPr/>
              <a:tblGrid>
                <a:gridCol w="82090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28 - TRANSFER FİYATLANDIRMASI SURETİYLE ÖRTÜLÜ KAZANÇ DAĞITIMI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Madde 13) </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57" name=""/>
          <p:cNvGraphicFramePr/>
          <p:nvPr/>
        </p:nvGraphicFramePr>
        <p:xfrm>
          <a:off x="539640" y="2133720"/>
          <a:ext cx="8209080" cy="4103640"/>
        </p:xfrm>
        <a:graphic>
          <a:graphicData uri="http://schemas.openxmlformats.org/drawingml/2006/table">
            <a:tbl>
              <a:tblPr/>
              <a:tblGrid>
                <a:gridCol w="8209080"/>
              </a:tblGrid>
              <a:tr h="4103640">
                <a:tc>
                  <a:txBody>
                    <a:bodyPr lIns="360000" rIns="90000" tIns="46800" bIns="46800" anchor="ctr">
                      <a:noAutofit/>
                    </a:bodyPr>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ünyada kabul görmüş fiyatlandırma yöntemleri tanımlanmakta ve </a:t>
                      </a:r>
                      <a:r>
                        <a:rPr b="1" lang="en-US" sz="1900" spc="-1" strike="noStrike">
                          <a:solidFill>
                            <a:srgbClr val="e82c00"/>
                          </a:solidFill>
                          <a:latin typeface="Arial"/>
                        </a:rPr>
                        <a:t>OECD modeline uyum</a:t>
                      </a:r>
                      <a:r>
                        <a:rPr b="1" lang="en-US" sz="1900" spc="-1" strike="noStrike">
                          <a:solidFill>
                            <a:srgbClr val="000000"/>
                          </a:solidFill>
                          <a:latin typeface="Arial"/>
                        </a:rPr>
                        <a:t> sağlanmaktadır. </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Örtülü  kazanç dağıtımına ilişkin esaslar </a:t>
                      </a:r>
                      <a:r>
                        <a:rPr b="1" lang="en-US" sz="1900" spc="-1" strike="noStrike">
                          <a:solidFill>
                            <a:srgbClr val="e82c00"/>
                          </a:solidFill>
                          <a:latin typeface="Arial"/>
                        </a:rPr>
                        <a:t>somut ilkeler</a:t>
                      </a:r>
                      <a:r>
                        <a:rPr b="1" lang="en-US" sz="1900" spc="-1" strike="noStrike">
                          <a:solidFill>
                            <a:srgbClr val="000000"/>
                          </a:solidFill>
                          <a:latin typeface="Arial"/>
                        </a:rPr>
                        <a:t>e bağlanmaktadır.(İlişkili kişi, emsallere uygunluk ilkesi gibi)</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fer fiyatlandırması yoluyla örtülü olarak dağıtılan kazançlar, </a:t>
                      </a:r>
                      <a:r>
                        <a:rPr b="1" lang="en-US" sz="1900" spc="-1" strike="noStrike">
                          <a:solidFill>
                            <a:srgbClr val="e82c00"/>
                          </a:solidFill>
                          <a:latin typeface="Arial"/>
                        </a:rPr>
                        <a:t>dağıtılmış kâr payı</a:t>
                      </a:r>
                      <a:r>
                        <a:rPr b="1" lang="en-US" sz="1900" spc="-1" strike="noStrike">
                          <a:solidFill>
                            <a:srgbClr val="000000"/>
                          </a:solidFill>
                          <a:latin typeface="Arial"/>
                        </a:rPr>
                        <a:t> sayılarak stopaj kapsamına alınmaktadır.</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fer fiyatlandırması ile ilgili usuller, detaylı bir </a:t>
                      </a:r>
                      <a:r>
                        <a:rPr b="1" lang="en-US" sz="1900" spc="-1" strike="noStrike">
                          <a:solidFill>
                            <a:srgbClr val="e82c00"/>
                          </a:solidFill>
                          <a:latin typeface="Arial"/>
                        </a:rPr>
                        <a:t>yönetmelik</a:t>
                      </a:r>
                      <a:r>
                        <a:rPr b="1" lang="en-US" sz="1900" spc="-1" strike="noStrike">
                          <a:solidFill>
                            <a:srgbClr val="000000"/>
                          </a:solidFill>
                          <a:latin typeface="Arial"/>
                        </a:rPr>
                        <a:t>le düzenlenecekti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7004C605-D8E0-47EA-BA91-4849A85FB17A}" type="slidenum">
              <a:t>52</a:t>
            </a:fld>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541440" y="115920"/>
          <a:ext cx="8207280" cy="1282680"/>
        </p:xfrm>
        <a:graphic>
          <a:graphicData uri="http://schemas.openxmlformats.org/drawingml/2006/table">
            <a:tbl>
              <a:tblPr/>
              <a:tblGrid>
                <a:gridCol w="82072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9 - TRANSFER FİYATLANDIRILMASI YOLUYLA ÖRTÜLÜ KAZANÇ DAĞITIMI HÜKMÜ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adde 13) </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59" name=""/>
          <p:cNvGraphicFramePr/>
          <p:nvPr/>
        </p:nvGraphicFramePr>
        <p:xfrm>
          <a:off x="539640" y="1527120"/>
          <a:ext cx="8209080" cy="4926240"/>
        </p:xfrm>
        <a:graphic>
          <a:graphicData uri="http://schemas.openxmlformats.org/drawingml/2006/table">
            <a:tbl>
              <a:tblPr/>
              <a:tblGrid>
                <a:gridCol w="8209080"/>
              </a:tblGrid>
              <a:tr h="4959360">
                <a:tc>
                  <a:txBody>
                    <a:bodyPr lIns="360000" rIns="90000" tIns="46800" bIns="46800" anchor="ctr">
                      <a:noAutofit/>
                    </a:bodyPr>
                    <a:p>
                      <a:pPr indent="347760">
                        <a:spcBef>
                          <a:spcPts val="349"/>
                        </a:spcBef>
                        <a:spcAft>
                          <a:spcPts val="476"/>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aha önceki yasada yer alan “örtülü kazanç müessesesi” yeni Kurumlar Vergisi Kanununda “Transfer Fiyatlandırılması Yoluyla Örtülü Kazanç Dağıtımı” başlığı altında yeniden düzenlenmiştir. </a:t>
                      </a:r>
                      <a:endParaRPr b="0" lang="en-US" sz="1900" spc="-1" strike="noStrike">
                        <a:solidFill>
                          <a:srgbClr val="000000"/>
                        </a:solidFill>
                        <a:latin typeface="Arial"/>
                      </a:endParaRPr>
                    </a:p>
                    <a:p>
                      <a:pPr indent="347760">
                        <a:spcBef>
                          <a:spcPts val="349"/>
                        </a:spcBef>
                        <a:spcAft>
                          <a:spcPts val="476"/>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urumlar; ilişkili kişilerle yapacakları işlemlerde emsallere uygunluk ilkesine aykırı bedel veya fiyat üzerinden mal veya hizmet alım satımında bulunurlarsa kazanç tamamen veya kısmen transfer fiyatlandırılması yoluyla örtülü olarak dağıtılmış kabul edilmektedir.</a:t>
                      </a:r>
                      <a:endParaRPr b="0" lang="en-US" sz="1900" spc="-1" strike="noStrike">
                        <a:solidFill>
                          <a:srgbClr val="000000"/>
                        </a:solidFill>
                        <a:latin typeface="Arial"/>
                      </a:endParaRPr>
                    </a:p>
                    <a:p>
                      <a:pPr indent="347760">
                        <a:spcBef>
                          <a:spcPts val="349"/>
                        </a:spcBef>
                        <a:spcAft>
                          <a:spcPts val="476"/>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ım, satım, imalat, inşaat işleri, kiralama, kiraya verme, ödünç para verilmesi, alınması, ikramiye, ücret ve benzeri ödemelerde bulunulması, mal ve hizmet alım ya da satımı olarak değerlendirilecektir.</a:t>
                      </a:r>
                      <a:endParaRPr b="0" lang="en-US" sz="1900" spc="-1" strike="noStrike">
                        <a:solidFill>
                          <a:srgbClr val="000000"/>
                        </a:solidFill>
                        <a:latin typeface="Arial"/>
                      </a:endParaRPr>
                    </a:p>
                    <a:p>
                      <a:pPr>
                        <a:spcBef>
                          <a:spcPts val="349"/>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lişkili kişi tanımına;</a:t>
                      </a:r>
                      <a:endParaRPr b="0" lang="en-US" sz="1900" spc="-1" strike="noStrike">
                        <a:solidFill>
                          <a:srgbClr val="000000"/>
                        </a:solidFill>
                        <a:latin typeface="Arial"/>
                      </a:endParaRPr>
                    </a:p>
                    <a:p>
                      <a:pPr>
                        <a:spcBef>
                          <a:spcPts val="349"/>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Kurumların kendi ortakları</a:t>
                      </a:r>
                      <a:endParaRPr b="0" lang="en-US" sz="1900" spc="-1" strike="noStrike">
                        <a:solidFill>
                          <a:srgbClr val="000000"/>
                        </a:solidFill>
                        <a:latin typeface="Arial"/>
                      </a:endParaRPr>
                    </a:p>
                    <a:p>
                      <a:pPr>
                        <a:spcBef>
                          <a:spcPts val="349"/>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Kurumların veya ortaklarının ilgili bulunduğu gerçek kişi ve kurumla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7E4906C7-2627-475D-899A-95CBC7AF3305}" type="slidenum">
              <a:t>53</a:t>
            </a:fld>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541440" y="404640"/>
          <a:ext cx="8207280" cy="1008360"/>
        </p:xfrm>
        <a:graphic>
          <a:graphicData uri="http://schemas.openxmlformats.org/drawingml/2006/table">
            <a:tbl>
              <a:tblPr/>
              <a:tblGrid>
                <a:gridCol w="8207280"/>
              </a:tblGrid>
              <a:tr h="100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0 - TRANSFER FİYATLANDIRILMASI YOLUYLA ÖRTÜLÜ KAZANÇ DAĞITIMI HÜKMÜ (Madde 13) </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61" name=""/>
          <p:cNvGraphicFramePr/>
          <p:nvPr/>
        </p:nvGraphicFramePr>
        <p:xfrm>
          <a:off x="539640" y="1844640"/>
          <a:ext cx="8209080" cy="4537080"/>
        </p:xfrm>
        <a:graphic>
          <a:graphicData uri="http://schemas.openxmlformats.org/drawingml/2006/table">
            <a:tbl>
              <a:tblPr/>
              <a:tblGrid>
                <a:gridCol w="8209080"/>
              </a:tblGrid>
              <a:tr h="4537080">
                <a:tc>
                  <a:txBody>
                    <a:bodyPr lIns="360000" rIns="90000" tIns="46800" bIns="46800" anchor="ctr">
                      <a:noAutofit/>
                    </a:bodyPr>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daresi, denetimi ve sermayesi bakımından doğrudan veya dolaylı olarak bağlı bulunduğu yada nüfusu altında bulundurduğu gerçek kişi ve kurumlar,</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rtakların eşleri, ortaklarının veya eşlerinin üstsoy ve altsoy ile üçüncü derece dahil yansoy hısımları ve kayın hısımları ilişkili kişidir,</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akanlar Kurulunca vergi cenneti ilan edilen ülkelerde veya bölgelerde bulunan kişilerle yapılmış tüm işlemler ilişkili kişilerle yapılmış sayılacaktır.</a:t>
                      </a:r>
                      <a:endParaRPr b="0" lang="en-US" sz="1900" spc="-1" strike="noStrike">
                        <a:solidFill>
                          <a:srgbClr val="000000"/>
                        </a:solidFill>
                        <a:latin typeface="Arial"/>
                      </a:endParaRPr>
                    </a:p>
                    <a:p>
                      <a:pPr marL="262080" indent="-262080">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akanlar Kurulu bu ülkeleri seçerken Türk Vergi Sisteminin yarattığı vergilendirme kapasitesi ile aynı düzeyde vergilendirme yapılıp yapılmadığına bakacaktır. </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72974366-BE69-4802-ABE6-81621FA2932C}" type="slidenum">
              <a:t>54</a:t>
            </a:fld>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2" name=""/>
          <p:cNvGraphicFramePr/>
          <p:nvPr/>
        </p:nvGraphicFramePr>
        <p:xfrm>
          <a:off x="539640" y="260280"/>
          <a:ext cx="8209080" cy="2076480"/>
        </p:xfrm>
        <a:graphic>
          <a:graphicData uri="http://schemas.openxmlformats.org/drawingml/2006/table">
            <a:tbl>
              <a:tblPr/>
              <a:tblGrid>
                <a:gridCol w="8209080"/>
              </a:tblGrid>
              <a:tr h="20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1 - TRANSFER FİYATLANDIRILMASI YOLUYLA ÖRTÜLÜ KAZANÇ DAĞITIMINDA İLİŞKİLİ KİŞİLERLE YAPILACAK İŞLEMLERDE UYGULANACAK FİYAT VE BEDELLERİN TESPİT YÖNTEMLERİ (4)</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63" name=""/>
          <p:cNvGraphicFramePr/>
          <p:nvPr/>
        </p:nvGraphicFramePr>
        <p:xfrm>
          <a:off x="539640" y="2492280"/>
          <a:ext cx="8209080" cy="3961080"/>
        </p:xfrm>
        <a:graphic>
          <a:graphicData uri="http://schemas.openxmlformats.org/drawingml/2006/table">
            <a:tbl>
              <a:tblPr/>
              <a:tblGrid>
                <a:gridCol w="8209080"/>
              </a:tblGrid>
              <a:tr h="3961080">
                <a:tc>
                  <a:txBody>
                    <a:bodyPr lIns="360000" rIns="90000" tIns="46800" bIns="46800" anchor="ctr">
                      <a:noAutofit/>
                    </a:bodyPr>
                    <a:p>
                      <a:pPr>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1- Karşılaştırılabilir Fiyat Yöntemi:</a:t>
                      </a:r>
                      <a:endParaRPr b="0" lang="en-US" sz="1900" spc="-1" strike="noStrike">
                        <a:solidFill>
                          <a:srgbClr val="000000"/>
                        </a:solidFill>
                        <a:latin typeface="Arial"/>
                      </a:endParaRPr>
                    </a:p>
                    <a:p>
                      <a:pPr>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lişkili kişilerle yapılacak işlemlerde uygulanacak fiyat oranlarında herhangi bir ilişki bulunmayan kişiler arasında gerçekleşen aynı mahiyetteki işlemlerde uygulanan piyasa fiyatı karşılaştırılarak tespit edilmesini öngörmektedir.</a:t>
                      </a:r>
                      <a:endParaRPr b="0" lang="en-US" sz="1900" spc="-1" strike="noStrike">
                        <a:solidFill>
                          <a:srgbClr val="000000"/>
                        </a:solidFill>
                        <a:latin typeface="Arial"/>
                      </a:endParaRPr>
                    </a:p>
                    <a:p>
                      <a:pPr>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2- Maliyet Artı Yöntemi:</a:t>
                      </a:r>
                      <a:r>
                        <a:rPr b="1" lang="en-US" sz="1900" spc="-1" strike="noStrike">
                          <a:solidFill>
                            <a:srgbClr val="000000"/>
                          </a:solidFill>
                          <a:latin typeface="Arial"/>
                        </a:rPr>
                        <a:t> ilişkili kişiler arasındaki işleme konu mal veya hizmetin maliyetine, makul bir kar payı eklenerek fiyatın belirlenmesidir.</a:t>
                      </a:r>
                      <a:endParaRPr b="0" lang="en-US" sz="1900" spc="-1" strike="noStrike">
                        <a:solidFill>
                          <a:srgbClr val="000000"/>
                        </a:solidFill>
                        <a:latin typeface="Arial"/>
                      </a:endParaRPr>
                    </a:p>
                    <a:p>
                      <a:pPr>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3- Yeniden Satış Yöntemi:</a:t>
                      </a:r>
                      <a:r>
                        <a:rPr b="1" lang="en-US" sz="1900" spc="-1" strike="noStrike">
                          <a:solidFill>
                            <a:srgbClr val="000000"/>
                          </a:solidFill>
                          <a:latin typeface="Arial"/>
                        </a:rPr>
                        <a:t> işleme konu mal veya hizmetin, herhangi bir şekilde ilişkisi bulunmayan kişilere satılması halinde uygulanacak fiyattan makul bir brüt satış karı düşülerek bulunacaktı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D1EFE100-96DF-4606-ACE6-4620F0EBFD66}" type="slidenum">
              <a:t>55</a:t>
            </a:fld>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539640" y="260280"/>
          <a:ext cx="8209080" cy="2076480"/>
        </p:xfrm>
        <a:graphic>
          <a:graphicData uri="http://schemas.openxmlformats.org/drawingml/2006/table">
            <a:tbl>
              <a:tblPr/>
              <a:tblGrid>
                <a:gridCol w="8209080"/>
              </a:tblGrid>
              <a:tr h="20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2 - TRANSFER FİYATLANDIRILMASI YOLUYLA ÖRTÜLÜ KAZANÇ DAĞITIMINDA İLİŞKİLİ KİŞİLERLE YAPILACAK İŞLEMLERDE UYGULANACAK FİYAT VE BEDELLERİN TESPİT YÖNTEMLERİ (5)</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65" name=""/>
          <p:cNvGraphicFramePr/>
          <p:nvPr/>
        </p:nvGraphicFramePr>
        <p:xfrm>
          <a:off x="539640" y="2492280"/>
          <a:ext cx="8209080" cy="3961080"/>
        </p:xfrm>
        <a:graphic>
          <a:graphicData uri="http://schemas.openxmlformats.org/drawingml/2006/table">
            <a:tbl>
              <a:tblPr/>
              <a:tblGrid>
                <a:gridCol w="8209080"/>
              </a:tblGrid>
              <a:tr h="3961080">
                <a:tc>
                  <a:txBody>
                    <a:bodyPr lIns="360000" rIns="90000" tIns="46800" bIns="46800" anchor="ctr">
                      <a:noAutofit/>
                    </a:bodyPr>
                    <a:p>
                      <a:pPr>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4- Mükellefin Belirleyeceği Yöntem:</a:t>
                      </a:r>
                      <a:r>
                        <a:rPr b="1" lang="en-US" sz="1900" spc="-1" strike="noStrike">
                          <a:solidFill>
                            <a:srgbClr val="000000"/>
                          </a:solidFill>
                          <a:latin typeface="Arial"/>
                        </a:rPr>
                        <a:t> Emsallere uygun fiyata yukarıdaki yöntemlerden herhangi biriyle ulaşma imkanı yoksa mükellef işlemlerinin mahiyetine göre kendisi başka bir yöntem kullanabilecektir.</a:t>
                      </a:r>
                      <a:endParaRPr b="0" lang="en-US" sz="1900" spc="-1" strike="noStrike">
                        <a:solidFill>
                          <a:srgbClr val="000000"/>
                        </a:solidFill>
                        <a:latin typeface="Arial"/>
                      </a:endParaRPr>
                    </a:p>
                    <a:p>
                      <a:pPr>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5-Maliye Bakanlığı ile Birlikte Belirlenecek Yöntem</a:t>
                      </a:r>
                      <a:r>
                        <a:rPr b="1" lang="en-US" sz="1900" spc="-1" strike="noStrike">
                          <a:solidFill>
                            <a:srgbClr val="000000"/>
                          </a:solidFill>
                          <a:latin typeface="Arial"/>
                        </a:rPr>
                        <a:t>.: Mükellefler ilişkili kişilerle yapılan mal veya hizmet alım ve satımlarda fiyat ve bedelin tespitine ilişkin yöntemi Maliye Bakanlığı ile anlaşarak da belirleyebilir. Ancak bu yöntemden üç yıl süre ile vazgeçemez.</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F2F2741B-8A7B-4AFA-9089-BD84C5C4B7B3}" type="slidenum">
              <a:t>56</a:t>
            </a:fld>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541440" y="549360"/>
          <a:ext cx="8207280" cy="1008000"/>
        </p:xfrm>
        <a:graphic>
          <a:graphicData uri="http://schemas.openxmlformats.org/drawingml/2006/table">
            <a:tbl>
              <a:tblPr/>
              <a:tblGrid>
                <a:gridCol w="8207280"/>
              </a:tblGrid>
              <a:tr h="100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3 - TRANSFER FİYATLANDIRILMASI YOLUYLA ÖRTÜLÜ KAZANÇ DAĞITIMIN SONUÇLARI (6)</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67" name=""/>
          <p:cNvGraphicFramePr/>
          <p:nvPr/>
        </p:nvGraphicFramePr>
        <p:xfrm>
          <a:off x="539640" y="1917720"/>
          <a:ext cx="8209080" cy="5214960"/>
        </p:xfrm>
        <a:graphic>
          <a:graphicData uri="http://schemas.openxmlformats.org/drawingml/2006/table">
            <a:tbl>
              <a:tblPr/>
              <a:tblGrid>
                <a:gridCol w="8209080"/>
              </a:tblGrid>
              <a:tr h="5248800">
                <a:tc>
                  <a:txBody>
                    <a:bodyPr lIns="360000" rIns="90000" tIns="46800" bIns="46800" anchor="ctr">
                      <a:noAutofit/>
                    </a:bodyPr>
                    <a:p>
                      <a:pPr marL="533520" indent="-533520">
                        <a:spcBef>
                          <a:spcPts val="476"/>
                        </a:spcBef>
                        <a:spcAft>
                          <a:spcPts val="3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amamen veya kısmen transfer fiyatlandırılması yoluyla örtülü olarak dağıtılan kazanç, maddedeki şartların gerçekleştiği hesap döneminin (Geçici vergi dönemi dahil) son günü itibariyle dağıtılmış kar payı, dar mükellefler için ana merkeze aktarılmış tutar kabul edilmektedir. (KVK. Mad: 13/6)</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Örtülü kazanç dağıtımı yapan kurum nezdinde tarhiyat yapılacağından, örtülü kazancın dağıtıldığı karşı taraf nezdinde de gerekli düzeltmenin yapılması gerekir.</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üzeltme yapılabilmesi için tarh edilen vergilerin ödenmiş olması şarttır.</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ar payının başka bir kuruma aktarılması halinde bu kazanç iştirak kazancı olarak değerlendirilecektir.</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ar payının, dar mükellef kurum, gerçek kişi, vergiye tabi olmayan veya muaf olan kişi veya kuruma aktarılması halinde, kar payı brüte tamamlanarak gerekli stopaja tabi tutulacak.</a:t>
                      </a:r>
                      <a:endParaRPr b="0" lang="en-US" sz="1900" spc="-1" strike="noStrike">
                        <a:solidFill>
                          <a:srgbClr val="000000"/>
                        </a:solidFill>
                        <a:latin typeface="Arial"/>
                      </a:endParaRPr>
                    </a:p>
                    <a:p>
                      <a:pPr marL="533520" indent="-533520">
                        <a:spcBef>
                          <a:spcPts val="476"/>
                        </a:spcBef>
                        <a:spcAft>
                          <a:spcPts val="349"/>
                        </a:spcAft>
                        <a:buClr>
                          <a:srgbClr val="e82c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8410822B-53FA-40D1-BF2F-F8986D81214E}" type="slidenum">
              <a:t>57</a:t>
            </a:fld>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468360" y="189000"/>
          <a:ext cx="8280360" cy="885600"/>
        </p:xfrm>
        <a:graphic>
          <a:graphicData uri="http://schemas.openxmlformats.org/drawingml/2006/table">
            <a:tbl>
              <a:tblPr/>
              <a:tblGrid>
                <a:gridCol w="8280360"/>
              </a:tblGrid>
              <a:tr h="885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4 - KONTROL EDİLEN YABANCI KURUM  (1)</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Madde 7) Yürürlük 01.01.2006</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69" name=""/>
          <p:cNvGraphicFramePr/>
          <p:nvPr/>
        </p:nvGraphicFramePr>
        <p:xfrm>
          <a:off x="468360" y="1125360"/>
          <a:ext cx="8280360" cy="4392720"/>
        </p:xfrm>
        <a:graphic>
          <a:graphicData uri="http://schemas.openxmlformats.org/drawingml/2006/table">
            <a:tbl>
              <a:tblPr/>
              <a:tblGrid>
                <a:gridCol w="8280360"/>
              </a:tblGrid>
              <a:tr h="4392720">
                <a:tc>
                  <a:txBody>
                    <a:bodyPr lIns="360000" rIns="90000" tIns="46800" bIns="46800" anchor="ctr">
                      <a:noAutofit/>
                    </a:bodyPr>
                    <a:p>
                      <a:pPr marL="262080" indent="-262080" algn="just">
                        <a:spcBef>
                          <a:spcPts val="349"/>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am mükellef gerçek kişi ve kurumların doğrudan veya dolaylı olarak ayrı ayrı veya birlikte kontrol ettikleri aşağıdaki şartları taşıyan yurt dışı iştiraklerinin kurum kazançları dağıtılsın dağıtılmasın Türkiye’de kurumlar vergisine tabi tutulur.</a:t>
                      </a:r>
                      <a:endParaRPr b="0" lang="en-US" sz="1900" spc="-1" strike="noStrike">
                        <a:solidFill>
                          <a:srgbClr val="000000"/>
                        </a:solidFill>
                        <a:latin typeface="Arial"/>
                      </a:endParaRPr>
                    </a:p>
                    <a:p>
                      <a:pPr marL="262080" indent="-262080" algn="just">
                        <a:spcBef>
                          <a:spcPts val="349"/>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addede belirlenen şartlar;</a:t>
                      </a:r>
                      <a:endParaRPr b="0" lang="en-US" sz="1900" spc="-1" strike="noStrike">
                        <a:solidFill>
                          <a:srgbClr val="000000"/>
                        </a:solidFill>
                        <a:latin typeface="Arial"/>
                      </a:endParaRPr>
                    </a:p>
                    <a:p>
                      <a:pPr marL="262080" indent="-262080" algn="just">
                        <a:spcBef>
                          <a:spcPts val="349"/>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urtdışı iştirakin sermayesinin kar payının veya oy kullanma hakkının en az % 50’sine sahip olunmalı. Bu iştirak doğrudan veya dolaylı olabilir. Gerçek ve tüzel kişilerin payları aralarında ilişki olup olmadığına bakılmaksızın birlikte dikkate alınır.</a:t>
                      </a:r>
                      <a:endParaRPr b="0" lang="en-US" sz="1900" spc="-1" strike="noStrike">
                        <a:solidFill>
                          <a:srgbClr val="000000"/>
                        </a:solidFill>
                        <a:latin typeface="Arial"/>
                      </a:endParaRPr>
                    </a:p>
                    <a:p>
                      <a:pPr marL="262080" indent="-262080" algn="just">
                        <a:spcBef>
                          <a:spcPts val="349"/>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ştirakin toplam gayrisafi hasılatının % 25’ten fazlası pasif nitelikli  gelir olmalıdır. (Ticari faaliyete bağlı olmaksızın sağlanan faiz, kar payı, kira, menkul kıymet satış geliri gibi)</a:t>
                      </a:r>
                      <a:endParaRPr b="0" lang="en-US" sz="1900" spc="-1" strike="noStrike">
                        <a:solidFill>
                          <a:srgbClr val="000000"/>
                        </a:solidFill>
                        <a:latin typeface="Arial"/>
                      </a:endParaRPr>
                    </a:p>
                    <a:p>
                      <a:pPr marL="262080" indent="-262080" algn="just">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6E392A60-8E4A-42C2-9CD2-3D662B1497A4}" type="slidenum">
              <a:t>58</a:t>
            </a:fld>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468360" y="189000"/>
          <a:ext cx="8280360" cy="885600"/>
        </p:xfrm>
        <a:graphic>
          <a:graphicData uri="http://schemas.openxmlformats.org/drawingml/2006/table">
            <a:tbl>
              <a:tblPr/>
              <a:tblGrid>
                <a:gridCol w="8280360"/>
              </a:tblGrid>
              <a:tr h="885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4 - KONTROL EDİLEN YABANCI KURUM  (1)</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Madde 7) Yürürlük 01.01.2006</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71" name=""/>
          <p:cNvGraphicFramePr/>
          <p:nvPr/>
        </p:nvGraphicFramePr>
        <p:xfrm>
          <a:off x="468360" y="1125360"/>
          <a:ext cx="8280360" cy="4392720"/>
        </p:xfrm>
        <a:graphic>
          <a:graphicData uri="http://schemas.openxmlformats.org/drawingml/2006/table">
            <a:tbl>
              <a:tblPr/>
              <a:tblGrid>
                <a:gridCol w="8280360"/>
              </a:tblGrid>
              <a:tr h="4392720">
                <a:tc>
                  <a:txBody>
                    <a:bodyPr lIns="360000" rIns="90000" tIns="46800" bIns="46800" anchor="ctr">
                      <a:noAutofit/>
                    </a:bodyPr>
                    <a:p>
                      <a:pPr marL="262080" indent="-262080" algn="just">
                        <a:spcBef>
                          <a:spcPts val="349"/>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62080" indent="-262080" algn="just">
                        <a:spcBef>
                          <a:spcPts val="349"/>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urtdışı iştirakin kurum kazancı üzerinde % 10’dan daha az oranda gelir ve kurumlar vergisi benzeri vergi yükü olmalıdır.</a:t>
                      </a:r>
                      <a:endParaRPr b="0" lang="en-US" sz="1900" spc="-1" strike="noStrike">
                        <a:solidFill>
                          <a:srgbClr val="000000"/>
                        </a:solidFill>
                        <a:latin typeface="Arial"/>
                      </a:endParaRPr>
                    </a:p>
                    <a:p>
                      <a:pPr marL="262080" indent="-262080" algn="just">
                        <a:spcBef>
                          <a:spcPts val="349"/>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ontrol edilen yabancı kurumun Türkiye’de vergilenecek kazancı, zarar mahsubu dahil giderler düşüldükten istisnalar düşülmeden önceki vergi öncesi kazançtır.</a:t>
                      </a:r>
                      <a:endParaRPr b="0" lang="en-US" sz="1900" spc="-1" strike="noStrike">
                        <a:solidFill>
                          <a:srgbClr val="000000"/>
                        </a:solidFill>
                        <a:latin typeface="Arial"/>
                      </a:endParaRPr>
                    </a:p>
                    <a:p>
                      <a:pPr marL="262080" indent="-262080" algn="just">
                        <a:spcBef>
                          <a:spcPts val="349"/>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ştirakin yıllık gayri safi hasılatı 100.000 YTL karşılığı yabancı para karşılığını geçmelidir.</a:t>
                      </a:r>
                      <a:endParaRPr b="0" lang="en-US" sz="1900" spc="-1" strike="noStrike">
                        <a:solidFill>
                          <a:srgbClr val="000000"/>
                        </a:solidFill>
                        <a:latin typeface="Arial"/>
                      </a:endParaRPr>
                    </a:p>
                    <a:p>
                      <a:pPr marL="262080" indent="-262080" algn="just">
                        <a:spcBef>
                          <a:spcPts val="349"/>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ontrol oranı olarak hesap dönemi içinde sahip olunan en yüksek oran dikkate alınacaktır.     </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49392A75-EAB5-4D5D-92B3-DE23FB08CB2D}" type="slidenum">
              <a:t>59</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611280" y="201600"/>
          <a:ext cx="7993080" cy="1282680"/>
        </p:xfrm>
        <a:graphic>
          <a:graphicData uri="http://schemas.openxmlformats.org/drawingml/2006/table">
            <a:tbl>
              <a:tblPr/>
              <a:tblGrid>
                <a:gridCol w="79930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4 - ÖZEL HESAP DÖNEMLERİNDE UYGULANACAK KURUMLAR VERGİSİ ORANLARI</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51" name=""/>
          <p:cNvGraphicFramePr/>
          <p:nvPr/>
        </p:nvGraphicFramePr>
        <p:xfrm>
          <a:off x="611280" y="1627200"/>
          <a:ext cx="7991280" cy="4632480"/>
        </p:xfrm>
        <a:graphic>
          <a:graphicData uri="http://schemas.openxmlformats.org/drawingml/2006/table">
            <a:tbl>
              <a:tblPr/>
              <a:tblGrid>
                <a:gridCol w="3816360"/>
                <a:gridCol w="2519280"/>
                <a:gridCol w="1655640"/>
              </a:tblGrid>
              <a:tr h="773280">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ÖNEM</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EYANNAME VERME SÜRESİ</a:t>
                      </a:r>
                      <a:r>
                        <a:rPr b="1" lang="tr-TR" sz="1900" spc="-1" strike="noStrike">
                          <a:solidFill>
                            <a:srgbClr val="000000"/>
                          </a:solidFill>
                          <a:latin typeface="Arial"/>
                        </a:rPr>
                        <a:t> </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RAN</a:t>
                      </a:r>
                      <a:r>
                        <a:rPr b="1" lang="tr-TR" sz="1900" spc="-1" strike="noStrike">
                          <a:solidFill>
                            <a:srgbClr val="000000"/>
                          </a:solidFill>
                          <a:latin typeface="Arial"/>
                        </a:rPr>
                        <a:t> </a:t>
                      </a:r>
                      <a:endParaRPr b="0" lang="en-US" sz="19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9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 Nisan 2005-</a:t>
                      </a:r>
                      <a:r>
                        <a:rPr b="1" lang="en-US" sz="1800" spc="-1" strike="noStrike">
                          <a:solidFill>
                            <a:srgbClr val="000000"/>
                          </a:solidFill>
                          <a:latin typeface="Arial"/>
                        </a:rPr>
                        <a:t>31 </a:t>
                      </a:r>
                      <a:r>
                        <a:rPr b="1" lang="tr-TR" sz="1800" spc="-1" strike="noStrike">
                          <a:solidFill>
                            <a:srgbClr val="000000"/>
                          </a:solidFill>
                          <a:latin typeface="Arial"/>
                        </a:rPr>
                        <a:t>Mart</a:t>
                      </a:r>
                      <a:r>
                        <a:rPr b="1" lang="en-US" sz="1800" spc="-1" strike="noStrike">
                          <a:solidFill>
                            <a:srgbClr val="000000"/>
                          </a:solidFill>
                          <a:latin typeface="Arial"/>
                        </a:rPr>
                        <a:t> 2006</a:t>
                      </a:r>
                      <a:r>
                        <a:rPr b="0" lang="tr-TR"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5 Temmuz 2006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tr-TR" sz="1800" spc="-1" strike="noStrike">
                          <a:solidFill>
                            <a:srgbClr val="000000"/>
                          </a:solidFill>
                          <a:latin typeface="Arial"/>
                        </a:rPr>
                        <a:t> 2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2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 Mayıs 2005-</a:t>
                      </a:r>
                      <a:r>
                        <a:rPr b="1" lang="en-US" sz="1800" spc="-1" strike="noStrike">
                          <a:solidFill>
                            <a:srgbClr val="000000"/>
                          </a:solidFill>
                          <a:latin typeface="Arial"/>
                        </a:rPr>
                        <a:t>3</a:t>
                      </a:r>
                      <a:r>
                        <a:rPr b="1" lang="tr-TR" sz="1800" spc="-1" strike="noStrike">
                          <a:solidFill>
                            <a:srgbClr val="000000"/>
                          </a:solidFill>
                          <a:latin typeface="Arial"/>
                        </a:rPr>
                        <a:t>0 Nisan</a:t>
                      </a:r>
                      <a:r>
                        <a:rPr b="1" lang="en-US" sz="1800" spc="-1" strike="noStrike">
                          <a:solidFill>
                            <a:srgbClr val="000000"/>
                          </a:solidFill>
                          <a:latin typeface="Arial"/>
                        </a:rPr>
                        <a:t> 2006</a:t>
                      </a:r>
                      <a:r>
                        <a:rPr b="0" lang="tr-TR"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5 Ağustos 2006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tr-TR" sz="1800" spc="-1" strike="noStrike">
                          <a:solidFill>
                            <a:srgbClr val="000000"/>
                          </a:solidFill>
                          <a:latin typeface="Arial"/>
                        </a:rPr>
                        <a:t> 2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 Haziran 2005-</a:t>
                      </a:r>
                      <a:r>
                        <a:rPr b="1" lang="en-US" sz="1800" spc="-1" strike="noStrike">
                          <a:solidFill>
                            <a:srgbClr val="000000"/>
                          </a:solidFill>
                          <a:latin typeface="Arial"/>
                        </a:rPr>
                        <a:t>31 </a:t>
                      </a:r>
                      <a:r>
                        <a:rPr b="1" lang="tr-TR" sz="1800" spc="-1" strike="noStrike">
                          <a:solidFill>
                            <a:srgbClr val="000000"/>
                          </a:solidFill>
                          <a:latin typeface="Arial"/>
                        </a:rPr>
                        <a:t>Mayıs</a:t>
                      </a:r>
                      <a:r>
                        <a:rPr b="1" lang="en-US" sz="1800" spc="-1" strike="noStrike">
                          <a:solidFill>
                            <a:srgbClr val="000000"/>
                          </a:solidFill>
                          <a:latin typeface="Arial"/>
                        </a:rPr>
                        <a:t> 2006</a:t>
                      </a:r>
                      <a:r>
                        <a:rPr b="0" lang="tr-TR"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5 Eylül 2006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tr-TR" sz="1800" spc="-1" strike="noStrike">
                          <a:solidFill>
                            <a:srgbClr val="000000"/>
                          </a:solidFill>
                          <a:latin typeface="Arial"/>
                        </a:rPr>
                        <a:t> 2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 Temmuz 2005-</a:t>
                      </a:r>
                      <a:r>
                        <a:rPr b="1" lang="en-US" sz="1800" spc="-1" strike="noStrike">
                          <a:solidFill>
                            <a:srgbClr val="000000"/>
                          </a:solidFill>
                          <a:latin typeface="Arial"/>
                        </a:rPr>
                        <a:t>3</a:t>
                      </a:r>
                      <a:r>
                        <a:rPr b="1" lang="tr-TR" sz="1800" spc="-1" strike="noStrike">
                          <a:solidFill>
                            <a:srgbClr val="000000"/>
                          </a:solidFill>
                          <a:latin typeface="Arial"/>
                        </a:rPr>
                        <a:t>0</a:t>
                      </a:r>
                      <a:r>
                        <a:rPr b="1" lang="en-US" sz="1800" spc="-1" strike="noStrike">
                          <a:solidFill>
                            <a:srgbClr val="000000"/>
                          </a:solidFill>
                          <a:latin typeface="Arial"/>
                        </a:rPr>
                        <a:t> </a:t>
                      </a:r>
                      <a:r>
                        <a:rPr b="1" lang="tr-TR" sz="1800" spc="-1" strike="noStrike">
                          <a:solidFill>
                            <a:srgbClr val="000000"/>
                          </a:solidFill>
                          <a:latin typeface="Arial"/>
                        </a:rPr>
                        <a:t>Haziran</a:t>
                      </a:r>
                      <a:r>
                        <a:rPr b="1" lang="en-US" sz="1800" spc="-1" strike="noStrike">
                          <a:solidFill>
                            <a:srgbClr val="000000"/>
                          </a:solidFill>
                          <a:latin typeface="Arial"/>
                        </a:rPr>
                        <a:t> 2006</a:t>
                      </a:r>
                      <a:r>
                        <a:rPr b="0" lang="tr-TR"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5 Ekim 2006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tr-TR" sz="1800" spc="-1" strike="noStrike">
                          <a:solidFill>
                            <a:srgbClr val="000000"/>
                          </a:solidFill>
                          <a:latin typeface="Arial"/>
                        </a:rPr>
                        <a:t> 2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 Ağustos 2005-</a:t>
                      </a:r>
                      <a:r>
                        <a:rPr b="1" lang="en-US" sz="1800" spc="-1" strike="noStrike">
                          <a:solidFill>
                            <a:srgbClr val="000000"/>
                          </a:solidFill>
                          <a:latin typeface="Arial"/>
                        </a:rPr>
                        <a:t>31 </a:t>
                      </a:r>
                      <a:r>
                        <a:rPr b="1" lang="tr-TR" sz="1800" spc="-1" strike="noStrike">
                          <a:solidFill>
                            <a:srgbClr val="000000"/>
                          </a:solidFill>
                          <a:latin typeface="Arial"/>
                        </a:rPr>
                        <a:t>Temmuz</a:t>
                      </a:r>
                      <a:r>
                        <a:rPr b="1" lang="en-US" sz="1800" spc="-1" strike="noStrike">
                          <a:solidFill>
                            <a:srgbClr val="000000"/>
                          </a:solidFill>
                          <a:latin typeface="Arial"/>
                        </a:rPr>
                        <a:t> 2006</a:t>
                      </a:r>
                      <a:r>
                        <a:rPr b="0" lang="tr-TR"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5 Kasım 2006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tr-TR" sz="1800" spc="-1" strike="noStrike">
                          <a:solidFill>
                            <a:srgbClr val="000000"/>
                          </a:solidFill>
                          <a:latin typeface="Arial"/>
                        </a:rPr>
                        <a:t> 24</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4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 Eylül 2005-</a:t>
                      </a:r>
                      <a:r>
                        <a:rPr b="1" lang="en-US" sz="1800" spc="-1" strike="noStrike">
                          <a:solidFill>
                            <a:srgbClr val="000000"/>
                          </a:solidFill>
                          <a:latin typeface="Arial"/>
                        </a:rPr>
                        <a:t>31 </a:t>
                      </a:r>
                      <a:r>
                        <a:rPr b="1" lang="tr-TR" sz="1800" spc="-1" strike="noStrike">
                          <a:solidFill>
                            <a:srgbClr val="000000"/>
                          </a:solidFill>
                          <a:latin typeface="Arial"/>
                        </a:rPr>
                        <a:t>Ağustos</a:t>
                      </a:r>
                      <a:r>
                        <a:rPr b="1" lang="en-US" sz="1800" spc="-1" strike="noStrike">
                          <a:solidFill>
                            <a:srgbClr val="000000"/>
                          </a:solidFill>
                          <a:latin typeface="Arial"/>
                        </a:rPr>
                        <a:t> 2006</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5 Aralık 200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tr-TR" sz="1800" spc="-1" strike="noStrike">
                          <a:solidFill>
                            <a:srgbClr val="000000"/>
                          </a:solidFill>
                          <a:latin typeface="Arial"/>
                        </a:rPr>
                        <a:t> 2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 Ekim 2005-</a:t>
                      </a:r>
                      <a:r>
                        <a:rPr b="1" lang="en-US" sz="1800" spc="-1" strike="noStrike">
                          <a:solidFill>
                            <a:srgbClr val="000000"/>
                          </a:solidFill>
                          <a:latin typeface="Arial"/>
                        </a:rPr>
                        <a:t>3</a:t>
                      </a:r>
                      <a:r>
                        <a:rPr b="1" lang="tr-TR" sz="1800" spc="-1" strike="noStrike">
                          <a:solidFill>
                            <a:srgbClr val="000000"/>
                          </a:solidFill>
                          <a:latin typeface="Arial"/>
                        </a:rPr>
                        <a:t>0 Eylül</a:t>
                      </a:r>
                      <a:r>
                        <a:rPr b="1" lang="en-US" sz="1800" spc="-1" strike="noStrike">
                          <a:solidFill>
                            <a:srgbClr val="000000"/>
                          </a:solidFill>
                          <a:latin typeface="Arial"/>
                        </a:rPr>
                        <a:t> 2006</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5 Ocak 200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tr-TR" sz="1800" spc="-1" strike="noStrike">
                          <a:solidFill>
                            <a:srgbClr val="000000"/>
                          </a:solidFill>
                          <a:latin typeface="Arial"/>
                        </a:rPr>
                        <a:t> 22</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 Kasım 2005-</a:t>
                      </a:r>
                      <a:r>
                        <a:rPr b="1" lang="en-US" sz="1800" spc="-1" strike="noStrike">
                          <a:solidFill>
                            <a:srgbClr val="000000"/>
                          </a:solidFill>
                          <a:latin typeface="Arial"/>
                        </a:rPr>
                        <a:t>31 </a:t>
                      </a:r>
                      <a:r>
                        <a:rPr b="1" lang="tr-TR" sz="1800" spc="-1" strike="noStrike">
                          <a:solidFill>
                            <a:srgbClr val="000000"/>
                          </a:solidFill>
                          <a:latin typeface="Arial"/>
                        </a:rPr>
                        <a:t>Ekim</a:t>
                      </a:r>
                      <a:r>
                        <a:rPr b="1" lang="en-US" sz="1800" spc="-1" strike="noStrike">
                          <a:solidFill>
                            <a:srgbClr val="000000"/>
                          </a:solidFill>
                          <a:latin typeface="Arial"/>
                        </a:rPr>
                        <a:t> 2006</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5 Şubat 200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tr-TR" sz="1800" spc="-1" strike="noStrike">
                          <a:solidFill>
                            <a:srgbClr val="000000"/>
                          </a:solidFill>
                          <a:latin typeface="Arial"/>
                        </a:rPr>
                        <a:t> 2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4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 Aralık 2005-</a:t>
                      </a:r>
                      <a:r>
                        <a:rPr b="1" lang="en-US" sz="1800" spc="-1" strike="noStrike">
                          <a:solidFill>
                            <a:srgbClr val="000000"/>
                          </a:solidFill>
                          <a:latin typeface="Arial"/>
                        </a:rPr>
                        <a:t>31 </a:t>
                      </a:r>
                      <a:r>
                        <a:rPr b="1" lang="tr-TR" sz="1800" spc="-1" strike="noStrike">
                          <a:solidFill>
                            <a:srgbClr val="000000"/>
                          </a:solidFill>
                          <a:latin typeface="Arial"/>
                        </a:rPr>
                        <a:t>Kasım</a:t>
                      </a:r>
                      <a:r>
                        <a:rPr b="1" lang="en-US" sz="1800" spc="-1" strike="noStrike">
                          <a:solidFill>
                            <a:srgbClr val="000000"/>
                          </a:solidFill>
                          <a:latin typeface="Arial"/>
                        </a:rPr>
                        <a:t> 2006</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5 Mart 200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tr-TR" sz="1800" spc="-1" strike="noStrike">
                          <a:solidFill>
                            <a:srgbClr val="000000"/>
                          </a:solidFill>
                          <a:latin typeface="Arial"/>
                        </a:rPr>
                        <a:t> 2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30B85B35-E1AF-487D-97E6-A92431B5C93D}" type="slidenum">
              <a:t>6</a:t>
            </a:fld>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2" name=""/>
          <p:cNvGraphicFramePr/>
          <p:nvPr/>
        </p:nvGraphicFramePr>
        <p:xfrm>
          <a:off x="468360" y="549360"/>
          <a:ext cx="8280360" cy="1282680"/>
        </p:xfrm>
        <a:graphic>
          <a:graphicData uri="http://schemas.openxmlformats.org/drawingml/2006/table">
            <a:tbl>
              <a:tblPr/>
              <a:tblGrid>
                <a:gridCol w="828036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34 - KONTROL EDİLEN YABANCI KURUMA SAHİP OLUNMASININ SONUÇLARI (2)</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Madde 7)</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73" name=""/>
          <p:cNvGraphicFramePr/>
          <p:nvPr/>
        </p:nvGraphicFramePr>
        <p:xfrm>
          <a:off x="468360" y="2003400"/>
          <a:ext cx="8280360" cy="4305240"/>
        </p:xfrm>
        <a:graphic>
          <a:graphicData uri="http://schemas.openxmlformats.org/drawingml/2006/table">
            <a:tbl>
              <a:tblPr/>
              <a:tblGrid>
                <a:gridCol w="8280360"/>
              </a:tblGrid>
              <a:tr h="4305240">
                <a:tc>
                  <a:txBody>
                    <a:bodyPr lIns="360000" rIns="90000" tIns="46800" bIns="46800" anchor="ctr">
                      <a:noAutofit/>
                    </a:bodyPr>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anunda belirtilen şartları taşıyan yurt dışı iştirakin kazancı, </a:t>
                      </a:r>
                      <a:r>
                        <a:rPr b="1" lang="en-US" sz="1900" spc="-1" strike="noStrike">
                          <a:solidFill>
                            <a:srgbClr val="e82c00"/>
                          </a:solidFill>
                          <a:latin typeface="Arial"/>
                        </a:rPr>
                        <a:t>dağıtılmasa dahi</a:t>
                      </a:r>
                      <a:r>
                        <a:rPr b="1" lang="en-US" sz="1900" spc="-1" strike="noStrike">
                          <a:solidFill>
                            <a:srgbClr val="000000"/>
                          </a:solidFill>
                          <a:latin typeface="Arial"/>
                        </a:rPr>
                        <a:t> yurt dışında uygulanan hesap döneminin kapandığı ayı içeren hesap dönemi itibariyle tam mükellef kurumların </a:t>
                      </a:r>
                      <a:r>
                        <a:rPr b="1" lang="en-US" sz="1900" spc="-1" strike="noStrike">
                          <a:solidFill>
                            <a:srgbClr val="e82c00"/>
                          </a:solidFill>
                          <a:latin typeface="Arial"/>
                        </a:rPr>
                        <a:t>hisseleri oranında,</a:t>
                      </a:r>
                      <a:r>
                        <a:rPr b="1" lang="en-US" sz="1900" spc="-1" strike="noStrike">
                          <a:solidFill>
                            <a:srgbClr val="000000"/>
                          </a:solidFill>
                          <a:latin typeface="Arial"/>
                        </a:rPr>
                        <a:t> kurumlar vergisine dahil edilerek vergilendirilecektir.</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urt dışındaki iştirakin bulunduğu ülkede ödemiş olduğu gelir ve kurumlar vergisi benzeri vergiler kontrol edilen yabancı kurumun Türkiye’de vergilendirilecek kazancı üzerinden hesaplanan kurumlar vergisinden mahsup edilecektir. Kontrol edilen yabancı kurumun bulunduğu ülke dışında başka ülkelerde ödediği vergiler mahsup edilmeyecektir. (KVK.md. 33) </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3F4124F9-6F87-4332-AA3B-2C06727B70AB}" type="slidenum">
              <a:t>60</a:t>
            </a:fld>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468360" y="549360"/>
          <a:ext cx="8280360" cy="1282680"/>
        </p:xfrm>
        <a:graphic>
          <a:graphicData uri="http://schemas.openxmlformats.org/drawingml/2006/table">
            <a:tbl>
              <a:tblPr/>
              <a:tblGrid>
                <a:gridCol w="828036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34 - KONTROL EDİLEN YABANCI KURUMA SAHİP OLUNMASININ SONUÇLARI (3)</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Madde 7)</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75" name=""/>
          <p:cNvGraphicFramePr/>
          <p:nvPr/>
        </p:nvGraphicFramePr>
        <p:xfrm>
          <a:off x="468360" y="2003400"/>
          <a:ext cx="8280360" cy="4305240"/>
        </p:xfrm>
        <a:graphic>
          <a:graphicData uri="http://schemas.openxmlformats.org/drawingml/2006/table">
            <a:tbl>
              <a:tblPr/>
              <a:tblGrid>
                <a:gridCol w="8280360"/>
              </a:tblGrid>
              <a:tr h="4305240">
                <a:tc>
                  <a:txBody>
                    <a:bodyPr lIns="360000" rIns="90000" tIns="46800" bIns="46800" anchor="ctr">
                      <a:noAutofit/>
                    </a:bodyPr>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ergilendirilen kazancın, yurt dışı iştirak tarafından </a:t>
                      </a:r>
                      <a:r>
                        <a:rPr b="1" lang="en-US" sz="1900" spc="-1" strike="noStrike">
                          <a:solidFill>
                            <a:srgbClr val="e82c00"/>
                          </a:solidFill>
                          <a:latin typeface="Arial"/>
                        </a:rPr>
                        <a:t>sonradan dağıtılması durumunda</a:t>
                      </a:r>
                      <a:r>
                        <a:rPr b="1" lang="en-US" sz="1900" spc="-1" strike="noStrike">
                          <a:solidFill>
                            <a:srgbClr val="000000"/>
                          </a:solidFill>
                          <a:latin typeface="Arial"/>
                        </a:rPr>
                        <a:t> ayrıca vergilendirilmeyecek, kâr dağıtımında vergilendirilmemiş kısım varsa bu kısım vergiye tabi tutulacaktır.</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adde 1.1.2006 tarihinde yürürlüğe girdiğinden, 1.1.2006 tarihinden sonra sona eren hesap dönenlerine ilişkin kontrol edilen yabancı kurum kazançları iştirak hissesi oranında Türkiye’de kazanca dahil edilecek.</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ontrol edilen yabancı kurumun iştirak ettiği kurumların 1.1.2006 tarihinden önceki kazançlarından bu tarihten sonra dağıtılan kar payları da kontrol edilen yabancı kurumun kazancına dahil edilecekti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6E004063-ADE3-434A-A49B-B9489A4119BD}" type="slidenum">
              <a:t>61</a:t>
            </a:fld>
          </a:p>
        </p:txBody>
      </p:sp>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24000" y="260280"/>
            <a:ext cx="8424720" cy="6228000"/>
          </a:xfrm>
          <a:prstGeom prst="rect">
            <a:avLst/>
          </a:prstGeom>
          <a:ln w="0">
            <a:noFill/>
          </a:ln>
        </p:spPr>
      </p:pic>
      <p:sp>
        <p:nvSpPr>
          <p:cNvPr id="2" name="PlaceHolder 1"/>
          <p:cNvSpPr>
            <a:spLocks noGrp="1"/>
          </p:cNvSpPr>
          <p:nvPr>
            <p:ph type="sldNum" idx="3"/>
          </p:nvPr>
        </p:nvSpPr>
        <p:spPr/>
        <p:txBody>
          <a:bodyPr/>
          <a:p>
            <a:fld id="{82655FE0-71FA-4873-B065-3750FC5EF1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826920" y="0"/>
            <a:ext cx="7777440" cy="2728800"/>
          </a:xfrm>
          <a:prstGeom prst="rect">
            <a:avLst/>
          </a:prstGeom>
          <a:ln w="0">
            <a:noFill/>
          </a:ln>
        </p:spPr>
      </p:pic>
      <p:pic>
        <p:nvPicPr>
          <p:cNvPr id="178" name="" descr=""/>
          <p:cNvPicPr/>
          <p:nvPr/>
        </p:nvPicPr>
        <p:blipFill>
          <a:blip r:embed="rId2"/>
          <a:stretch/>
        </p:blipFill>
        <p:spPr>
          <a:xfrm>
            <a:off x="1332000" y="2276640"/>
            <a:ext cx="6912000" cy="4581360"/>
          </a:xfrm>
          <a:prstGeom prst="rect">
            <a:avLst/>
          </a:prstGeom>
          <a:ln w="0">
            <a:noFill/>
          </a:ln>
        </p:spPr>
      </p:pic>
      <p:sp>
        <p:nvSpPr>
          <p:cNvPr id="2" name="PlaceHolder 1"/>
          <p:cNvSpPr>
            <a:spLocks noGrp="1"/>
          </p:cNvSpPr>
          <p:nvPr>
            <p:ph type="sldNum" idx="3"/>
          </p:nvPr>
        </p:nvSpPr>
        <p:spPr/>
        <p:txBody>
          <a:bodyPr/>
          <a:p>
            <a:fld id="{BDFF203A-36E4-4792-B03E-5CE7C6D915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684360" y="476280"/>
          <a:ext cx="7991280" cy="1282680"/>
        </p:xfrm>
        <a:graphic>
          <a:graphicData uri="http://schemas.openxmlformats.org/drawingml/2006/table">
            <a:tbl>
              <a:tblPr/>
              <a:tblGrid>
                <a:gridCol w="79912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35 - ZARARLI VERGİ REKABETİNE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STOPAJ UYGULAMASI  (1)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Madde 30/7)</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80" name=""/>
          <p:cNvGraphicFramePr/>
          <p:nvPr/>
        </p:nvGraphicFramePr>
        <p:xfrm>
          <a:off x="684360" y="1989000"/>
          <a:ext cx="7991280" cy="4286520"/>
        </p:xfrm>
        <a:graphic>
          <a:graphicData uri="http://schemas.openxmlformats.org/drawingml/2006/table">
            <a:tbl>
              <a:tblPr/>
              <a:tblGrid>
                <a:gridCol w="7991280"/>
              </a:tblGrid>
              <a:tr h="4286520">
                <a:tc>
                  <a:txBody>
                    <a:bodyPr lIns="360000" rIns="90000" tIns="46800" bIns="46800" anchor="ctr">
                      <a:noAutofit/>
                    </a:bodyPr>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Zararlı vergi rekabeti yaratan ülkelerle yapılan işlemlerin vergilendirilmesi sağlanmaktadır. </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Vergi matrahının azaltılması, sermaye kaçışı ve kara paranın aklanması önlenmekted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Bakanlar Kurulunca ilan edilen ve “</a:t>
                      </a:r>
                      <a:r>
                        <a:rPr b="1" i="1" lang="tr-TR" sz="1900" spc="-1" strike="noStrike">
                          <a:solidFill>
                            <a:srgbClr val="000000"/>
                          </a:solidFill>
                          <a:latin typeface="Arial"/>
                        </a:rPr>
                        <a:t>Vergi Cenneti</a:t>
                      </a:r>
                      <a:r>
                        <a:rPr b="1" lang="tr-TR" sz="1900" spc="-1" strike="noStrike">
                          <a:solidFill>
                            <a:srgbClr val="000000"/>
                          </a:solidFill>
                          <a:latin typeface="Arial"/>
                        </a:rPr>
                        <a:t>” olarak bilinen ülkelere ve bölgelere nakden ve hesaben ve tahakkuk ettirilen her türlü ödemeler üzerinden % 30 oranında stopaj yapılacaktı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Bakanlar Kurulu, vergi cenneti ilan edeceği ülkeleri; o ülkenin vergi sisteminin Türk vergi sistemi ile aynı düzeyde bir vergileme imkanı sağlayıp sağlamadığı ve bilgi değişimine açık olup olmadığı hususlarına bakacaktı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4C15D8DE-B4F5-4EB5-BB87-1DA73E1AC734}" type="slidenum">
              <a:t>64</a:t>
            </a:fld>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684360" y="476280"/>
          <a:ext cx="7991280" cy="1282680"/>
        </p:xfrm>
        <a:graphic>
          <a:graphicData uri="http://schemas.openxmlformats.org/drawingml/2006/table">
            <a:tbl>
              <a:tblPr/>
              <a:tblGrid>
                <a:gridCol w="79912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35 - ZARARLI VERGİ REKABETİNE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STOPAJ UYGULAMASI  (2)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Madde 30/7)</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82" name=""/>
          <p:cNvGraphicFramePr/>
          <p:nvPr/>
        </p:nvGraphicFramePr>
        <p:xfrm>
          <a:off x="684360" y="1989000"/>
          <a:ext cx="7991280" cy="4111920"/>
        </p:xfrm>
        <a:graphic>
          <a:graphicData uri="http://schemas.openxmlformats.org/drawingml/2006/table">
            <a:tbl>
              <a:tblPr/>
              <a:tblGrid>
                <a:gridCol w="7991280"/>
              </a:tblGrid>
              <a:tr h="4111920">
                <a:tc>
                  <a:txBody>
                    <a:bodyPr lIns="360000" rIns="90000" tIns="46800" bIns="46800" anchor="ctr">
                      <a:noAutofit/>
                    </a:bodyPr>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Vergi cennetinde yerleşik olan veya faaliyette bulunan kurumlara yapılacak kar payı ödemeleri Kanunun 30/7 nci maddesine göre değil kar dağıtımına bağlı vergi kesintisinin düzenlendiği 15 nci maddeye göre % 15 oranında uygulanacaktı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Vergi kesintisi yapılması için ödemenin verginin konusuna girip girip girmediği, ödeme yapılanın mükellef olup olmadığı önem arz etmemekted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Vergi cennetlerinde faaliyette bulunan kurumlar ile tam mükellef kurumların vergi cennetindeki işyeri veya daimi temsilcisine başka ülke üzerinden ödeme yapılsa dahi bu ödeme de tevkifata tabi olacak. Ödemeye teşkil eden belgenin vergi cennetinde düzenlenmesi stopaj için yeterlidi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DC4B2F0A-220B-4A3E-9BB6-04B47D6C59B5}" type="slidenum">
              <a:t>65</a:t>
            </a:fld>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684360" y="380880"/>
          <a:ext cx="7991280" cy="1679400"/>
        </p:xfrm>
        <a:graphic>
          <a:graphicData uri="http://schemas.openxmlformats.org/drawingml/2006/table">
            <a:tbl>
              <a:tblPr/>
              <a:tblGrid>
                <a:gridCol w="7991280"/>
              </a:tblGrid>
              <a:tr h="1679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35 – BAKANLAR KURULU, ZARARLI VERGİ REKABETİ UYGULAYAN ÜLKELERE YAPILAN BAZI ÖDEMELERDE STOPAJ ORANINI SIFIRA KADAR İNDİREBİLİR. (3)</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84" name=""/>
          <p:cNvGraphicFramePr/>
          <p:nvPr/>
        </p:nvGraphicFramePr>
        <p:xfrm>
          <a:off x="684360" y="2270160"/>
          <a:ext cx="7991280" cy="4111560"/>
        </p:xfrm>
        <a:graphic>
          <a:graphicData uri="http://schemas.openxmlformats.org/drawingml/2006/table">
            <a:tbl>
              <a:tblPr/>
              <a:tblGrid>
                <a:gridCol w="7991280"/>
              </a:tblGrid>
              <a:tr h="4111560">
                <a:tc>
                  <a:txBody>
                    <a:bodyPr lIns="360000" rIns="90000" tIns="46800" bIns="46800" anchor="ctr">
                      <a:noAutofit/>
                    </a:bodyPr>
                    <a:p>
                      <a:pPr lvl="1" marL="441360" indent="-262080">
                        <a:spcBef>
                          <a:spcPts val="476"/>
                        </a:spcBef>
                        <a:spcAft>
                          <a:spcPts val="349"/>
                        </a:spcAft>
                        <a:buClr>
                          <a:srgbClr val="000000"/>
                        </a:buClr>
                        <a:buFont typeface="Arial"/>
                        <a:buChar char="o"/>
                        <a:tabLst>
                          <a:tab algn="l" pos="108252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akanlar Kurulu’nun Stopaj Oranını sıfıra kadar indirme Yetkisi olan ödemeler;</a:t>
                      </a:r>
                      <a:endParaRPr b="0" lang="en-US" sz="1900" spc="-1" strike="noStrike">
                        <a:solidFill>
                          <a:srgbClr val="000000"/>
                        </a:solidFill>
                        <a:latin typeface="Arial"/>
                      </a:endParaRPr>
                    </a:p>
                    <a:p>
                      <a:pPr lvl="1" marL="441360" indent="-262080">
                        <a:spcBef>
                          <a:spcPts val="476"/>
                        </a:spcBef>
                        <a:spcAft>
                          <a:spcPts val="349"/>
                        </a:spcAft>
                        <a:buClr>
                          <a:srgbClr val="000000"/>
                        </a:buClr>
                        <a:buFont typeface="Arial"/>
                        <a:buChar char="o"/>
                        <a:tabLst>
                          <a:tab algn="l" pos="108252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msaline uygun fiyatlarla alınan mal ve iştirak hisseleri için yapılan ödemeler,</a:t>
                      </a:r>
                      <a:endParaRPr b="0" lang="en-US" sz="1900" spc="-1" strike="noStrike">
                        <a:solidFill>
                          <a:srgbClr val="000000"/>
                        </a:solidFill>
                        <a:latin typeface="Arial"/>
                      </a:endParaRPr>
                    </a:p>
                    <a:p>
                      <a:pPr lvl="1" marL="441360" indent="-262080" algn="just">
                        <a:spcBef>
                          <a:spcPts val="476"/>
                        </a:spcBef>
                        <a:spcAft>
                          <a:spcPts val="349"/>
                        </a:spcAft>
                        <a:buClr>
                          <a:srgbClr val="000000"/>
                        </a:buClr>
                        <a:buFont typeface="Arial"/>
                        <a:buChar char="o"/>
                        <a:tabLst>
                          <a:tab algn="l" pos="108252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msaline uygun fiyatlarla deniz ve hava ulaştırma araçlarının kiralanması için yapılan ödemeler,</a:t>
                      </a:r>
                      <a:endParaRPr b="0" lang="en-US" sz="1900" spc="-1" strike="noStrike">
                        <a:solidFill>
                          <a:srgbClr val="000000"/>
                        </a:solidFill>
                        <a:latin typeface="Arial"/>
                      </a:endParaRPr>
                    </a:p>
                    <a:p>
                      <a:pPr lvl="1" marL="441360" indent="-262080" algn="just">
                        <a:spcBef>
                          <a:spcPts val="476"/>
                        </a:spcBef>
                        <a:spcAft>
                          <a:spcPts val="349"/>
                        </a:spcAft>
                        <a:buClr>
                          <a:srgbClr val="000000"/>
                        </a:buClr>
                        <a:buFont typeface="Arial"/>
                        <a:buChar char="o"/>
                        <a:tabLst>
                          <a:tab algn="l" pos="108252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şin tamamlanabilmesi bakımından zorunluluk arz eden geçiş ücreti, liman ücreti gibi ödemeler,</a:t>
                      </a:r>
                      <a:endParaRPr b="0" lang="en-US" sz="1900" spc="-1" strike="noStrike">
                        <a:solidFill>
                          <a:srgbClr val="000000"/>
                        </a:solidFill>
                        <a:latin typeface="Arial"/>
                      </a:endParaRPr>
                    </a:p>
                    <a:p>
                      <a:pPr lvl="1" marL="441360" indent="-262080" algn="just">
                        <a:spcBef>
                          <a:spcPts val="476"/>
                        </a:spcBef>
                        <a:spcAft>
                          <a:spcPts val="349"/>
                        </a:spcAft>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FF503E1E-822E-4A12-8401-C2F35B8FC464}" type="slidenum">
              <a:t>66</a:t>
            </a:fld>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684360" y="309600"/>
          <a:ext cx="7991280" cy="2076480"/>
        </p:xfrm>
        <a:graphic>
          <a:graphicData uri="http://schemas.openxmlformats.org/drawingml/2006/table">
            <a:tbl>
              <a:tblPr/>
              <a:tblGrid>
                <a:gridCol w="7991280"/>
              </a:tblGrid>
              <a:tr h="20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35 – BAKANLAR KURULU, ZARARLI VERGİ REKABETİ UYGULAYAN ÜLKELERE YAPILAN BAZI ÖDEMELERDE STOPAJ ORANINI SIFIRA KADAR İNDİREBİLİR. (4)</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KVK. MD.30/7)</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86" name=""/>
          <p:cNvGraphicFramePr/>
          <p:nvPr/>
        </p:nvGraphicFramePr>
        <p:xfrm>
          <a:off x="684360" y="2270160"/>
          <a:ext cx="7991280" cy="4111560"/>
        </p:xfrm>
        <a:graphic>
          <a:graphicData uri="http://schemas.openxmlformats.org/drawingml/2006/table">
            <a:tbl>
              <a:tblPr/>
              <a:tblGrid>
                <a:gridCol w="7991280"/>
              </a:tblGrid>
              <a:tr h="4111560">
                <a:tc>
                  <a:txBody>
                    <a:bodyPr lIns="360000" rIns="90000" tIns="46800" bIns="46800" anchor="ctr">
                      <a:noAutofit/>
                    </a:bodyPr>
                    <a:p>
                      <a:pPr marL="719280" indent="-54468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şağıdaki ödemeler stopaja tabi değildir:</a:t>
                      </a:r>
                      <a:endParaRPr b="0" lang="en-US" sz="1900" spc="-1" strike="noStrike">
                        <a:solidFill>
                          <a:srgbClr val="000000"/>
                        </a:solidFill>
                        <a:latin typeface="Arial"/>
                      </a:endParaRPr>
                    </a:p>
                    <a:p>
                      <a:pPr marL="719280" indent="-544680" algn="just">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Yurtdışındaki finans kuruluşlarından temin edilen borçlanmalara ilişkin ana para, faiz ve kâr payı ödemeleri,</a:t>
                      </a:r>
                      <a:endParaRPr b="0" lang="en-US" sz="1900" spc="-1" strike="noStrike">
                        <a:solidFill>
                          <a:srgbClr val="000000"/>
                        </a:solidFill>
                        <a:latin typeface="Arial"/>
                      </a:endParaRPr>
                    </a:p>
                    <a:p>
                      <a:pPr marL="719280" indent="-544680" algn="just">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Sigorta ve reasürans ödemeleri, </a:t>
                      </a:r>
                      <a:endParaRPr b="0" lang="en-US" sz="1900" spc="-1" strike="noStrike">
                        <a:solidFill>
                          <a:srgbClr val="000000"/>
                        </a:solidFill>
                        <a:latin typeface="Arial"/>
                      </a:endParaRPr>
                    </a:p>
                    <a:p>
                      <a:pPr marL="719280" indent="-544680" algn="just">
                        <a:spcBef>
                          <a:spcPts val="476"/>
                        </a:spcBef>
                        <a:spcAft>
                          <a:spcPts val="349"/>
                        </a:spcAft>
                        <a:buClr>
                          <a:srgbClr val="e82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inans kuruluşlarından kasıt mukimi bulunduğu ülke kanunlarına göre münhasıran finansal kaynak sağlayan kuruluşların anlaşılması gerekir.</a:t>
                      </a:r>
                      <a:endParaRPr b="0" lang="en-US" sz="1900" spc="-1" strike="noStrike">
                        <a:solidFill>
                          <a:srgbClr val="000000"/>
                        </a:solidFill>
                        <a:latin typeface="Arial"/>
                      </a:endParaRPr>
                    </a:p>
                    <a:p>
                      <a:pPr marL="719280" indent="-544680" algn="just">
                        <a:spcBef>
                          <a:spcPts val="476"/>
                        </a:spcBef>
                        <a:spcAft>
                          <a:spcPts val="349"/>
                        </a:spcAft>
                        <a:buClr>
                          <a:srgbClr val="e82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lişkili şirketlere finansman temin eden şirketler bu kapsamda değerlendirilmeyecektir.</a:t>
                      </a:r>
                      <a:endParaRPr b="0" lang="en-US" sz="1900" spc="-1" strike="noStrike">
                        <a:solidFill>
                          <a:srgbClr val="000000"/>
                        </a:solidFill>
                        <a:latin typeface="Arial"/>
                      </a:endParaRPr>
                    </a:p>
                    <a:p>
                      <a:pPr marL="719280" indent="-54468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Bu stopaja tabi tutulan ödemeler Gelir ve Kurumlar Vergisi Kanununu göre ayrıca vergi kesintisine tabi tutulmaz.</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8717C914-3840-45DF-B8F3-4223DD39532E}" type="slidenum">
              <a:t>67</a:t>
            </a:fld>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7" name=""/>
          <p:cNvGraphicFramePr/>
          <p:nvPr/>
        </p:nvGraphicFramePr>
        <p:xfrm>
          <a:off x="684360" y="622440"/>
          <a:ext cx="7991280" cy="1282680"/>
        </p:xfrm>
        <a:graphic>
          <a:graphicData uri="http://schemas.openxmlformats.org/drawingml/2006/table">
            <a:tbl>
              <a:tblPr/>
              <a:tblGrid>
                <a:gridCol w="79912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6 – TAM MÜKELLEF KURUMLARA YAPILAN ÖDEMELERDE STOPAJ (1)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adde 15) </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88" name=""/>
          <p:cNvGraphicFramePr/>
          <p:nvPr/>
        </p:nvGraphicFramePr>
        <p:xfrm>
          <a:off x="684360" y="2054160"/>
          <a:ext cx="7991280" cy="4111560"/>
        </p:xfrm>
        <a:graphic>
          <a:graphicData uri="http://schemas.openxmlformats.org/drawingml/2006/table">
            <a:tbl>
              <a:tblPr/>
              <a:tblGrid>
                <a:gridCol w="7991280"/>
              </a:tblGrid>
              <a:tr h="4111560">
                <a:tc>
                  <a:txBody>
                    <a:bodyPr lIns="360000" rIns="90000" tIns="46800" bIns="46800" anchor="ctr">
                      <a:noAutofit/>
                    </a:bodyPr>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eni Kurumlar Vergisi Kanununda kurumları ilgilendiren ödemelerden yapılan stopaj, kendi içinde düzenlenmiş, Gelir Vergisi Kanununun 94 üncü maddesinden kurumlara ait stopaj hükümleri çıkarılmıştı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opaj yapmakla sorumlu olanlar, Gelir Vergisi Kanununun 94 üncü maddesinde belirtilen sorumlularla aynıdı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opaj oranı genelde % 15’d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akanlar Kurulu, % 15 stopaj oranını, kurumlar vergisi oranı olan % 20 oranına kadar artırmaya veya sıfıra kadar indirmeye yetkilidi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1E04B75C-5610-4AF5-813C-387F2120B2E5}" type="slidenum">
              <a:t>68</a:t>
            </a:fld>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684360" y="345960"/>
          <a:ext cx="7991280" cy="1282680"/>
        </p:xfrm>
        <a:graphic>
          <a:graphicData uri="http://schemas.openxmlformats.org/drawingml/2006/table">
            <a:tbl>
              <a:tblPr/>
              <a:tblGrid>
                <a:gridCol w="79912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6 - TAM MÜKELLEF KURUMLARA YAPILAN ÖDEMELERDE STOPAJ (2)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adde 15) </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90" name=""/>
          <p:cNvGraphicFramePr/>
          <p:nvPr/>
        </p:nvGraphicFramePr>
        <p:xfrm>
          <a:off x="684360" y="1844640"/>
          <a:ext cx="7991280" cy="4111560"/>
        </p:xfrm>
        <a:graphic>
          <a:graphicData uri="http://schemas.openxmlformats.org/drawingml/2006/table">
            <a:tbl>
              <a:tblPr/>
              <a:tblGrid>
                <a:gridCol w="7991280"/>
              </a:tblGrid>
              <a:tr h="4111560">
                <a:tc>
                  <a:txBody>
                    <a:bodyPr lIns="360000" rIns="90000" tIns="46800" bIns="46800" anchor="ctr">
                      <a:noAutofit/>
                    </a:bodyPr>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akanlar Kurulu, 15 inci maddeye göre yeni oranlar belirleyinceye kadar, daha önce Gelir Vergisi Kanununun 94 üncü  maddesine göre yayınlanmış olan Bakanlar Kurulu Kararı ile belirlenen stopaj oranları uygulanmaya devam edecektir. Ancak, stopaj oranı yasal sınır olan % 20 kurumlar vergisi oranını aşamayacağından bu oranın üzerinde olanlar % 20 olarak uygulanacaktı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976357C2-A7D7-48AB-8ED3-84E7918446DD}" type="slidenum">
              <a:t>69</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466560" y="333360"/>
          <a:ext cx="8208720" cy="936720"/>
        </p:xfrm>
        <a:graphic>
          <a:graphicData uri="http://schemas.openxmlformats.org/drawingml/2006/table">
            <a:tbl>
              <a:tblPr/>
              <a:tblGrid>
                <a:gridCol w="8208720"/>
              </a:tblGrid>
              <a:tr h="93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5 - ORTAKLARIN VERGİ YÜKÜ</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53" name=""/>
          <p:cNvGraphicFramePr/>
          <p:nvPr/>
        </p:nvGraphicFramePr>
        <p:xfrm>
          <a:off x="446040" y="1460520"/>
          <a:ext cx="8158320" cy="4921200"/>
        </p:xfrm>
        <a:graphic>
          <a:graphicData uri="http://schemas.openxmlformats.org/drawingml/2006/table">
            <a:tbl>
              <a:tblPr/>
              <a:tblGrid>
                <a:gridCol w="3865680"/>
                <a:gridCol w="1496880"/>
                <a:gridCol w="1363680"/>
                <a:gridCol w="1432080"/>
              </a:tblGrid>
              <a:tr h="879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am Mükellef Gerçek Kişi</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r  Mükellef Gerçek Kişi</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r Mükellef Kuru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urum Kazancı</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saplanan Kurumlar Vergisi</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ğıtılacak Brüt Temettü</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lir Vergisi Kesintisi %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lir Vergisinden İstisna Edilen Tuta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yan Edilecek Temettü</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saplanan Gelir Vergisi %3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hsup Edilecek Gelir Vergisi</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Ödenecek Gelir Vergisi (14 - 1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am Vergi Yükü</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 (20+12+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 (20+1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 (20+1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le Geçe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100-3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8 (100-2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8 (100-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BBD49D1C-044D-458B-962D-F2A48DAF42AD}" type="slidenum">
              <a:t>7</a:t>
            </a:fld>
          </a:p>
        </p:txBody>
      </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1" name=""/>
          <p:cNvGraphicFramePr/>
          <p:nvPr/>
        </p:nvGraphicFramePr>
        <p:xfrm>
          <a:off x="684360" y="345960"/>
          <a:ext cx="7991280" cy="1282680"/>
        </p:xfrm>
        <a:graphic>
          <a:graphicData uri="http://schemas.openxmlformats.org/drawingml/2006/table">
            <a:tbl>
              <a:tblPr/>
              <a:tblGrid>
                <a:gridCol w="79912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6 - TAM MÜKELLEF KURUMLARA YAPILAN ÖDEMELERDE STOPAJ (2) (Madde 15)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92" name=""/>
          <p:cNvGraphicFramePr/>
          <p:nvPr/>
        </p:nvGraphicFramePr>
        <p:xfrm>
          <a:off x="684360" y="1844640"/>
          <a:ext cx="7991280" cy="5137200"/>
        </p:xfrm>
        <a:graphic>
          <a:graphicData uri="http://schemas.openxmlformats.org/drawingml/2006/table">
            <a:tbl>
              <a:tblPr/>
              <a:tblGrid>
                <a:gridCol w="7991280"/>
              </a:tblGrid>
              <a:tr h="5193720">
                <a:tc>
                  <a:txBody>
                    <a:bodyPr lIns="360000" rIns="90000" tIns="46800" bIns="46800" anchor="ctr">
                      <a:noAutofit/>
                    </a:bodyPr>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opaja tabi kazançlar ve stopaj oranları;</a:t>
                      </a:r>
                      <a:endParaRPr b="0" lang="en-US" sz="1900" spc="-1" strike="noStrike">
                        <a:solidFill>
                          <a:srgbClr val="000000"/>
                        </a:solidFill>
                        <a:latin typeface="Arial"/>
                      </a:endParaRPr>
                    </a:p>
                    <a:p>
                      <a:pPr marL="272880" indent="-272880">
                        <a:spcBef>
                          <a:spcPts val="476"/>
                        </a:spcBef>
                        <a:spcAft>
                          <a:spcPts val="349"/>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 Yıllara sari inşaat ve onarım işi için ödenen istihkaklar % 3,</a:t>
                      </a:r>
                      <a:endParaRPr b="0" lang="en-US" sz="1900" spc="-1" strike="noStrike">
                        <a:solidFill>
                          <a:srgbClr val="000000"/>
                        </a:solidFill>
                        <a:latin typeface="Arial"/>
                      </a:endParaRPr>
                    </a:p>
                    <a:p>
                      <a:pPr marL="272880" indent="-272880">
                        <a:spcBef>
                          <a:spcPts val="476"/>
                        </a:spcBef>
                        <a:spcAft>
                          <a:spcPts val="349"/>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 Kooperatiflere ait taşınmazları kiralanması dolayısıyla ödenen kiralar % 20,</a:t>
                      </a:r>
                      <a:endParaRPr b="0" lang="en-US" sz="1900" spc="-1" strike="noStrike">
                        <a:solidFill>
                          <a:srgbClr val="000000"/>
                        </a:solidFill>
                        <a:latin typeface="Arial"/>
                      </a:endParaRPr>
                    </a:p>
                    <a:p>
                      <a:pPr marL="272880" indent="-272880">
                        <a:spcBef>
                          <a:spcPts val="476"/>
                        </a:spcBef>
                        <a:spcAft>
                          <a:spcPts val="349"/>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Her nevi tahvil faizleri (GVK. Geçici 67 göre % 15)</a:t>
                      </a:r>
                      <a:endParaRPr b="0" lang="en-US" sz="1900" spc="-1" strike="noStrike">
                        <a:solidFill>
                          <a:srgbClr val="000000"/>
                        </a:solidFill>
                        <a:latin typeface="Arial"/>
                      </a:endParaRPr>
                    </a:p>
                    <a:p>
                      <a:pPr marL="272880" indent="-272880">
                        <a:spcBef>
                          <a:spcPts val="476"/>
                        </a:spcBef>
                        <a:spcAft>
                          <a:spcPts val="349"/>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Mevduat faizleri (GVK. Geçici 67 göre % 15)</a:t>
                      </a:r>
                      <a:endParaRPr b="0" lang="en-US" sz="1900" spc="-1" strike="noStrike">
                        <a:solidFill>
                          <a:srgbClr val="000000"/>
                        </a:solidFill>
                        <a:latin typeface="Arial"/>
                      </a:endParaRPr>
                    </a:p>
                    <a:p>
                      <a:pPr marL="272880" indent="-272880">
                        <a:spcBef>
                          <a:spcPts val="476"/>
                        </a:spcBef>
                        <a:spcAft>
                          <a:spcPts val="349"/>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Katılım bankalarınca katılım hesabı karşılığı ödenen kar payları (GVK. Geçici  67 göre % 15)</a:t>
                      </a:r>
                      <a:endParaRPr b="0" lang="en-US" sz="1900" spc="-1" strike="noStrike">
                        <a:solidFill>
                          <a:srgbClr val="000000"/>
                        </a:solidFill>
                        <a:latin typeface="Arial"/>
                      </a:endParaRPr>
                    </a:p>
                    <a:p>
                      <a:pPr marL="272880" indent="-272880">
                        <a:spcBef>
                          <a:spcPts val="476"/>
                        </a:spcBef>
                        <a:spcAft>
                          <a:spcPts val="349"/>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Kar-zarar ortaklığı belgesi karşılığı ödenen kar payları(GVK. Geçici 67 göre % 15)</a:t>
                      </a:r>
                      <a:endParaRPr b="0" lang="en-US" sz="1900" spc="-1" strike="noStrike">
                        <a:solidFill>
                          <a:srgbClr val="000000"/>
                        </a:solidFill>
                        <a:latin typeface="Arial"/>
                      </a:endParaRPr>
                    </a:p>
                    <a:p>
                      <a:pPr marL="272880" indent="-272880">
                        <a:spcBef>
                          <a:spcPts val="476"/>
                        </a:spcBef>
                        <a:spcAft>
                          <a:spcPts val="349"/>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Repo kazançları (GVK. Geçici  67 göre % 15)</a:t>
                      </a:r>
                      <a:endParaRPr b="0" lang="en-US" sz="1900" spc="-1" strike="noStrike">
                        <a:solidFill>
                          <a:srgbClr val="000000"/>
                        </a:solidFill>
                        <a:latin typeface="Arial"/>
                      </a:endParaRPr>
                    </a:p>
                    <a:p>
                      <a:pPr marL="272880" indent="-272880">
                        <a:spcBef>
                          <a:spcPts val="476"/>
                        </a:spcBef>
                        <a:spcAft>
                          <a:spcPts val="349"/>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Vergiden muaf tutulan kurumlara dağıtılan kar payları % 15</a:t>
                      </a:r>
                      <a:endParaRPr b="0" lang="en-US" sz="1900" spc="-1" strike="noStrike">
                        <a:solidFill>
                          <a:srgbClr val="000000"/>
                        </a:solidFill>
                        <a:latin typeface="Arial"/>
                      </a:endParaRPr>
                    </a:p>
                    <a:p>
                      <a:pPr marL="272880" indent="-272880">
                        <a:spcBef>
                          <a:spcPts val="476"/>
                        </a:spcBef>
                        <a:spcAft>
                          <a:spcPts val="349"/>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Fon portföy kazançları</a:t>
                      </a:r>
                      <a:endParaRPr b="0" lang="en-US" sz="1900" spc="-1" strike="noStrike">
                        <a:solidFill>
                          <a:srgbClr val="000000"/>
                        </a:solidFill>
                        <a:latin typeface="Arial"/>
                      </a:endParaRPr>
                    </a:p>
                    <a:p>
                      <a:pPr marL="272880" indent="-272880">
                        <a:spcBef>
                          <a:spcPts val="476"/>
                        </a:spcBef>
                        <a:spcAft>
                          <a:spcPts val="349"/>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0D61B18C-363C-4450-81C6-9BBF66F530E0}" type="slidenum">
              <a:t>70</a:t>
            </a:fld>
          </a:p>
        </p:txBody>
      </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684360" y="622440"/>
          <a:ext cx="7991280" cy="885600"/>
        </p:xfrm>
        <a:graphic>
          <a:graphicData uri="http://schemas.openxmlformats.org/drawingml/2006/table">
            <a:tbl>
              <a:tblPr/>
              <a:tblGrid>
                <a:gridCol w="7991280"/>
              </a:tblGrid>
              <a:tr h="885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7 - DAR MÜKELLEF KURUMLARA YAPILAN ÖDEMELERDE STOPAJ (Madde 30)</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94" name=""/>
          <p:cNvGraphicFramePr/>
          <p:nvPr/>
        </p:nvGraphicFramePr>
        <p:xfrm>
          <a:off x="684360" y="1743120"/>
          <a:ext cx="7991280" cy="4637160"/>
        </p:xfrm>
        <a:graphic>
          <a:graphicData uri="http://schemas.openxmlformats.org/drawingml/2006/table">
            <a:tbl>
              <a:tblPr/>
              <a:tblGrid>
                <a:gridCol w="7991280"/>
              </a:tblGrid>
              <a:tr h="4669920">
                <a:tc>
                  <a:txBody>
                    <a:bodyPr lIns="360000" rIns="90000" tIns="46800" bIns="46800" anchor="ctr">
                      <a:noAutofit/>
                    </a:bodyPr>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ar mükellef kurumlara yapılan ödemelerden yapılacak stopaj, Kanunun 30 uncu maddesinde düzenlenmişt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opaj oranı Kanunda % 15 olarak belirlenmişt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akanlar Kuruluna stopaj oranını bir kat artırma, sıfıra kadar indirme yetkisi verilmişt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ergi cenneti olarak Bakanlar Kurulunca belirlenen ülkelerde yerleşik olan veya faaliyette bulunan dar mükellef kurumlara yapılan ödemelerinden bu madde hükmüne göre % 30 stopaj yapılmaktadı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ergi kesintisi brüt tutar üzerinden yapılı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akanlar Kurulu stopaj oranlarını belirleyinceye kadar, 5422 sayılı Kurumlar Vergisi Kanununun 24 üncü maddesine göre çıkarılmış Bakanlar Kurulu Kararnamelerinde belirlenen oranların aynen uygulanmasına devam edilecekti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9D0BCB1E-5663-45E9-AACD-A0FE10712CF3}" type="slidenum">
              <a:t>71</a:t>
            </a:fld>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684360" y="622440"/>
          <a:ext cx="7991280" cy="885600"/>
        </p:xfrm>
        <a:graphic>
          <a:graphicData uri="http://schemas.openxmlformats.org/drawingml/2006/table">
            <a:tbl>
              <a:tblPr/>
              <a:tblGrid>
                <a:gridCol w="7991280"/>
              </a:tblGrid>
              <a:tr h="885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7-DAR MÜKELLEF KURUMLARA YAPILAN (2) ÖDEMELERDE STOPAJ (Madde 30)</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96" name=""/>
          <p:cNvGraphicFramePr/>
          <p:nvPr/>
        </p:nvGraphicFramePr>
        <p:xfrm>
          <a:off x="684360" y="1743120"/>
          <a:ext cx="7991280" cy="6270480"/>
        </p:xfrm>
        <a:graphic>
          <a:graphicData uri="http://schemas.openxmlformats.org/drawingml/2006/table">
            <a:tbl>
              <a:tblPr/>
              <a:tblGrid>
                <a:gridCol w="7991280"/>
              </a:tblGrid>
              <a:tr h="6301800">
                <a:tc>
                  <a:txBody>
                    <a:bodyPr lIns="360000" rIns="90000" tIns="46800" bIns="46800" anchor="ctr">
                      <a:noAutofit/>
                    </a:bodyPr>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Dar mükellef kurumların Türkiye’de işyeri veya daimi temsilci bulundurmaları halinde bu işyeri veya daimi temsilci vasıtasıyla elde ettikleri serbest meslek kazancı gayrimenkul sermaye iradı ve menkul sermaye iratlarından stopaj yapılmayacaktı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Tam mükellef kurumların tevkifata tabi kazanç ve iratlarını, bir dar mükellef kurumun elde etmesi halinde Türkiye’de işyeri veya daimi temsilcisi olsun olmasın stopaj yapılı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Telif, imtiyaz, ihtira, işletme ticaret ünvanı, marka ve benzeri gayrimaddi hakların satışı, devir ve temliki karşılığında yapılan ödemeler, bu kazanç ve iratların ticari kazanca bağlı elde edilip edilmediğine bakılmaksızın stopaja tabid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Dar mükellefiyete tabi kurumların, Türkiye’de işyeri veya daimi temsilcisi bulunmaması veya bulunmakla birlikte bu işyerinde veya daimi temsilci aracılığı ile elde edilmemiş olan serbest meslek kazancı, menkul ve gayrimenkul sermaye iradı stopaja tabid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Yabancı bankaların, Türkiye’de bulunan şubelerinin bankacılık faaliyeti çerçevesinde elde ettikleri menkul sermaye iratları tevkifata tabi değildi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B4E926EC-AFB0-4701-A25D-000E954754FE}" type="slidenum">
              <a:t>72</a:t>
            </a:fld>
          </a:p>
        </p:txBody>
      </p:sp>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684360" y="622440"/>
          <a:ext cx="7991280" cy="1282680"/>
        </p:xfrm>
        <a:graphic>
          <a:graphicData uri="http://schemas.openxmlformats.org/drawingml/2006/table">
            <a:tbl>
              <a:tblPr/>
              <a:tblGrid>
                <a:gridCol w="79912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8-YURT İÇİNDE KESİLEN VE ÖDENEN VERGİLERİN MAHSUBU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adde 34)</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198" name=""/>
          <p:cNvGraphicFramePr/>
          <p:nvPr/>
        </p:nvGraphicFramePr>
        <p:xfrm>
          <a:off x="684360" y="2060640"/>
          <a:ext cx="7991280" cy="5014800"/>
        </p:xfrm>
        <a:graphic>
          <a:graphicData uri="http://schemas.openxmlformats.org/drawingml/2006/table">
            <a:tbl>
              <a:tblPr/>
              <a:tblGrid>
                <a:gridCol w="7991280"/>
              </a:tblGrid>
              <a:tr h="5014800">
                <a:tc>
                  <a:txBody>
                    <a:bodyPr lIns="360000" rIns="90000" tIns="46800" bIns="46800" anchor="ctr">
                      <a:noAutofit/>
                    </a:bodyPr>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Beyannamede gösterilen kazançlardan Kanunun 15 ve 30 uncu maddelerine göre kesinti suretiyle ödenen vergilerin mahsubu açıkça belirtilmekted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Beyannameye dahil kazançlardan, Gelir Vergisi Kanununun geçici 67 nci maddesine göre stopaj yapılmış ise kurumlar vergisinden mahsup edilecek.</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Beyannameye dahil kazançlar üzerinden GVK. Geçici 67 nci maddesinin (2) ve (3) numaralı fıkralarına göre (Her nevi tahvil faizleri ile tevkifata tabi tutulmaksızın alınan menkul kıymetlerin alış ve satışı arasındaki fark) vergi kesintisi yapılmış ise, kesinti suretiyle ödenen verginin, kazancın kesinti oranı ile çarpımı sonucu bulunan tutarı aşan kısmı mahsup edilemez.</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Hayat sigorta şirketlerinde matematik karşılıkların yatırıma yönlendirilmesinden elde edilen kazançlardan yapılan kesintiler, kurumlar vergisinden mahsup edilebilecekti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CC27CFB5-493E-43A5-A764-68D9FC97CA97}" type="slidenum">
              <a:t>73</a:t>
            </a:fld>
          </a:p>
        </p:txBody>
      </p:sp>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684360" y="260280"/>
          <a:ext cx="7991280" cy="1282680"/>
        </p:xfrm>
        <a:graphic>
          <a:graphicData uri="http://schemas.openxmlformats.org/drawingml/2006/table">
            <a:tbl>
              <a:tblPr/>
              <a:tblGrid>
                <a:gridCol w="79912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9-YURTDIŞINDA ÖDENEN VERGİLERİN MAHSUP EDİLMESİ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adde 33) (1) </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200" name=""/>
          <p:cNvGraphicFramePr/>
          <p:nvPr/>
        </p:nvGraphicFramePr>
        <p:xfrm>
          <a:off x="684360" y="1700280"/>
          <a:ext cx="7991280" cy="5014800"/>
        </p:xfrm>
        <a:graphic>
          <a:graphicData uri="http://schemas.openxmlformats.org/drawingml/2006/table">
            <a:tbl>
              <a:tblPr/>
              <a:tblGrid>
                <a:gridCol w="7991280"/>
              </a:tblGrid>
              <a:tr h="5039280">
                <a:tc>
                  <a:txBody>
                    <a:bodyPr lIns="360000" rIns="90000" tIns="46800" bIns="46800" anchor="ctr">
                      <a:noAutofit/>
                    </a:bodyPr>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abancı ülkelerde ödenen kurumlar vergisi ve benzeri vergiler, bu kazançların Türkiye’de beyanı halinde, hesaplanan kurumlar vergisinden eskiden olduğu gibi mahsup edilmeye devam edilecekt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dirim konusu yapılacak yurtdışında ödenen vergi, beyan edilen yurtdışı kazanca %20 kurumlar vergisi oranının uygulanması sonucu bulunan tutarı aşamaz.</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Zarar eden kurumlar, hesaplanan kurumlar vergileri olmadığı için ilgili dönemde kazançları  üzerinden yurtdışında ödedikleri vergileri mahsup edemiyorla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Zarar mahsubu veya istisnalar sonucu ilgili yılda vergi tabi kurum kazancının oluşmaması nedeniyle beyannameye dahil yurtdışı kazançlar üzerinden mahallinde ödenen vergilerin Türkiye’de tamamen veya kısmen indirilmeyen kısmının, bu dönemi izleyen üçüncü hesap döneminin sonuna kadar indirilmesine imkan sağlanıyo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A0D3EE60-EB58-4C49-8F70-4243A0BCF303}" type="slidenum">
              <a:t>74</a:t>
            </a:fld>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1" name=""/>
          <p:cNvGraphicFramePr/>
          <p:nvPr/>
        </p:nvGraphicFramePr>
        <p:xfrm>
          <a:off x="612720" y="115920"/>
          <a:ext cx="7991280" cy="1282680"/>
        </p:xfrm>
        <a:graphic>
          <a:graphicData uri="http://schemas.openxmlformats.org/drawingml/2006/table">
            <a:tbl>
              <a:tblPr/>
              <a:tblGrid>
                <a:gridCol w="79912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9-YURTDIŞINDA ÖDENEN VERGİLERİN MAHSUP EDİLMESİ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adde 33) (2)</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202" name=""/>
          <p:cNvGraphicFramePr/>
          <p:nvPr/>
        </p:nvGraphicFramePr>
        <p:xfrm>
          <a:off x="612720" y="1482840"/>
          <a:ext cx="7991640" cy="5114880"/>
        </p:xfrm>
        <a:graphic>
          <a:graphicData uri="http://schemas.openxmlformats.org/drawingml/2006/table">
            <a:tbl>
              <a:tblPr/>
              <a:tblGrid>
                <a:gridCol w="7991640"/>
              </a:tblGrid>
              <a:tr h="5144040">
                <a:tc>
                  <a:txBody>
                    <a:bodyPr lIns="360000" rIns="90000" tIns="46800" bIns="46800" anchor="ctr">
                      <a:noAutofit/>
                    </a:bodyPr>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yrıca bir başka düzenlemeyle, yurtdışında ödenen vergilerin geçici vergi dönemleri itibariyle geçici vergiden mahsup edilebileceği hususu açıklığa kavuşturuluyo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ahsup edilebilecek vergi, yurtdışı kazanca geçici vergi oranının uygulanması ile bulunacak tutardan fazla olamayacak.</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abancı para ile ödenen vergilere, bunların ilgili olduğu kazancın Türkiye’de sonuç hesaplarına intikal ettirildiği tarihteki kur uygulanacak.</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urt dışında elde edilen kazançların Türkiye’de kurumlar vergisinden istisna olması halinde, yurt dışında ödenen vergilerin Türkiye’de vergilendirilen diğer kazançlar üzerinden hesaplanan kurumlar vergisinden indirimi mümkün değild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ontrol edilen yurtdışı iştirakin yurtdışında mukim olduğu ülkede ödediği vergiler, bu şirketin Türkiye’de vergilenecek kazancı üzerinden hesaplanan kurumlar vergisinden indirilecek.</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25BD4FA5-3DC2-4B4C-920D-024098C64D65}" type="slidenum">
              <a:t>75</a:t>
            </a:fld>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3" name=""/>
          <p:cNvGraphicFramePr/>
          <p:nvPr/>
        </p:nvGraphicFramePr>
        <p:xfrm>
          <a:off x="612720" y="115920"/>
          <a:ext cx="7991280" cy="1282680"/>
        </p:xfrm>
        <a:graphic>
          <a:graphicData uri="http://schemas.openxmlformats.org/drawingml/2006/table">
            <a:tbl>
              <a:tblPr/>
              <a:tblGrid>
                <a:gridCol w="7991280"/>
              </a:tblGrid>
              <a:tr h="12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9-YURTDIŞINDA ÖDENEN VERGİLERİN MAHSUP EDİLMESİ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adde 33) (2)</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204" name=""/>
          <p:cNvGraphicFramePr/>
          <p:nvPr/>
        </p:nvGraphicFramePr>
        <p:xfrm>
          <a:off x="612720" y="1482840"/>
          <a:ext cx="7991640" cy="4336920"/>
        </p:xfrm>
        <a:graphic>
          <a:graphicData uri="http://schemas.openxmlformats.org/drawingml/2006/table">
            <a:tbl>
              <a:tblPr/>
              <a:tblGrid>
                <a:gridCol w="7991640"/>
              </a:tblGrid>
              <a:tr h="4355640">
                <a:tc>
                  <a:txBody>
                    <a:bodyPr lIns="360000" rIns="90000" tIns="46800" bIns="46800" anchor="ctr">
                      <a:noAutofit/>
                    </a:bodyPr>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am mükellef kurumların sermayesinin en az % 25’ine sahip olduğu yurtdışı iştiraklerinden elde ettiği kar payları üzerinden Türkiye’de ödenecek kurumlar vergisinden, kar payı dağıtımına kaynak oluşturan kazanç üzerinden bulunduğu ülkede ödenen vergilerin, kar payına isabet eden kısmı mahsup edilebil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urt dışında ödenen vergilerin mahsup edilebilmesi için ödendiğinin yetkili makamlardan alınarak mahallindeki Türk elçilik ve konsolosluklarına tasdik ettirilen belgelerle tevsiki gerek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u belgeler, kurumlar vergisi tarhiyatı sırasında ibraz edilmez ise yurt dışı kazanç üzerinden hesaplanan vergi 1 yıl ertelenir. Bu sürede ibraz edilirse vergi terkin edilir. Mücbir sebep hariç bu sürede belge ibraz edilmez ise tahakkuk eden vergi için gecikme zammı hesaplanı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28D80089-635E-474B-88F4-54E12FC5572D}" type="slidenum">
              <a:t>76</a:t>
            </a:fld>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684360" y="260280"/>
          <a:ext cx="7991280" cy="885960"/>
        </p:xfrm>
        <a:graphic>
          <a:graphicData uri="http://schemas.openxmlformats.org/drawingml/2006/table">
            <a:tbl>
              <a:tblPr/>
              <a:tblGrid>
                <a:gridCol w="7991280"/>
              </a:tblGrid>
              <a:tr h="885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40 - KURUMLAR VERGİSİNDE </a:t>
                      </a:r>
                      <a:br>
                        <a:rPr sz="2600"/>
                      </a:br>
                      <a:r>
                        <a:rPr b="1" lang="en-US" sz="2600" spc="-1" strike="noStrike">
                          <a:solidFill>
                            <a:srgbClr val="000000"/>
                          </a:solidFill>
                          <a:latin typeface="Times New Roman"/>
                        </a:rPr>
                        <a:t>BEYAN ve ÖDEME SÜRESİ</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206" name=""/>
          <p:cNvGraphicFramePr/>
          <p:nvPr/>
        </p:nvGraphicFramePr>
        <p:xfrm>
          <a:off x="684360" y="1268280"/>
          <a:ext cx="7991280" cy="5185080"/>
        </p:xfrm>
        <a:graphic>
          <a:graphicData uri="http://schemas.openxmlformats.org/drawingml/2006/table">
            <a:tbl>
              <a:tblPr/>
              <a:tblGrid>
                <a:gridCol w="7991280"/>
              </a:tblGrid>
              <a:tr h="5185080">
                <a:tc>
                  <a:txBody>
                    <a:bodyPr lIns="360000" rIns="90000" tIns="46800" bIns="46800" anchor="ctr">
                      <a:noAutofit/>
                    </a:bodyPr>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Kurumlar vergisi beyannamesi; hesap döneminin kapandığı ayı izleyen dördüncü ayın birinci gününden yirmibeşinci gününe kadar verilecekt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Özel ödeme süreleri hariç olmak üzere vergiler, “beyannamenin verildiği ayın sonuna kadar” ödenebilmekted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Tasfiye, devir ve bölünmeye ilişkin beyannameler, bu işlemlerin sonuçlanmasını takip eden 30 gün içinde verilecek ve aynı süre içinde ödenecekt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Özel beyanname ile beyanı gereken dar mükelleflerin elde ettiği kazançlar, elde edilme tarihinden itibaren 15 gün içinde özel beyanname ile beyan edilecek ve aynı süre içinde ödenecektir.</a:t>
                      </a:r>
                      <a:endParaRPr b="0" lang="en-US" sz="1900" spc="-1" strike="noStrike">
                        <a:solidFill>
                          <a:srgbClr val="000000"/>
                        </a:solidFill>
                        <a:latin typeface="Arial"/>
                      </a:endParaRPr>
                    </a:p>
                    <a:p>
                      <a:pPr marL="272880" indent="-272880">
                        <a:spcBef>
                          <a:spcPts val="476"/>
                        </a:spcBef>
                        <a:spcAft>
                          <a:spcPts val="349"/>
                        </a:spcAft>
                        <a:buClr>
                          <a:srgbClr val="000000"/>
                        </a:buClr>
                        <a:buFont typeface="Arial"/>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Kanunun 15 ve 30 uncu maddelerine göre yapılan tevkifata ait muhtasar beyanname, daha önce olduğu gibi tevkifatın yapıldığı ayı izleyen ayın 20 nci günü akşamına kadar verilecek ve vergiler aynı süre içinde ödenecektir </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672AB149-6ADF-47B5-A46E-3EC5BFF38679}" type="slidenum">
              <a:t>77</a:t>
            </a:fld>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611280" y="620640"/>
          <a:ext cx="8064360" cy="885960"/>
        </p:xfrm>
        <a:graphic>
          <a:graphicData uri="http://schemas.openxmlformats.org/drawingml/2006/table">
            <a:tbl>
              <a:tblPr/>
              <a:tblGrid>
                <a:gridCol w="8064360"/>
              </a:tblGrid>
              <a:tr h="885960">
                <a:tc>
                  <a:txBody>
                    <a:bodyPr lIns="90000" rIns="90000" tIns="46800" bIns="46800" anchor="ctr">
                      <a:noAutofit/>
                    </a:bodyPr>
                    <a:p>
                      <a:pPr algn="ctr">
                        <a:lnSpc>
                          <a:spcPct val="100000"/>
                        </a:lnSpc>
                        <a:spcBef>
                          <a:spcPts val="649"/>
                        </a:spcBef>
                        <a:spcAft>
                          <a:spcPts val="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Rockwell Condensed"/>
                        </a:rPr>
                        <a:t>41 - TASFİYE, DEVİR VE BİRLEŞMEYE İLİŞKİN DÜZENLEMELER (1)</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208" name=""/>
          <p:cNvGraphicFramePr/>
          <p:nvPr/>
        </p:nvGraphicFramePr>
        <p:xfrm>
          <a:off x="611280" y="1700280"/>
          <a:ext cx="8064360" cy="4925880"/>
        </p:xfrm>
        <a:graphic>
          <a:graphicData uri="http://schemas.openxmlformats.org/drawingml/2006/table">
            <a:tbl>
              <a:tblPr/>
              <a:tblGrid>
                <a:gridCol w="8064360"/>
              </a:tblGrid>
              <a:tr h="4959360">
                <a:tc>
                  <a:txBody>
                    <a:bodyPr lIns="360000" rIns="90000" tIns="46800" bIns="46800" anchor="ctr">
                      <a:noAutofit/>
                    </a:bodyPr>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asfiyeye </a:t>
                      </a:r>
                      <a:r>
                        <a:rPr b="1" lang="en-US" sz="1900" spc="-1" strike="noStrike">
                          <a:solidFill>
                            <a:srgbClr val="e82c00"/>
                          </a:solidFill>
                          <a:latin typeface="Arial"/>
                        </a:rPr>
                        <a:t>başlama</a:t>
                      </a:r>
                      <a:r>
                        <a:rPr b="1" lang="en-US" sz="1900" spc="-1" strike="noStrike">
                          <a:solidFill>
                            <a:srgbClr val="000000"/>
                          </a:solidFill>
                          <a:latin typeface="Arial"/>
                        </a:rPr>
                        <a:t> ve </a:t>
                      </a:r>
                      <a:r>
                        <a:rPr b="1" lang="en-US" sz="1900" spc="-1" strike="noStrike">
                          <a:solidFill>
                            <a:srgbClr val="e82c00"/>
                          </a:solidFill>
                          <a:latin typeface="Arial"/>
                        </a:rPr>
                        <a:t>bitiş</a:t>
                      </a:r>
                      <a:r>
                        <a:rPr b="1" lang="en-US" sz="1900" spc="-1" strike="noStrike">
                          <a:solidFill>
                            <a:srgbClr val="000000"/>
                          </a:solidFill>
                          <a:latin typeface="Arial"/>
                        </a:rPr>
                        <a:t> tarihleri ile </a:t>
                      </a:r>
                      <a:r>
                        <a:rPr b="1" lang="en-US" sz="1900" spc="-1" strike="noStrike">
                          <a:solidFill>
                            <a:srgbClr val="e82c00"/>
                          </a:solidFill>
                          <a:latin typeface="Arial"/>
                        </a:rPr>
                        <a:t>tasfiyeden vazgeçilmesi</a:t>
                      </a:r>
                      <a:r>
                        <a:rPr b="1" lang="en-US" sz="1900" spc="-1" strike="noStrike">
                          <a:solidFill>
                            <a:srgbClr val="000000"/>
                          </a:solidFill>
                          <a:latin typeface="Arial"/>
                        </a:rPr>
                        <a:t> durumuna ilişkin net belirlemeler yapılmıştır.</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una göre, tasfiye; kurumun tasfiyeye girmesine ilişkin genel kurul kararının tescil edildiği tarihte başlar ve tasfiye kararının tescil edildiği tarihte sona erer.</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asfiye, devir ve birleşmelerde beyanname verme süresi, 15 günden </a:t>
                      </a:r>
                      <a:r>
                        <a:rPr b="1" lang="en-US" sz="1900" spc="-1" strike="noStrike">
                          <a:solidFill>
                            <a:srgbClr val="e82c00"/>
                          </a:solidFill>
                          <a:latin typeface="Arial"/>
                        </a:rPr>
                        <a:t>30 güne</a:t>
                      </a:r>
                      <a:r>
                        <a:rPr b="1" lang="en-US" sz="1900" spc="-1" strike="noStrike">
                          <a:solidFill>
                            <a:srgbClr val="000000"/>
                          </a:solidFill>
                          <a:latin typeface="Arial"/>
                        </a:rPr>
                        <a:t> çıkarılmaktadır.</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asfiyenin zararla sonuçlanması halinde, önceki tasfiye dönemlerine doğru düzeltme yapılır ve önceki dönemlerde fazla ödenen vergi iade edilir.</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ihai tasfiye sonucunda matrah beyan edilmesi halinde, önceki tasfiye dönemlerinin düzeltilmesi söz konusu olamaz. Zarar varsa düzeltilir. </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anunda tasfiyeden vazgeçilmesi halinde yapılacak işlemler konusuna açıklık getirilmişti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17504506-8FAF-45DF-B99E-0CDD174ADA5A}" type="slidenum">
              <a:t>78</a:t>
            </a:fld>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541440" y="549360"/>
          <a:ext cx="8207280" cy="1008000"/>
        </p:xfrm>
        <a:graphic>
          <a:graphicData uri="http://schemas.openxmlformats.org/drawingml/2006/table">
            <a:tbl>
              <a:tblPr/>
              <a:tblGrid>
                <a:gridCol w="8207280"/>
              </a:tblGrid>
              <a:tr h="100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42 - TASFİYE, DEVİR VE BİRLEŞMEYE İLİŞKİN DÜZENLEMELER (2)</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210" name=""/>
          <p:cNvGraphicFramePr/>
          <p:nvPr/>
        </p:nvGraphicFramePr>
        <p:xfrm>
          <a:off x="539640" y="1917720"/>
          <a:ext cx="8209080" cy="4248000"/>
        </p:xfrm>
        <a:graphic>
          <a:graphicData uri="http://schemas.openxmlformats.org/drawingml/2006/table">
            <a:tbl>
              <a:tblPr/>
              <a:tblGrid>
                <a:gridCol w="8209080"/>
              </a:tblGrid>
              <a:tr h="4248000">
                <a:tc>
                  <a:txBody>
                    <a:bodyPr lIns="360000" rIns="90000" tIns="46800" bIns="46800" anchor="ctr">
                      <a:noAutofit/>
                    </a:bodyPr>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una göre, tasfiyeden vazgeçme kararı, kararın alındığı dönemin başından itibaren geçerli olacaktır. Bu durumda;</a:t>
                      </a:r>
                      <a:endParaRPr b="0" lang="en-US" sz="1900" spc="-1" strike="noStrike">
                        <a:solidFill>
                          <a:srgbClr val="000000"/>
                        </a:solidFill>
                        <a:latin typeface="Arial"/>
                      </a:endParaRPr>
                    </a:p>
                    <a:p>
                      <a:pPr marL="533520" indent="-533520">
                        <a:spcBef>
                          <a:spcPts val="476"/>
                        </a:spcBef>
                        <a:spcAft>
                          <a:spcPts val="349"/>
                        </a:spcAft>
                        <a:tabLst>
                          <a:tab algn="l" pos="0"/>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Bu tarihe kadar verilmiş olan tasfiye dönemi beyannameleri için herhangi bir işlem yapılmayacaktır.Bunlar normal faaliyet dönemi beyannamesi olarak kabul edilecektir.</a:t>
                      </a:r>
                      <a:endParaRPr b="0" lang="en-US" sz="1900" spc="-1" strike="noStrike">
                        <a:solidFill>
                          <a:srgbClr val="000000"/>
                        </a:solidFill>
                        <a:latin typeface="Arial"/>
                      </a:endParaRPr>
                    </a:p>
                    <a:p>
                      <a:pPr marL="533520" indent="-533520">
                        <a:spcBef>
                          <a:spcPts val="476"/>
                        </a:spcBef>
                        <a:spcAft>
                          <a:spcPts val="349"/>
                        </a:spcAft>
                        <a:tabLst>
                          <a:tab algn="l" pos="0"/>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Geçici Vergiye ilişkin yükümlülükler, tasfiyeden vazgeçilme kararının alındığı tarihi kapsayan geçici vergi dönemi başından itibaren başlayacaktır.</a:t>
                      </a:r>
                      <a:endParaRPr b="0" lang="en-US" sz="1900" spc="-1" strike="noStrike">
                        <a:solidFill>
                          <a:srgbClr val="000000"/>
                        </a:solidFill>
                        <a:latin typeface="Arial"/>
                      </a:endParaRPr>
                    </a:p>
                    <a:p>
                      <a:pPr marL="533520" indent="-533520">
                        <a:spcBef>
                          <a:spcPts val="476"/>
                        </a:spcBef>
                        <a:spcAft>
                          <a:spcPts val="349"/>
                        </a:spcAft>
                        <a:buClr>
                          <a:srgbClr val="e82c00"/>
                        </a:buClr>
                        <a:buFont typeface="Wingdings" charset="2"/>
                        <a:buChar char=""/>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47C53792-EE84-4B2D-9811-183D8EE24631}" type="slidenum">
              <a:t>79</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611280" y="333360"/>
          <a:ext cx="7993080" cy="936720"/>
        </p:xfrm>
        <a:graphic>
          <a:graphicData uri="http://schemas.openxmlformats.org/drawingml/2006/table">
            <a:tbl>
              <a:tblPr/>
              <a:tblGrid>
                <a:gridCol w="7993080"/>
              </a:tblGrid>
              <a:tr h="93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6 – GEÇİCİ VERGİ ORANI (1)</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55" name=""/>
          <p:cNvGraphicFramePr/>
          <p:nvPr/>
        </p:nvGraphicFramePr>
        <p:xfrm>
          <a:off x="611280" y="1484280"/>
          <a:ext cx="7993080" cy="4824360"/>
        </p:xfrm>
        <a:graphic>
          <a:graphicData uri="http://schemas.openxmlformats.org/drawingml/2006/table">
            <a:tbl>
              <a:tblPr/>
              <a:tblGrid>
                <a:gridCol w="7993080"/>
              </a:tblGrid>
              <a:tr h="4824360">
                <a:tc>
                  <a:txBody>
                    <a:bodyPr lIns="360000" rIns="90000" tIns="46800" bIns="46800" anchor="ctr">
                      <a:noAutofit/>
                    </a:bodyPr>
                    <a:p>
                      <a:pPr marL="533520" indent="-533520" algn="just">
                        <a:spcBef>
                          <a:spcPts val="476"/>
                        </a:spcBef>
                        <a:spcAft>
                          <a:spcPts val="349"/>
                        </a:spcAft>
                        <a:buClr>
                          <a:srgbClr val="e82c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eçici vergi, kurumlar vergisi oranında uygulanacağında %20 oranında hesaplanacaktır.</a:t>
                      </a:r>
                      <a:endParaRPr b="0" lang="en-US" sz="1900" spc="-1" strike="noStrike">
                        <a:solidFill>
                          <a:srgbClr val="000000"/>
                        </a:solidFill>
                        <a:latin typeface="Arial"/>
                      </a:endParaRPr>
                    </a:p>
                    <a:p>
                      <a:pPr marL="533520" indent="-533520" algn="just">
                        <a:spcBef>
                          <a:spcPts val="476"/>
                        </a:spcBef>
                        <a:spcAft>
                          <a:spcPts val="349"/>
                        </a:spcAft>
                        <a:buClr>
                          <a:srgbClr val="e82c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irinci geçici vergi (Ocak-Mart) dönemine ait geçici vergi %30 oranına göre hesaplanıp ödendi. Sonraki dönemlere ait geçici verginin %20 Oranında hesaplanıp ödenmesi gerekir.</a:t>
                      </a:r>
                      <a:endParaRPr b="0" lang="en-US" sz="1900" spc="-1" strike="noStrike">
                        <a:solidFill>
                          <a:srgbClr val="000000"/>
                        </a:solidFill>
                        <a:latin typeface="Arial"/>
                      </a:endParaRPr>
                    </a:p>
                    <a:p>
                      <a:pPr marL="533520" indent="-533520" algn="just">
                        <a:spcBef>
                          <a:spcPts val="476"/>
                        </a:spcBef>
                        <a:spcAft>
                          <a:spcPts val="349"/>
                        </a:spcAft>
                        <a:buClr>
                          <a:srgbClr val="e82c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0 oranındaki geçici vergi, 01.01.2006 tarihinden itibaren uygulanacağından, birinci geçici vergi döneminde, ödenen geçici verginin, müteakip dönemler için hesaplanan geçici vergiden mahsup edilmesi gerekir.</a:t>
                      </a:r>
                      <a:endParaRPr b="0" lang="en-US" sz="1900" spc="-1" strike="noStrike">
                        <a:solidFill>
                          <a:srgbClr val="000000"/>
                        </a:solidFill>
                        <a:latin typeface="Arial"/>
                      </a:endParaRPr>
                    </a:p>
                    <a:p>
                      <a:pPr marL="533520" indent="-533520" algn="just">
                        <a:spcBef>
                          <a:spcPts val="476"/>
                        </a:spcBef>
                        <a:spcAft>
                          <a:spcPts val="349"/>
                        </a:spcAft>
                        <a:buClr>
                          <a:srgbClr val="e82c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006 yılı içinde biten özel hesap döneminin geçici vergi dönemlerinde de aritmetik ortalamaya göre hesaplanan kurumlar vergisi oranı esas alınmıştı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93B7054B-FAFA-43FB-9B26-8B9F633B746A}" type="slidenum">
              <a:t>8</a:t>
            </a:fld>
          </a:p>
        </p:txBody>
      </p:sp>
    </p:spTree>
  </p:cSld>
  <p:transition>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1" name=""/>
          <p:cNvGraphicFramePr/>
          <p:nvPr/>
        </p:nvGraphicFramePr>
        <p:xfrm>
          <a:off x="541440" y="549360"/>
          <a:ext cx="8207280" cy="1008000"/>
        </p:xfrm>
        <a:graphic>
          <a:graphicData uri="http://schemas.openxmlformats.org/drawingml/2006/table">
            <a:tbl>
              <a:tblPr/>
              <a:tblGrid>
                <a:gridCol w="8207280"/>
              </a:tblGrid>
              <a:tr h="100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Rockwell Condensed"/>
                        </a:rPr>
                        <a:t>42 - TASFİYE, DEVİR VE BİRLEŞMEYE İLİŞKİN DÜZENLEMELER (3)</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212" name=""/>
          <p:cNvGraphicFramePr/>
          <p:nvPr/>
        </p:nvGraphicFramePr>
        <p:xfrm>
          <a:off x="539640" y="1917720"/>
          <a:ext cx="8209080" cy="5014800"/>
        </p:xfrm>
        <a:graphic>
          <a:graphicData uri="http://schemas.openxmlformats.org/drawingml/2006/table">
            <a:tbl>
              <a:tblPr/>
              <a:tblGrid>
                <a:gridCol w="8209080"/>
              </a:tblGrid>
              <a:tr h="5039280">
                <a:tc>
                  <a:txBody>
                    <a:bodyPr lIns="360000" rIns="90000" tIns="46800" bIns="46800" anchor="ctr">
                      <a:noAutofit/>
                    </a:bodyPr>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İktisadi Kamu Müesseseleri ile dernek ve vakıflara ait iktisadi işletmeler tüzel kişiliği yoksa şahıs işletmeleri gibi işin bırakılması işlemine tabi tutularak mükellefiyeti sona erecek tasfiye hükümleri uygulanmayacak. Tüzel kişiliği varsa tasfiye hükümleri, özel kuruluş kanununda hüküm varsa bu kanunda yer alan hükümlere göre tasfiye edielcektir.</a:t>
                      </a:r>
                      <a:endParaRPr b="0" lang="en-US" sz="1900" spc="-1" strike="noStrike">
                        <a:solidFill>
                          <a:srgbClr val="000000"/>
                        </a:solidFill>
                        <a:latin typeface="Arial"/>
                      </a:endParaRPr>
                    </a:p>
                    <a:p>
                      <a:pPr marL="533520" indent="-533520">
                        <a:spcBef>
                          <a:spcPts val="476"/>
                        </a:spcBef>
                        <a:spcAft>
                          <a:spcPts val="349"/>
                        </a:spcAft>
                        <a:tabLst>
                          <a:tab algn="l" pos="0"/>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        </a:t>
                      </a:r>
                      <a:r>
                        <a:rPr b="1" lang="tr-TR" sz="1900" spc="-1" strike="noStrike">
                          <a:solidFill>
                            <a:srgbClr val="000000"/>
                          </a:solidFill>
                          <a:latin typeface="Arial"/>
                        </a:rPr>
                        <a:t>Bu tür işletmelerde tasfiye için, mevcut iktisadi kıymetlerin satışı veya işletmeden fatura düzenlenerek çekiş yapılması gerekir.</a:t>
                      </a:r>
                      <a:endParaRPr b="0" lang="en-US" sz="1900" spc="-1" strike="noStrike">
                        <a:solidFill>
                          <a:srgbClr val="000000"/>
                        </a:solidFill>
                        <a:latin typeface="Arial"/>
                      </a:endParaRPr>
                    </a:p>
                    <a:p>
                      <a:pPr marL="533520" indent="-533520">
                        <a:spcBef>
                          <a:spcPts val="476"/>
                        </a:spcBef>
                        <a:spcAft>
                          <a:spcPts val="349"/>
                        </a:spcAft>
                        <a:buClr>
                          <a:srgbClr val="0000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Tasfiyesi sona eren kurum tasfiye bitiş beyannamesini dilekçe ekinde ilgili vergi dairesine verir. Vergi dairesi 3 ay içinde incelemeye başlar, inceleme bitince 30 gün içinde inceleme sonuçları tasfiye memuruna bildirilir. Tahakkuk eden ve inceleme sonucu tahakkuk edecek vergiler ödendikten sonra tasfiye memurunun sorumluluğu sona erer.   </a:t>
                      </a:r>
                      <a:endParaRPr b="0" lang="en-US" sz="1900" spc="-1" strike="noStrike">
                        <a:solidFill>
                          <a:srgbClr val="000000"/>
                        </a:solidFill>
                        <a:latin typeface="Arial"/>
                      </a:endParaRPr>
                    </a:p>
                    <a:p>
                      <a:pPr marL="533520" indent="-533520">
                        <a:spcBef>
                          <a:spcPts val="476"/>
                        </a:spcBef>
                        <a:spcAft>
                          <a:spcPts val="349"/>
                        </a:spcAft>
                        <a:buClr>
                          <a:srgbClr val="e82c00"/>
                        </a:buClr>
                        <a:buFont typeface="Wingdings" charset="2"/>
                        <a:buChar char=""/>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EFE7D97E-F07A-40FD-92C9-C80DF663A25A}" type="slidenum">
              <a:t>80</a:t>
            </a:fld>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3" name=""/>
          <p:cNvGraphicFramePr/>
          <p:nvPr/>
        </p:nvGraphicFramePr>
        <p:xfrm>
          <a:off x="541440" y="404640"/>
          <a:ext cx="8207280" cy="1008360"/>
        </p:xfrm>
        <a:graphic>
          <a:graphicData uri="http://schemas.openxmlformats.org/drawingml/2006/table">
            <a:tbl>
              <a:tblPr/>
              <a:tblGrid>
                <a:gridCol w="8207280"/>
              </a:tblGrid>
              <a:tr h="100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43 - KISMİ BÖLÜNME İLE İLGİLİ YAPILAN DÜZENLEMELER (Madde 19/b)</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214" name=""/>
          <p:cNvGraphicFramePr/>
          <p:nvPr/>
        </p:nvGraphicFramePr>
        <p:xfrm>
          <a:off x="539640" y="1700280"/>
          <a:ext cx="8209080" cy="4537080"/>
        </p:xfrm>
        <a:graphic>
          <a:graphicData uri="http://schemas.openxmlformats.org/drawingml/2006/table">
            <a:tbl>
              <a:tblPr/>
              <a:tblGrid>
                <a:gridCol w="8209080"/>
              </a:tblGrid>
              <a:tr h="4537080">
                <a:tc>
                  <a:txBody>
                    <a:bodyPr lIns="360000" rIns="90000" tIns="46800" bIns="46800" anchor="ctr">
                      <a:noAutofit/>
                    </a:bodyPr>
                    <a:p>
                      <a:pPr marL="457200" indent="-36972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İştirak hisselerinin kısmi bölünme yoluyla devrinde, iştirak hissesinin en az 2 tam yıl süreyle elde tutulması şartı getirildi.</a:t>
                      </a:r>
                      <a:endParaRPr b="0" lang="en-US" sz="1900" spc="-1" strike="noStrike">
                        <a:solidFill>
                          <a:srgbClr val="000000"/>
                        </a:solidFill>
                        <a:latin typeface="Arial"/>
                      </a:endParaRPr>
                    </a:p>
                    <a:p>
                      <a:pPr marL="457200" indent="-36972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Taşınmaz devrinde ise 2 yıllık süre şartı aranmayacaktır.</a:t>
                      </a:r>
                      <a:endParaRPr b="0" lang="en-US" sz="1900" spc="-1" strike="noStrike">
                        <a:solidFill>
                          <a:srgbClr val="000000"/>
                        </a:solidFill>
                        <a:latin typeface="Arial"/>
                      </a:endParaRPr>
                    </a:p>
                    <a:p>
                      <a:pPr marL="457200" indent="-36972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Üretim ve Hizmet İşletmelerinin devrinde, işletme bütünlüğü korunacak şekilde, faaliyetin devamı için gerekli aktif ve pasif kalemlerin tümünün devredilmesi zorunludur. Bu nedenle faaliyetin devamı için gerekli olan taşınmaz, her türlü tesis, makine ve techizat, aletler, edevat,,taşıt, gayrimaddi haklar ile hammadde, mamül ve yarımamül mallar gibi aktif ve pasif kıymetlerin tümü devredilecektir. </a:t>
                      </a:r>
                      <a:endParaRPr b="0" lang="en-US" sz="1900" spc="-1" strike="noStrike">
                        <a:solidFill>
                          <a:srgbClr val="000000"/>
                        </a:solidFill>
                        <a:latin typeface="Arial"/>
                      </a:endParaRPr>
                    </a:p>
                    <a:p>
                      <a:pPr marL="457200" indent="-36972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Kısmi bölünmede bölünen kurumdan devralan kuruma zarar intikali mümkün olmadığından geçmiş yıl zararları devredilemez. Tam bölünmede zarar devri yapılabilir.</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3BA75455-3CD6-48C2-99AF-1FD90BDCEBE0}" type="slidenum">
              <a:t>81</a:t>
            </a:fld>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541440" y="404640"/>
          <a:ext cx="8207280" cy="1008360"/>
        </p:xfrm>
        <a:graphic>
          <a:graphicData uri="http://schemas.openxmlformats.org/drawingml/2006/table">
            <a:tbl>
              <a:tblPr/>
              <a:tblGrid>
                <a:gridCol w="8207280"/>
              </a:tblGrid>
              <a:tr h="100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43 - KISMİ BÖLÜNME İLE İLGİLİ YAPILAN DÜZENLEMELER (Madde 19/b)</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216" name=""/>
          <p:cNvGraphicFramePr/>
          <p:nvPr/>
        </p:nvGraphicFramePr>
        <p:xfrm>
          <a:off x="539640" y="1700280"/>
          <a:ext cx="8209080" cy="4537080"/>
        </p:xfrm>
        <a:graphic>
          <a:graphicData uri="http://schemas.openxmlformats.org/drawingml/2006/table">
            <a:tbl>
              <a:tblPr/>
              <a:tblGrid>
                <a:gridCol w="8209080"/>
              </a:tblGrid>
              <a:tr h="4537080">
                <a:tc>
                  <a:txBody>
                    <a:bodyPr lIns="360000" rIns="90000" tIns="46800" bIns="46800" anchor="ctr">
                      <a:noAutofit/>
                    </a:bodyPr>
                    <a:p>
                      <a:pPr marL="457200" indent="-36972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36972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vredilen varlıklara karşılık devrolunan şirket hisseleri, devreden şirkete kalabileceği gibi, doğrudan bu şirket ortaklarına verilmesi uygulamasına devam edilmektedir.</a:t>
                      </a:r>
                      <a:endParaRPr b="0" lang="en-US" sz="1900" spc="-1" strike="noStrike">
                        <a:solidFill>
                          <a:srgbClr val="000000"/>
                        </a:solidFill>
                        <a:latin typeface="Arial"/>
                      </a:endParaRPr>
                    </a:p>
                    <a:p>
                      <a:pPr marL="457200" indent="-36972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ncak yeni Kanunda, taşınmaz ve iştirak hisselerinin devrinde, devrolan şirketin hisselerinin devreden şirketin ortaklarına verilmesi halinde, taşınmaz ve iştirak hisselerine ilişkin borçlarında devri zorunlu tutulmuştur. </a:t>
                      </a:r>
                      <a:endParaRPr b="0" lang="en-US" sz="1900" spc="-1" strike="noStrike">
                        <a:solidFill>
                          <a:srgbClr val="000000"/>
                        </a:solidFill>
                        <a:latin typeface="Arial"/>
                      </a:endParaRPr>
                    </a:p>
                    <a:p>
                      <a:pPr marL="457200" indent="-36972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Tek bir üretim işletmesi bulunan kurumun taşınmaz ve iştirak hisselerini kısmi bölünmeye konu etmesi mümkün olup, işletmeyi kısmi bölünme kapsamında devretmesi mümkündür.</a:t>
                      </a:r>
                      <a:endParaRPr b="0" lang="en-US" sz="1900" spc="-1" strike="noStrike">
                        <a:solidFill>
                          <a:srgbClr val="000000"/>
                        </a:solidFill>
                        <a:latin typeface="Arial"/>
                      </a:endParaRPr>
                    </a:p>
                    <a:p>
                      <a:pPr marL="457200" indent="-36972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D926F84F-DEE2-4247-B13B-2F629D19CD9D}" type="slidenum">
              <a:t>82</a:t>
            </a:fld>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541440" y="404640"/>
          <a:ext cx="8207280" cy="1008360"/>
        </p:xfrm>
        <a:graphic>
          <a:graphicData uri="http://schemas.openxmlformats.org/drawingml/2006/table">
            <a:tbl>
              <a:tblPr/>
              <a:tblGrid>
                <a:gridCol w="8207280"/>
              </a:tblGrid>
              <a:tr h="100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43 - KISMİ BÖLÜNME İLE İLGİLİ YAPILAN DÜZENLEMELER (Madde 19/b)</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218" name=""/>
          <p:cNvGraphicFramePr/>
          <p:nvPr/>
        </p:nvGraphicFramePr>
        <p:xfrm>
          <a:off x="539640" y="1700280"/>
          <a:ext cx="8209080" cy="4537080"/>
        </p:xfrm>
        <a:graphic>
          <a:graphicData uri="http://schemas.openxmlformats.org/drawingml/2006/table">
            <a:tbl>
              <a:tblPr/>
              <a:tblGrid>
                <a:gridCol w="8209080"/>
              </a:tblGrid>
              <a:tr h="4537080">
                <a:tc>
                  <a:txBody>
                    <a:bodyPr lIns="360000" rIns="90000" tIns="46800" bIns="46800" anchor="ctr">
                      <a:noAutofit/>
                    </a:bodyPr>
                    <a:p>
                      <a:pPr marL="457200" indent="-36972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36972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Kısmi bölünmede kurum bilançosunda yer alan üretim ve hizmet işletmeleri ile ilgili nakit alacaklar, menkul kıymetler ve borçların devri zorunludur.</a:t>
                      </a:r>
                      <a:endParaRPr b="0" lang="en-US" sz="1900" spc="-1" strike="noStrike">
                        <a:solidFill>
                          <a:srgbClr val="000000"/>
                        </a:solidFill>
                        <a:latin typeface="Arial"/>
                      </a:endParaRPr>
                    </a:p>
                    <a:p>
                      <a:pPr marL="457200" indent="-36972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vre konu iktisadi kıymetlerin kayıtlı değerinin sıfır veya negatif olması durumunda devredilen iktisadi kıymetler defter değeri ile devredilecek ancak karşılığında alınan iştirak hisseleri bilançoda iz bedeli ile takip edilecektir. </a:t>
                      </a:r>
                      <a:endParaRPr b="0" lang="en-US" sz="1900" spc="-1" strike="noStrike">
                        <a:solidFill>
                          <a:srgbClr val="000000"/>
                        </a:solidFill>
                        <a:latin typeface="Arial"/>
                      </a:endParaRPr>
                    </a:p>
                    <a:p>
                      <a:pPr marL="457200" indent="-36972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F3901C1B-F1BE-4B64-9D27-867DA80DA4DB}" type="slidenum">
              <a:t>83</a:t>
            </a:fld>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541440" y="333360"/>
          <a:ext cx="8207280" cy="1008000"/>
        </p:xfrm>
        <a:graphic>
          <a:graphicData uri="http://schemas.openxmlformats.org/drawingml/2006/table">
            <a:tbl>
              <a:tblPr/>
              <a:tblGrid>
                <a:gridCol w="8207280"/>
              </a:tblGrid>
              <a:tr h="100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YÜRÜRLÜK HÜKÜMLERİ </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220" name=""/>
          <p:cNvGraphicFramePr/>
          <p:nvPr/>
        </p:nvGraphicFramePr>
        <p:xfrm>
          <a:off x="539640" y="1484280"/>
          <a:ext cx="8209080" cy="4966920"/>
        </p:xfrm>
        <a:graphic>
          <a:graphicData uri="http://schemas.openxmlformats.org/drawingml/2006/table">
            <a:tbl>
              <a:tblPr/>
              <a:tblGrid>
                <a:gridCol w="8209080"/>
              </a:tblGrid>
              <a:tr h="4966920">
                <a:tc>
                  <a:txBody>
                    <a:bodyPr lIns="360000" rIns="90000" tIns="46800" bIns="46800" anchor="ctr">
                      <a:noAutofit/>
                    </a:bodyPr>
                    <a:p>
                      <a:pPr marL="347760" indent="-34776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fer Fiyatlandırması</a:t>
                      </a:r>
                      <a:endParaRPr b="0" lang="en-US" sz="1900" spc="-1" strike="noStrike">
                        <a:solidFill>
                          <a:srgbClr val="000000"/>
                        </a:solidFill>
                        <a:latin typeface="Arial"/>
                      </a:endParaRPr>
                    </a:p>
                    <a:p>
                      <a:pPr marL="347760" indent="-34776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Örtülü Kazanç Dağıtımı” müessesesinin yeniden düzenlendiği bu hükmün yürürlük tarihi 01.01.2007’dir.</a:t>
                      </a:r>
                      <a:endParaRPr b="0" lang="en-US" sz="1900" spc="-1" strike="noStrike">
                        <a:solidFill>
                          <a:srgbClr val="000000"/>
                        </a:solidFill>
                        <a:latin typeface="Arial"/>
                      </a:endParaRPr>
                    </a:p>
                    <a:p>
                      <a:pPr marL="347760" indent="-34776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Örtülü Sermaye</a:t>
                      </a:r>
                      <a:endParaRPr b="0" lang="en-US" sz="1900" spc="-1" strike="noStrike">
                        <a:solidFill>
                          <a:srgbClr val="000000"/>
                        </a:solidFill>
                        <a:latin typeface="Arial"/>
                      </a:endParaRPr>
                    </a:p>
                    <a:p>
                      <a:pPr marL="347760" indent="-347760" algn="just">
                        <a:spcBef>
                          <a:spcPts val="476"/>
                        </a:spcBef>
                        <a:spcAft>
                          <a:spcPts val="349"/>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Örtülü sermayenin tanımı ve uygulamasında yapılan değişiklikler de 01.01.2006 tarihinden itibaren yürürlüğe giriyor.</a:t>
                      </a:r>
                      <a:endParaRPr b="0" lang="en-US" sz="1900" spc="-1" strike="noStrike">
                        <a:solidFill>
                          <a:srgbClr val="000000"/>
                        </a:solidFill>
                        <a:latin typeface="Arial"/>
                      </a:endParaRPr>
                    </a:p>
                    <a:p>
                      <a:pPr marL="347760" indent="-347760" algn="just">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 2006 yılı için “Borç/Öz Sermaye” karşılaştırması yapılırken 01.01.2006 tarihli bilançodaki öz sermaye tutarı dikkate alınacak.</a:t>
                      </a:r>
                      <a:endParaRPr b="0" lang="en-US" sz="1900" spc="-1" strike="noStrike">
                        <a:solidFill>
                          <a:srgbClr val="000000"/>
                        </a:solidFill>
                        <a:latin typeface="Arial"/>
                      </a:endParaRPr>
                    </a:p>
                    <a:p>
                      <a:pPr marL="347760" indent="-347760" algn="just">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 Yine “Borç/Öz Sermaye” karşılaştırmasında 2006 yılından önce alınmış olmakla beraber, 2006 yılına sarkan krediler de dikkate alınacak. </a:t>
                      </a:r>
                      <a:endParaRPr b="0" lang="en-US" sz="1900" spc="-1" strike="noStrike">
                        <a:solidFill>
                          <a:srgbClr val="000000"/>
                        </a:solidFill>
                        <a:latin typeface="Arial"/>
                      </a:endParaRPr>
                    </a:p>
                    <a:p>
                      <a:pPr marL="347760" indent="-347760" algn="just">
                        <a:spcBef>
                          <a:spcPts val="4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Özel Kanunlarda düzenlenen muafiyet, istisna ve indirimlerin geçersiz sayılmasına ilişkin hüküm 1.1.2007’de yürürlüğe girecek</a:t>
                      </a:r>
                      <a:endParaRPr b="0" lang="en-US" sz="19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sp>
        <p:nvSpPr>
          <p:cNvPr id="2" name="PlaceHolder 1"/>
          <p:cNvSpPr>
            <a:spLocks noGrp="1"/>
          </p:cNvSpPr>
          <p:nvPr>
            <p:ph type="sldNum" idx="3"/>
          </p:nvPr>
        </p:nvSpPr>
        <p:spPr/>
        <p:txBody>
          <a:bodyPr/>
          <a:p>
            <a:fld id="{1B42C8F0-0F1B-4105-B150-A6F14CAD10A7}" type="slidenum">
              <a:t>84</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611280" y="333360"/>
          <a:ext cx="7993080" cy="936720"/>
        </p:xfrm>
        <a:graphic>
          <a:graphicData uri="http://schemas.openxmlformats.org/drawingml/2006/table">
            <a:tbl>
              <a:tblPr/>
              <a:tblGrid>
                <a:gridCol w="7993080"/>
              </a:tblGrid>
              <a:tr h="93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6 – GEÇİCİ VERGİ ORANI (2)</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bl>
          </a:graphicData>
        </a:graphic>
      </p:graphicFrame>
      <p:graphicFrame>
        <p:nvGraphicFramePr>
          <p:cNvPr id="57" name=""/>
          <p:cNvGraphicFramePr/>
          <p:nvPr/>
        </p:nvGraphicFramePr>
        <p:xfrm>
          <a:off x="611280" y="1628640"/>
          <a:ext cx="7993080" cy="4816440"/>
        </p:xfrm>
        <a:graphic>
          <a:graphicData uri="http://schemas.openxmlformats.org/drawingml/2006/table">
            <a:tbl>
              <a:tblPr/>
              <a:tblGrid>
                <a:gridCol w="7993080"/>
              </a:tblGrid>
              <a:tr h="4816440">
                <a:tc>
                  <a:txBody>
                    <a:bodyPr lIns="360000" rIns="90000" tIns="46800" bIns="46800" anchor="ctr">
                      <a:noAutofit/>
                    </a:bodyPr>
                    <a:p>
                      <a:pPr marL="533520" indent="-533520" algn="just">
                        <a:spcBef>
                          <a:spcPts val="476"/>
                        </a:spcBef>
                        <a:spcAft>
                          <a:spcPts val="349"/>
                        </a:spcAft>
                        <a:buClr>
                          <a:srgbClr val="e82c00"/>
                        </a:buClr>
                        <a:buFont typeface="Arial"/>
                        <a:buChar char="o"/>
                        <a:tabLst>
                          <a:tab algn="l" pos="446040"/>
                          <a:tab algn="l" pos="61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0" marR="90000">
                    <a:lnL w="5760">
                      <a:solidFill>
                        <a:srgbClr val="e82c00"/>
                      </a:solidFill>
                    </a:lnL>
                    <a:lnR w="5760">
                      <a:solidFill>
                        <a:srgbClr val="e82c00"/>
                      </a:solidFill>
                    </a:lnR>
                    <a:lnT w="5760">
                      <a:solidFill>
                        <a:srgbClr val="e82c00"/>
                      </a:solidFill>
                    </a:lnT>
                    <a:lnB w="13680">
                      <a:solidFill>
                        <a:srgbClr val="e82c00"/>
                      </a:solidFill>
                    </a:lnB>
                    <a:noFill/>
                  </a:tcPr>
                </a:tc>
              </a:tr>
            </a:tbl>
          </a:graphicData>
        </a:graphic>
      </p:graphicFrame>
      <p:graphicFrame>
        <p:nvGraphicFramePr>
          <p:cNvPr id="58" name=""/>
          <p:cNvGraphicFramePr/>
          <p:nvPr/>
        </p:nvGraphicFramePr>
        <p:xfrm>
          <a:off x="900000" y="2205000"/>
          <a:ext cx="7488360" cy="3381120"/>
        </p:xfrm>
        <a:graphic>
          <a:graphicData uri="http://schemas.openxmlformats.org/drawingml/2006/table">
            <a:tbl>
              <a:tblPr/>
              <a:tblGrid>
                <a:gridCol w="2678040"/>
                <a:gridCol w="2314800"/>
                <a:gridCol w="2495520"/>
              </a:tblGrid>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ÖNEM</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YANNAME VERME SÜRESİ</a:t>
                      </a:r>
                      <a:r>
                        <a:rPr b="1" lang="tr-TR" sz="2000" spc="-1" strike="noStrike">
                          <a:solidFill>
                            <a:srgbClr val="000000"/>
                          </a:solidFill>
                          <a:latin typeface="Arial"/>
                        </a:rPr>
                        <a:t>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N</a:t>
                      </a:r>
                      <a:r>
                        <a:rPr b="1" lang="tr-TR" sz="2000" spc="-1" strike="noStrike">
                          <a:solidFill>
                            <a:srgbClr val="000000"/>
                          </a:solidFill>
                          <a:latin typeface="Arial"/>
                        </a:rPr>
                        <a:t>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 Geçici Vergi Dönemi</a:t>
                      </a:r>
                      <a:r>
                        <a:rPr b="1" lang="tr-TR" sz="1900" spc="-1" strike="noStrike">
                          <a:solidFill>
                            <a:srgbClr val="000000"/>
                          </a:solidFill>
                          <a:latin typeface="Arial"/>
                        </a:rPr>
                        <a:t> </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0 Mayıs 2006</a:t>
                      </a:r>
                      <a:r>
                        <a:rPr b="1" lang="tr-TR" sz="1900" spc="-1" strike="noStrike">
                          <a:solidFill>
                            <a:srgbClr val="000000"/>
                          </a:solidFill>
                          <a:latin typeface="Arial"/>
                        </a:rPr>
                        <a:t> </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0 Uygulandı</a:t>
                      </a:r>
                      <a:r>
                        <a:rPr b="1" lang="tr-TR" sz="1900" spc="-1" strike="noStrike">
                          <a:solidFill>
                            <a:srgbClr val="000000"/>
                          </a:solidFill>
                          <a:latin typeface="Arial"/>
                        </a:rPr>
                        <a:t> </a:t>
                      </a:r>
                      <a:endParaRPr b="0" lang="en-US" sz="1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a:t>
                      </a:r>
                      <a:r>
                        <a:rPr b="1" lang="tr-TR" sz="1900" spc="-1" strike="noStrike">
                          <a:solidFill>
                            <a:srgbClr val="000000"/>
                          </a:solidFill>
                          <a:latin typeface="Arial"/>
                        </a:rPr>
                        <a:t>I</a:t>
                      </a:r>
                      <a:r>
                        <a:rPr b="1" lang="en-US" sz="1900" spc="-1" strike="noStrike">
                          <a:solidFill>
                            <a:srgbClr val="000000"/>
                          </a:solidFill>
                          <a:latin typeface="Arial"/>
                        </a:rPr>
                        <a:t>. Geçici Vergi Dönemi</a:t>
                      </a:r>
                      <a:r>
                        <a:rPr b="1" lang="tr-TR" sz="1900" spc="-1" strike="noStrike">
                          <a:solidFill>
                            <a:srgbClr val="000000"/>
                          </a:solidFill>
                          <a:latin typeface="Arial"/>
                        </a:rPr>
                        <a:t> </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0 </a:t>
                      </a:r>
                      <a:r>
                        <a:rPr b="1" lang="tr-TR" sz="1900" spc="-1" strike="noStrike">
                          <a:solidFill>
                            <a:srgbClr val="000000"/>
                          </a:solidFill>
                          <a:latin typeface="Arial"/>
                        </a:rPr>
                        <a:t>Ağustos</a:t>
                      </a:r>
                      <a:r>
                        <a:rPr b="1" lang="en-US" sz="1900" spc="-1" strike="noStrike">
                          <a:solidFill>
                            <a:srgbClr val="000000"/>
                          </a:solidFill>
                          <a:latin typeface="Arial"/>
                        </a:rPr>
                        <a:t> 2006</a:t>
                      </a:r>
                      <a:r>
                        <a:rPr b="1" lang="tr-TR" sz="1900" spc="-1" strike="noStrike">
                          <a:solidFill>
                            <a:srgbClr val="000000"/>
                          </a:solidFill>
                          <a:latin typeface="Arial"/>
                        </a:rPr>
                        <a:t> </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
                      </a:r>
                      <a:r>
                        <a:rPr b="1" lang="tr-TR" sz="1900" spc="-1" strike="noStrike">
                          <a:solidFill>
                            <a:srgbClr val="000000"/>
                          </a:solidFill>
                          <a:latin typeface="Arial"/>
                        </a:rPr>
                        <a:t>20 </a:t>
                      </a:r>
                      <a:endParaRPr b="0" lang="en-US" sz="1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a:t>
                      </a:r>
                      <a:r>
                        <a:rPr b="1" lang="tr-TR" sz="1900" spc="-1" strike="noStrike">
                          <a:solidFill>
                            <a:srgbClr val="000000"/>
                          </a:solidFill>
                          <a:latin typeface="Arial"/>
                        </a:rPr>
                        <a:t>II</a:t>
                      </a:r>
                      <a:r>
                        <a:rPr b="1" lang="en-US" sz="1900" spc="-1" strike="noStrike">
                          <a:solidFill>
                            <a:srgbClr val="000000"/>
                          </a:solidFill>
                          <a:latin typeface="Arial"/>
                        </a:rPr>
                        <a:t>. Geçici Vergi Dönemi</a:t>
                      </a:r>
                      <a:r>
                        <a:rPr b="1" lang="tr-TR" sz="1900" spc="-1" strike="noStrike">
                          <a:solidFill>
                            <a:srgbClr val="000000"/>
                          </a:solidFill>
                          <a:latin typeface="Arial"/>
                        </a:rPr>
                        <a:t> </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0 </a:t>
                      </a:r>
                      <a:r>
                        <a:rPr b="1" lang="tr-TR" sz="1900" spc="-1" strike="noStrike">
                          <a:solidFill>
                            <a:srgbClr val="000000"/>
                          </a:solidFill>
                          <a:latin typeface="Arial"/>
                        </a:rPr>
                        <a:t>Kasım </a:t>
                      </a:r>
                      <a:r>
                        <a:rPr b="1" lang="en-US" sz="1900" spc="-1" strike="noStrike">
                          <a:solidFill>
                            <a:srgbClr val="000000"/>
                          </a:solidFill>
                          <a:latin typeface="Arial"/>
                        </a:rPr>
                        <a:t>2006</a:t>
                      </a:r>
                      <a:r>
                        <a:rPr b="1" lang="tr-TR" sz="1900" spc="-1" strike="noStrike">
                          <a:solidFill>
                            <a:srgbClr val="000000"/>
                          </a:solidFill>
                          <a:latin typeface="Arial"/>
                        </a:rPr>
                        <a:t> </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
                      </a:r>
                      <a:r>
                        <a:rPr b="1" lang="tr-TR" sz="1900" spc="-1" strike="noStrike">
                          <a:solidFill>
                            <a:srgbClr val="000000"/>
                          </a:solidFill>
                          <a:latin typeface="Arial"/>
                        </a:rPr>
                        <a:t>20 </a:t>
                      </a:r>
                      <a:endParaRPr b="0" lang="en-US" sz="1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V. Geçici Vergi Dönemi</a:t>
                      </a:r>
                      <a:r>
                        <a:rPr b="1" lang="tr-TR" sz="1900" spc="-1" strike="noStrike">
                          <a:solidFill>
                            <a:srgbClr val="000000"/>
                          </a:solidFill>
                          <a:latin typeface="Arial"/>
                        </a:rPr>
                        <a:t> </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0 </a:t>
                      </a:r>
                      <a:r>
                        <a:rPr b="1" lang="tr-TR" sz="1900" spc="-1" strike="noStrike">
                          <a:solidFill>
                            <a:srgbClr val="000000"/>
                          </a:solidFill>
                          <a:latin typeface="Arial"/>
                        </a:rPr>
                        <a:t>Şubat</a:t>
                      </a:r>
                      <a:r>
                        <a:rPr b="1" lang="en-US" sz="1900" spc="-1" strike="noStrike">
                          <a:solidFill>
                            <a:srgbClr val="000000"/>
                          </a:solidFill>
                          <a:latin typeface="Arial"/>
                        </a:rPr>
                        <a:t> 200</a:t>
                      </a:r>
                      <a:r>
                        <a:rPr b="1" lang="tr-TR" sz="1900" spc="-1" strike="noStrike">
                          <a:solidFill>
                            <a:srgbClr val="000000"/>
                          </a:solidFill>
                          <a:latin typeface="Arial"/>
                        </a:rPr>
                        <a:t>7</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
                      </a:r>
                      <a:r>
                        <a:rPr b="1" lang="tr-TR" sz="1900" spc="-1" strike="noStrike">
                          <a:solidFill>
                            <a:srgbClr val="000000"/>
                          </a:solidFill>
                          <a:latin typeface="Arial"/>
                        </a:rPr>
                        <a:t>20 </a:t>
                      </a:r>
                      <a:endParaRPr b="0" lang="en-US" sz="1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A0C6F256-1183-42FF-B426-4CF0D600CA03}"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8T14:32:07Z</dcterms:created>
  <dc:creator>T.C. Maliye Bakanlığı</dc:creator>
  <dc:description/>
  <dc:language>en-US</dc:language>
  <cp:lastModifiedBy>T.C. Maliye Bakanlığı</cp:lastModifiedBy>
  <dcterms:modified xsi:type="dcterms:W3CDTF">2007-03-29T13:23:53Z</dcterms:modified>
  <cp:revision>10</cp:revision>
  <dc:subject/>
  <dc:title>Slayt 1</dc:title>
</cp:coreProperties>
</file>