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792913" cy="45608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4206-45D9-46F5-8CDF-30B0F865F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50560" y="115920"/>
            <a:ext cx="84978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0560" y="1052280"/>
            <a:ext cx="8497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0560" y="3459600"/>
            <a:ext cx="8497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7A67-D28E-4700-AEC9-3BACD9DAF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0560" y="115920"/>
            <a:ext cx="84978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0560" y="1052280"/>
            <a:ext cx="41468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05120" y="1052280"/>
            <a:ext cx="41468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0560" y="3459600"/>
            <a:ext cx="41468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05120" y="3459600"/>
            <a:ext cx="41468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3ECC-CBF9-4881-B864-39BC841F6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0560" y="115920"/>
            <a:ext cx="84978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0560" y="1052280"/>
            <a:ext cx="2736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23720" y="1052280"/>
            <a:ext cx="2736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96880" y="1052280"/>
            <a:ext cx="2736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0560" y="3459600"/>
            <a:ext cx="2736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23720" y="3459600"/>
            <a:ext cx="2736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96880" y="3459600"/>
            <a:ext cx="2736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5186-CDDE-47B8-A1FB-F8A7C5902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50560" y="115920"/>
            <a:ext cx="84978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0560" y="1052280"/>
            <a:ext cx="849780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29AB-61E1-4C5B-8EAC-A42FF5281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0560" y="115920"/>
            <a:ext cx="84978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0560" y="1052280"/>
            <a:ext cx="84978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F90C-D309-47FD-BFDE-1BA4B4A5D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0560" y="115920"/>
            <a:ext cx="84978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0560" y="1052280"/>
            <a:ext cx="414684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05120" y="1052280"/>
            <a:ext cx="414684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FAAD-C8FC-4D57-8349-5D63494C8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0560" y="115920"/>
            <a:ext cx="84978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EE8C-06C9-4CE6-ADAF-E3CF6F6C5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50560" y="115920"/>
            <a:ext cx="8497800" cy="39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4EBF-0B98-4DDE-BB4C-74A73A028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0560" y="115920"/>
            <a:ext cx="84978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0560" y="1052280"/>
            <a:ext cx="41468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05120" y="1052280"/>
            <a:ext cx="414684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0560" y="3459600"/>
            <a:ext cx="41468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2722-66BD-4D61-9750-584DFF48F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50560" y="115920"/>
            <a:ext cx="84978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0560" y="1052280"/>
            <a:ext cx="414684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05120" y="1052280"/>
            <a:ext cx="41468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05120" y="3459600"/>
            <a:ext cx="41468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D9F7-48A8-4957-9C79-65686917C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50560" y="115920"/>
            <a:ext cx="84978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0560" y="1052280"/>
            <a:ext cx="41468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05120" y="1052280"/>
            <a:ext cx="41468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0560" y="3459600"/>
            <a:ext cx="8497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BAB6-9231-4293-A45D-ACDCCB1EE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0560" y="115920"/>
            <a:ext cx="84978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2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d2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0560" y="1052280"/>
            <a:ext cx="84978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76000" y="5734080"/>
            <a:ext cx="2133720" cy="18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858F8-A5A4-4CF8-B5E0-1515310AC49B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162560" y="5734080"/>
            <a:ext cx="2895480" cy="18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35360" y="5734080"/>
            <a:ext cx="2133720" cy="18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7B97A-FB6B-4BFF-BB6E-8DDE247818B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4437000"/>
            <a:ext cx="849600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/1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90C7-80E5-452D-9FA4-3FE5004F1CC2}" type="slidenum">
              <a:t>1</a:t>
            </a:fld>
          </a:p>
        </p:txBody>
      </p:sp>
    </p:spTree>
  </p:cSld>
  <p:transition spd="slow">
    <p:pull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893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20000"/>
                </a:solidFill>
                <a:latin typeface="Comic Sans MS"/>
              </a:rPr>
              <a:t>DİĞER İNDİRİMLER</a:t>
            </a:r>
            <a:endParaRPr b="0" lang="en-US" sz="3600" spc="-1" strike="noStrike">
              <a:solidFill>
                <a:srgbClr val="d2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8447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99"/>
              </a:spcBef>
              <a:buNone/>
              <a:tabLst>
                <a:tab algn="l" pos="8166240"/>
                <a:tab algn="l" pos="8508960"/>
                <a:tab algn="l" pos="9360000"/>
                <a:tab algn="l" pos="102106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166240"/>
                <a:tab algn="l" pos="8508960"/>
                <a:tab algn="l" pos="9360000"/>
                <a:tab algn="l" pos="1021068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Kurumlar vergisi beyannamesi üzerinde ayrıca gösterilmek kaydıyla, </a:t>
            </a:r>
            <a:r>
              <a:rPr b="0" lang="tr-TR" sz="2800" spc="-1" strike="noStrike" u="sng">
                <a:solidFill>
                  <a:srgbClr val="000000"/>
                </a:solidFill>
                <a:uFillTx/>
                <a:latin typeface="Arial"/>
              </a:rPr>
              <a:t>Kanundaki sırasıyla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 kurum kazancından yapılacak indirimle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700"/>
              </a:spcBef>
              <a:buNone/>
              <a:tabLst>
                <a:tab algn="l" pos="0"/>
                <a:tab algn="l" pos="8166240"/>
                <a:tab algn="l" pos="8508960"/>
                <a:tab algn="l" pos="9360000"/>
                <a:tab algn="l" pos="1021068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− 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Ar-Ge İndirim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700"/>
              </a:spcBef>
              <a:buNone/>
              <a:tabLst>
                <a:tab algn="l" pos="0"/>
                <a:tab algn="l" pos="8166240"/>
                <a:tab algn="l" pos="8508960"/>
                <a:tab algn="l" pos="9360000"/>
                <a:tab algn="l" pos="1021068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− 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Sponsorluk Harcamalar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700"/>
              </a:spcBef>
              <a:buNone/>
              <a:tabLst>
                <a:tab algn="l" pos="0"/>
                <a:tab algn="l" pos="8166240"/>
                <a:tab algn="l" pos="8508960"/>
                <a:tab algn="l" pos="9360000"/>
                <a:tab algn="l" pos="1021068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− 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Bağış ve Yardım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8166240"/>
                <a:tab algn="l" pos="8508960"/>
                <a:tab algn="l" pos="9360000"/>
                <a:tab algn="l" pos="1021068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Kurum kazancının %5’i ile sınırlı bağış ve yardıml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8166240"/>
                <a:tab algn="l" pos="8508960"/>
                <a:tab algn="l" pos="9360000"/>
                <a:tab algn="l" pos="1021068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Eğitim ve sağlık tesislerine ilişkin bağış ve yardıml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8166240"/>
                <a:tab algn="l" pos="8508960"/>
                <a:tab algn="l" pos="9360000"/>
                <a:tab algn="l" pos="1021068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Kültür ve turizm amaçlı bağış ve yardım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8166240"/>
                <a:tab algn="l" pos="8508960"/>
                <a:tab algn="l" pos="9360000"/>
                <a:tab algn="l" pos="1021068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Doğal afetlere ilişkin bağış ve yardım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/1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6327-13A2-489E-AE03-EB27082E503E}" type="slidenum">
              <a:t>10</a:t>
            </a:fld>
          </a:p>
        </p:txBody>
      </p:sp>
    </p:spTree>
  </p:cSld>
  <p:transition spd="slow">
    <p:pull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50560" y="115920"/>
            <a:ext cx="84978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d20000"/>
                </a:solidFill>
                <a:latin typeface="Arial"/>
              </a:rPr>
              <a:t>ÖRNEK-5 (Ar-Ge indirimi)</a:t>
            </a:r>
            <a:endParaRPr b="0" lang="en-US" sz="3600" spc="-1" strike="noStrike">
              <a:solidFill>
                <a:srgbClr val="d2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50560" y="1052280"/>
            <a:ext cx="84978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2006 dönemine ait kurum kazancı:10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Ar-ge Harcaması  </a:t>
            </a: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 :4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Kurum kazancından indirim konusu yapılacak tutar (400x%40)            :1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2006 döneminde indirim konusu yapılacak arge tutarı</a:t>
            </a: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: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Devreden Ar-ge tutarı</a:t>
            </a: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        :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/1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466A-6A70-4259-A432-C22DC0CE3CB2}" type="slidenum">
              <a:t>11</a:t>
            </a:fld>
          </a:p>
        </p:txBody>
      </p:sp>
    </p:spTree>
  </p:cSld>
  <p:transition spd="slow">
    <p:pull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50560" y="115920"/>
            <a:ext cx="84978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20000"/>
                </a:solidFill>
                <a:latin typeface="Arial"/>
              </a:rPr>
              <a:t>ÖRNEK-6 (Diğer indirimler)</a:t>
            </a:r>
            <a:endParaRPr b="0" lang="en-US" sz="3600" spc="-1" strike="noStrike">
              <a:solidFill>
                <a:srgbClr val="d2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50560" y="1052280"/>
            <a:ext cx="84978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2007 beyan edilen kurum kazancı 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:20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2006 yılı zararı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: 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Ar-ge indirimi tutarı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: 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Maliye Bak.yapılan  nakit bağış   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: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Sağlık Bak.bağışlanan tomografi cihazı 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:1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Amatör spor kulübü sponsorluk harcaması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:  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%5'lik bağış tutarının hesabı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200-60  =140 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(İştirak kazancı istisnası ve zarar tutarı indirildikten sonra kalan kısı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140x%5 =   7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/1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3ECA-828D-4831-918A-7C79158D7161}" type="slidenum">
              <a:t>12</a:t>
            </a:fld>
          </a:p>
        </p:txBody>
      </p:sp>
    </p:spTree>
  </p:cSld>
  <p:transition spd="slow">
    <p:pull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50560" y="115920"/>
            <a:ext cx="84978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20000"/>
                </a:solidFill>
                <a:latin typeface="Arial"/>
              </a:rPr>
              <a:t>ÖRNEK-6 (Diğer indirimler)</a:t>
            </a:r>
            <a:endParaRPr b="0" lang="en-US" sz="3600" spc="-1" strike="noStrike">
              <a:solidFill>
                <a:srgbClr val="d2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052280"/>
            <a:ext cx="84978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Kanundaki sıraya göre yapılacak indiri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Geçmiş yıl zararı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: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Ar-ge indirimi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: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Sponsorluk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: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%5'lik bağış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: 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Tomografi Cihaz bağışı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: 4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Toplam indirim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:2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Kurum kazancı tutarını aşan 107 YTL tomografi cihazına ilişkin bağış indirim konusu yapılamayacak ve ertesi yıllara devredilemeyecekti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/1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D816-50A1-4969-B07A-C190BF97D1B4}" type="slidenum">
              <a:t>13</a:t>
            </a:fld>
          </a:p>
        </p:txBody>
      </p:sp>
    </p:spTree>
  </p:cSld>
  <p:transition spd="slow">
    <p:pull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50560" y="115920"/>
            <a:ext cx="84978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2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d2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50560" y="1052280"/>
            <a:ext cx="84978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/1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4B32-B9C9-4E6B-8767-816F354FA8A9}" type="slidenum">
              <a:t>14</a:t>
            </a:fld>
          </a:p>
        </p:txBody>
      </p:sp>
    </p:spTree>
  </p:cSld>
  <p:transition spd="slow"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539640" y="1700280"/>
            <a:ext cx="806472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“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KURUMLAR VERGİSİ UYGULAMASINDA ZARAR MAHSUBU VE DİĞER İNDİRİMLER”</a:t>
            </a: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     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Birsel UÇ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     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Ankara Vergi Dairesi Başkanlığ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Gelir ve Kurumlar Vergileri Müdür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/1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F424-0C26-4905-A77D-EEA4F67F8150}" type="slidenum">
              <a:t>2</a:t>
            </a:fld>
          </a:p>
        </p:txBody>
      </p:sp>
    </p:spTree>
  </p:cSld>
  <p:transition spd="slow"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0560" y="115920"/>
            <a:ext cx="84978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20000"/>
                </a:solidFill>
                <a:latin typeface="Comic Sans MS"/>
              </a:rPr>
              <a:t>ZARAR MAHSUBU</a:t>
            </a:r>
            <a:endParaRPr b="0" lang="en-US" sz="3600" spc="-1" strike="noStrike">
              <a:solidFill>
                <a:srgbClr val="d2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97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urumlar Vergisi Kanununun 9. maddesi hükmüne göre bu maddede belirtilen şartların gerçekleşmesi durumunda 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geçmiş yıl zararları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evir alınan kurum zararları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am bölünme sonucu bölünen kuruma ait zarar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yurtdışı faaliyetlerden doğan zarar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nraki dönemlerde doğan kazançlardan indirilebilmektedi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9280" y="2771640"/>
            <a:ext cx="856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/1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28E5-FC5D-4BB5-9BD7-E09F79880995}" type="slidenum">
              <a:t>3</a:t>
            </a:fld>
          </a:p>
        </p:txBody>
      </p:sp>
    </p:spTree>
  </p:cSld>
  <p:transition spd="slow">
    <p:pull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0560" y="115920"/>
            <a:ext cx="84978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20000"/>
                </a:solidFill>
                <a:latin typeface="Arial"/>
              </a:rPr>
              <a:t>ÖRNEK-1 (Devir halinde zararın mahsup süresi)</a:t>
            </a:r>
            <a:endParaRPr b="0" lang="en-US" sz="2800" spc="-1" strike="noStrike">
              <a:solidFill>
                <a:srgbClr val="d2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23640" y="1241280"/>
            <a:ext cx="84978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7/şubat ayında devir alınan (x) şirketinin 2003 hesap döneminde doğan zararı 2004, 2005 ve 2006 dönemine  ait kurumlar vergisi beyannamesinde giderilememişti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öz konusu zarar devralan (y) şirketi tarafından 2007 ve 2008 dönemi beyannamesinde diğer şartların da sağlanması halinde indirim konusu yapılabilecekti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/1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7BB0-FF4C-4D13-8EEA-652E269D7A89}" type="slidenum">
              <a:t>4</a:t>
            </a:fld>
          </a:p>
        </p:txBody>
      </p:sp>
    </p:spTree>
  </p:cSld>
  <p:transition spd="slow"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560" y="115920"/>
            <a:ext cx="84978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d20000"/>
                </a:solidFill>
                <a:latin typeface="Arial"/>
              </a:rPr>
              <a:t>ÖRNEK-2 (Devirde indirilecek zarar tutarının tespiti)</a:t>
            </a:r>
            <a:endParaRPr b="0" lang="en-US" sz="2700" spc="-1" strike="noStrike">
              <a:solidFill>
                <a:srgbClr val="d2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560" y="1052280"/>
            <a:ext cx="84978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1" lang="tr-TR" sz="1400" spc="-1" strike="noStrike">
                <a:solidFill>
                  <a:srgbClr val="000000"/>
                </a:solidFill>
                <a:latin typeface="Arial"/>
              </a:rPr>
              <a:t>Devir alınan  (Z) A.Ş’nin Aktif tablosu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Arial"/>
              </a:rPr>
              <a:t>DÖNEN VARLIKLAR</a:t>
            </a:r>
            <a:r>
              <a:rPr b="1" lang="tr-T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1400" spc="-1" strike="noStrike">
                <a:solidFill>
                  <a:srgbClr val="000000"/>
                </a:solidFill>
                <a:latin typeface="Arial"/>
              </a:rPr>
              <a:t>:1100     </a:t>
            </a:r>
            <a:r>
              <a:rPr b="1" lang="tr-T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1400" spc="-1" strike="noStrike">
                <a:solidFill>
                  <a:srgbClr val="000000"/>
                </a:solidFill>
                <a:latin typeface="Arial"/>
              </a:rPr>
              <a:t>Kasa</a:t>
            </a:r>
            <a:r>
              <a:rPr b="1" lang="tr-T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1400" spc="-1" strike="noStrike">
                <a:solidFill>
                  <a:srgbClr val="000000"/>
                </a:solidFill>
                <a:latin typeface="Arial"/>
              </a:rPr>
              <a:t>:2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1400" spc="-1" strike="noStrike">
                <a:solidFill>
                  <a:srgbClr val="000000"/>
                </a:solidFill>
                <a:latin typeface="Arial"/>
              </a:rPr>
              <a:t>Hisse senedi</a:t>
            </a:r>
            <a:r>
              <a:rPr b="1" lang="tr-T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1400" spc="-1" strike="noStrike">
                <a:solidFill>
                  <a:srgbClr val="000000"/>
                </a:solidFill>
                <a:latin typeface="Arial"/>
              </a:rPr>
              <a:t>:2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1400" spc="-1" strike="noStrike">
                <a:solidFill>
                  <a:srgbClr val="000000"/>
                </a:solidFill>
                <a:latin typeface="Arial"/>
              </a:rPr>
              <a:t>Alıcılar</a:t>
            </a:r>
            <a:r>
              <a:rPr b="1" lang="tr-T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1400" spc="-1" strike="noStrike">
                <a:solidFill>
                  <a:srgbClr val="000000"/>
                </a:solidFill>
                <a:latin typeface="Arial"/>
              </a:rPr>
              <a:t>: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tr-TR" sz="1400" spc="-1" strike="noStrike">
                <a:solidFill>
                  <a:srgbClr val="000000"/>
                </a:solidFill>
                <a:latin typeface="Arial"/>
              </a:rPr>
              <a:t>Alacak senetleri</a:t>
            </a:r>
            <a:r>
              <a:rPr b="1" lang="tr-T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1400" spc="-1" strike="noStrike">
                <a:solidFill>
                  <a:srgbClr val="000000"/>
                </a:solidFill>
                <a:latin typeface="Arial"/>
              </a:rPr>
              <a:t>:1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tr-TR" sz="1400" spc="-1" strike="noStrike">
                <a:solidFill>
                  <a:srgbClr val="000000"/>
                </a:solidFill>
                <a:latin typeface="Arial"/>
              </a:rPr>
              <a:t>Ticari mal</a:t>
            </a:r>
            <a:r>
              <a:rPr b="1" lang="tr-T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1400" spc="-1" strike="noStrike">
                <a:solidFill>
                  <a:srgbClr val="000000"/>
                </a:solidFill>
                <a:latin typeface="Arial"/>
              </a:rPr>
              <a:t>:4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000000"/>
                </a:solidFill>
                <a:latin typeface="Arial"/>
              </a:rPr>
              <a:t>DURAN VARLIKLAR</a:t>
            </a:r>
            <a:r>
              <a:rPr b="1" lang="tr-T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1400" spc="-1" strike="noStrike">
                <a:solidFill>
                  <a:srgbClr val="000000"/>
                </a:solidFill>
                <a:latin typeface="Arial"/>
              </a:rPr>
              <a:t>: 5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1400" spc="-1" strike="noStrike">
                <a:solidFill>
                  <a:srgbClr val="000000"/>
                </a:solidFill>
                <a:latin typeface="Arial"/>
              </a:rPr>
              <a:t>Binalar</a:t>
            </a:r>
            <a:r>
              <a:rPr b="1" lang="tr-T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1400" spc="-1" strike="noStrike">
                <a:solidFill>
                  <a:srgbClr val="000000"/>
                </a:solidFill>
                <a:latin typeface="Arial"/>
              </a:rPr>
              <a:t>:5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1400" spc="-1" strike="noStrike">
                <a:solidFill>
                  <a:srgbClr val="000000"/>
                </a:solidFill>
                <a:latin typeface="Arial"/>
              </a:rPr>
              <a:t>Demirbaş</a:t>
            </a:r>
            <a:r>
              <a:rPr b="1" lang="tr-T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1400" spc="-1" strike="noStrike">
                <a:solidFill>
                  <a:srgbClr val="000000"/>
                </a:solidFill>
                <a:latin typeface="Arial"/>
              </a:rPr>
              <a:t>: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000000"/>
                </a:solidFill>
                <a:latin typeface="Arial"/>
              </a:rPr>
              <a:t>AKTİF TOPLAMI</a:t>
            </a:r>
            <a:r>
              <a:rPr b="1" lang="tr-T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1400" spc="-1" strike="noStrike">
                <a:solidFill>
                  <a:srgbClr val="000000"/>
                </a:solidFill>
                <a:latin typeface="Arial"/>
              </a:rPr>
              <a:t>:16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000000"/>
                </a:solidFill>
                <a:latin typeface="Arial"/>
              </a:rPr>
              <a:t>Devir alınan  (Z) A.Ş’nin Pasif Tablos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000000"/>
                </a:solidFill>
                <a:latin typeface="Arial"/>
              </a:rPr>
              <a:t>YABANCI KAYNAKLAR TOPLAMI</a:t>
            </a:r>
            <a:r>
              <a:rPr b="1" lang="tr-T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1400" spc="-1" strike="noStrike">
                <a:solidFill>
                  <a:srgbClr val="000000"/>
                </a:solidFill>
                <a:latin typeface="Arial"/>
              </a:rPr>
              <a:t>:6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1400" spc="-1" strike="noStrike">
                <a:solidFill>
                  <a:srgbClr val="000000"/>
                </a:solidFill>
                <a:latin typeface="Arial"/>
              </a:rPr>
              <a:t>1-Kısa vadeli yabancı kaynaklar</a:t>
            </a:r>
            <a:r>
              <a:rPr b="1" lang="tr-T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1400" spc="-1" strike="noStrike">
                <a:solidFill>
                  <a:srgbClr val="000000"/>
                </a:solidFill>
                <a:latin typeface="Arial"/>
              </a:rPr>
              <a:t>:2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1400" spc="-1" strike="noStrike">
                <a:solidFill>
                  <a:srgbClr val="000000"/>
                </a:solidFill>
                <a:latin typeface="Arial"/>
              </a:rPr>
              <a:t>Satıcılar</a:t>
            </a:r>
            <a:r>
              <a:rPr b="1" lang="tr-T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1400" spc="-1" strike="noStrike">
                <a:solidFill>
                  <a:srgbClr val="000000"/>
                </a:solidFill>
                <a:latin typeface="Arial"/>
              </a:rPr>
              <a:t>:7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lang="tr-TR" sz="1400" spc="-1" strike="noStrike">
                <a:solidFill>
                  <a:srgbClr val="000000"/>
                </a:solidFill>
                <a:latin typeface="Arial"/>
              </a:rPr>
              <a:t>Borç senetleri</a:t>
            </a:r>
            <a:r>
              <a:rPr b="1" lang="tr-T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1400" spc="-1" strike="noStrike">
                <a:solidFill>
                  <a:srgbClr val="000000"/>
                </a:solidFill>
                <a:latin typeface="Arial"/>
              </a:rPr>
              <a:t>:1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tr-TR" sz="1400" spc="-1" strike="noStrike">
                <a:solidFill>
                  <a:srgbClr val="000000"/>
                </a:solidFill>
                <a:latin typeface="Arial"/>
              </a:rPr>
              <a:t>Diğer ticari borçlar</a:t>
            </a:r>
            <a:r>
              <a:rPr b="1" lang="tr-T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1400" spc="-1" strike="noStrike">
                <a:solidFill>
                  <a:srgbClr val="000000"/>
                </a:solidFill>
                <a:latin typeface="Arial"/>
              </a:rPr>
              <a:t>: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tr-TR" sz="1400" spc="-1" strike="noStrike">
                <a:solidFill>
                  <a:srgbClr val="000000"/>
                </a:solidFill>
                <a:latin typeface="Arial"/>
              </a:rPr>
              <a:t>2-Uzun vadeli yabancı kaynaklar </a:t>
            </a:r>
            <a:r>
              <a:rPr b="1" lang="tr-T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1400" spc="-1" strike="noStrike">
                <a:solidFill>
                  <a:srgbClr val="000000"/>
                </a:solidFill>
                <a:latin typeface="Arial"/>
              </a:rPr>
              <a:t>:3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tr-TR" sz="1400" spc="-1" strike="noStrike">
                <a:solidFill>
                  <a:srgbClr val="000000"/>
                </a:solidFill>
                <a:latin typeface="Arial"/>
              </a:rPr>
              <a:t>Banka Kredileri</a:t>
            </a:r>
            <a:r>
              <a:rPr b="1" lang="tr-T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1400" spc="-1" strike="noStrike">
                <a:solidFill>
                  <a:srgbClr val="000000"/>
                </a:solidFill>
                <a:latin typeface="Arial"/>
              </a:rPr>
              <a:t>: 3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000000"/>
                </a:solidFill>
                <a:latin typeface="Arial"/>
              </a:rPr>
              <a:t>ÖZ KAYNAKLAR</a:t>
            </a:r>
            <a:r>
              <a:rPr b="1" lang="tr-T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1400" spc="-1" strike="noStrike">
                <a:solidFill>
                  <a:srgbClr val="000000"/>
                </a:solidFill>
                <a:latin typeface="Arial"/>
              </a:rPr>
              <a:t>: 21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tr-TR" sz="1400" spc="-1" strike="noStrike">
                <a:solidFill>
                  <a:srgbClr val="000000"/>
                </a:solidFill>
                <a:latin typeface="Arial"/>
              </a:rPr>
              <a:t>Sermaye</a:t>
            </a:r>
            <a:r>
              <a:rPr b="1" lang="tr-T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1400" spc="-1" strike="noStrike">
                <a:solidFill>
                  <a:srgbClr val="000000"/>
                </a:solidFill>
                <a:latin typeface="Arial"/>
              </a:rPr>
              <a:t>:21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tr-TR" sz="1400" spc="-1" strike="noStrike">
                <a:solidFill>
                  <a:srgbClr val="000000"/>
                </a:solidFill>
                <a:latin typeface="Arial"/>
              </a:rPr>
              <a:t>Dönem net zararı (-) </a:t>
            </a:r>
            <a:r>
              <a:rPr b="1" lang="tr-T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1400" spc="-1" strike="noStrike">
                <a:solidFill>
                  <a:srgbClr val="000000"/>
                </a:solidFill>
                <a:latin typeface="Arial"/>
              </a:rPr>
              <a:t>:1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000000"/>
                </a:solidFill>
                <a:latin typeface="Arial"/>
              </a:rPr>
              <a:t>PASİF TOPLAMI</a:t>
            </a:r>
            <a:r>
              <a:rPr b="1" lang="tr-T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1400" spc="-1" strike="noStrike">
                <a:solidFill>
                  <a:srgbClr val="000000"/>
                </a:solidFill>
                <a:latin typeface="Arial"/>
              </a:rPr>
              <a:t>:16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/1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BF03-CB69-4B06-B34E-1E8206F30807}" type="slidenum">
              <a:t>5</a:t>
            </a:fld>
          </a:p>
        </p:txBody>
      </p:sp>
    </p:spTree>
  </p:cSld>
  <p:transition spd="slow"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0560" y="115920"/>
            <a:ext cx="84978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d20000"/>
                </a:solidFill>
                <a:latin typeface="Arial"/>
              </a:rPr>
              <a:t>ÖRNEK-2 (Devirde indirilecek zarar tutarının tespiti)</a:t>
            </a:r>
            <a:endParaRPr b="0" lang="en-US" sz="2700" spc="-1" strike="noStrike">
              <a:solidFill>
                <a:srgbClr val="d2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560" y="1052280"/>
            <a:ext cx="84978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Öz sermaye tutarı: devralınan kuruma ilişkin bilanço aktif toplamı -  borçl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Öz sermaye tutarı :</a:t>
            </a: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1650-6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Öz sermaye tutarı :</a:t>
            </a: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1050</a:t>
            </a: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Devralınan kurumun devir tarihi itibariyle zararı 1100 olup bu tutarın  özsermaye tutarını geçmesi nedeniyle devralınan kurum zararını 1050 olarak indirebilecekti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/1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8C1F-F085-45AD-856D-8AA0EA350A67}" type="slidenum">
              <a:t>6</a:t>
            </a:fld>
          </a:p>
        </p:txBody>
      </p:sp>
    </p:spTree>
  </p:cSld>
  <p:transition spd="slow"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0560" y="115920"/>
            <a:ext cx="84978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20000"/>
                </a:solidFill>
                <a:latin typeface="Arial"/>
              </a:rPr>
              <a:t>ÖRNEK-3 (Tam bölünmede indirilecek zarar tutarının tespiti)</a:t>
            </a:r>
            <a:endParaRPr b="0" lang="en-US" sz="2400" spc="-1" strike="noStrike">
              <a:solidFill>
                <a:srgbClr val="d2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79000" y="1082520"/>
            <a:ext cx="84978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. örnekteki şirketin bütün mal varlığının kayıtlı değeri üzerinden  %40 oranında (A) şirketine, %60 oranında ise  (B) şirketine devrederek tam bölünme gerçekleşmesi halinde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(A) şirketinin   indireceği zarar tutarı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050 x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%40  = 42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(B) şirketinin   indireceği zarar tutarı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050 x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%60  = 630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/1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9C8B-3ECB-4C08-A383-4563A32B3033}" type="slidenum">
              <a:t>7</a:t>
            </a:fld>
          </a:p>
        </p:txBody>
      </p:sp>
    </p:spTree>
  </p:cSld>
  <p:transition spd="slow">
    <p:pull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0560" y="115920"/>
            <a:ext cx="84978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20000"/>
                </a:solidFill>
                <a:latin typeface="Arial"/>
              </a:rPr>
              <a:t>ÖRNEK-4 (Yurtdışı zararının mahsubu)</a:t>
            </a:r>
            <a:endParaRPr b="0" lang="en-US" sz="3600" spc="-1" strike="noStrike">
              <a:solidFill>
                <a:srgbClr val="d2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50560" y="1052280"/>
            <a:ext cx="84978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urumunun 2005 ve 2006 yıllarındaki yurt içi ve yurt dışı faaliyet sonuçları şöyledir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5 Yurt Dışı Faaliyet Sonucu: 25.000.000.-YTL Zar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5 Yurt İçi Faaliyet Sonucu   :10.000.000.-YTL Kazanç 2006 Yurt Dışı Faaliyet Sonucu:35.000.000.-YTL Kazanç 2006 Yurt İçi Faaliyet Sonucu   :20.000.000.-YTL Kazanç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6 yılı ile ilgili olarak yabancı ülkede verilen beyannamede 35.000.000.- YTL kazançtan 25.000.000.- YTL zarar düşülmek suretiyle 10.000.000.- YTL karşılığı kazanç beyan edilmişti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/1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DC8F-9625-4581-BD0B-E2323D2FF2F3}" type="slidenum">
              <a:t>8</a:t>
            </a:fld>
          </a:p>
        </p:txBody>
      </p:sp>
    </p:spTree>
  </p:cSld>
  <p:transition spd="slow">
    <p:pull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0560" y="115920"/>
            <a:ext cx="84978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20000"/>
                </a:solidFill>
                <a:latin typeface="Arial"/>
              </a:rPr>
              <a:t>ÖRNEK-4 (Yurtdışı zararının mahsubu)</a:t>
            </a:r>
            <a:endParaRPr b="0" lang="en-US" sz="3600" spc="-1" strike="noStrike">
              <a:solidFill>
                <a:srgbClr val="d2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50560" y="1052280"/>
            <a:ext cx="84978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urumun 2005 ve 2006 yılları ile ilgili olarak Türkiye’de vereceği yıllık beyannamede beyan edeceği matrah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5 Yılı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urt İçi Faaliyet Sonucu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: 10.000.000.- YTL Kazanç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urt Dışı Faaliyet Sonucu(-)          : 25.000.000.- YTL Zar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reden Zara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:15.000.000.- YT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6 Yılı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urt İçi Faaliyet Sonuc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:20.000.000.- YTL Kazanç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urt Dışı Faal. Sonucu: (mahsup öncesi) 35.000.000.- YTL Kazanç Toplam                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55.000.000.- YTL Kazanç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çmiş Yıl Zararı (–)                   : 15.000.000.- YTL Zar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rah                                        : 40.000.000.- YTL Kazanç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/1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1396-4245-4B16-8400-8B5447772438}" type="slidenum">
              <a:t>9</a:t>
            </a:fld>
          </a:p>
        </p:txBody>
      </p:sp>
    </p:spTree>
  </p:cSld>
  <p:transition spd="slow"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31T13:50:42Z</dcterms:created>
  <dc:creator>inceleme</dc:creator>
  <dc:description/>
  <dc:language>en-US</dc:language>
  <cp:lastModifiedBy>inceleme</cp:lastModifiedBy>
  <dcterms:modified xsi:type="dcterms:W3CDTF">2007-04-04T10:12:56Z</dcterms:modified>
  <cp:revision>601</cp:revision>
  <dc:subject/>
  <dc:title>ANKARA VERGİ DAİRESİ BAŞKANLIĞI</dc:title>
</cp:coreProperties>
</file>