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D26-C629-48F6-8102-6FA6D553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C1A-57B2-4BDC-8D14-AB0AE6B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E4B-18DD-4252-82D1-4E5228A2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914-0E54-43E2-AB71-C1B89544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E8C-8052-4B92-B319-4A4F2BEB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04C0-A4DC-49B8-9FF2-697B1E93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6C3A-CBA1-48F2-98BB-923A7B02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CD2F-2167-4BCB-AC54-A969A8D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863E-F369-4196-9805-BC2F5B8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764-C00C-4616-B80A-09D675F1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9DC9-9B98-4290-8DF7-7D7602D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30A-7A36-44EB-A396-3A5BE3D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BA8F-C3AA-47B6-BA99-E86D72D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818-2526-46E3-B0F3-BA7C3FA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1AC2-8C19-4731-A9EF-CEE951D7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45F7-D1A2-4BFE-BA90-621E2654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140C-D5BF-482B-A4A6-49AB9B05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EF6-A9F9-481D-8F77-A0C24752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97F-FF54-46EB-BE52-CD2B9EE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797-09B5-402B-84F6-2A18FC5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889-D249-4414-AA87-C41CC194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E16-C2D1-4B20-9262-A5594681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EBA-1701-46DA-B978-6E961CF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ADC-58D2-49F2-9769-8AA6877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989-FB6B-4C5B-BF15-DADB420C6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9C65-C831-4F83-B244-A5FF633B5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okumamasraf%20tevzi.xls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sraf%20tevziaral&#305;k2000%20d&#246;nem.xls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HESAP%20ADI%20VE%20A&#199;IKLAMALARI.xl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LIYETTAB%201,35%20-%2000.%204.D&#214;NEM.xls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ATI&#350;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okumamasraf%20tevzi%20HESAP%20ADI.xls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sraf%20tevzii%204.%20d&#246;nem%20HESAPLAR.xls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EVDET AKÇAKO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İYET MUHASEBES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OKUMA MASRAF TABLO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ASRAF TEVZİİ TABLOSU İÇİN TIKLAYINIZ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LİYET DAĞITIM ANAHTARLAR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Daire Büyüklüğü =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Uzunluk, yüzölçümü, hacim, ağırlı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Dairelerin Donatımı =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Enerji (Kw-Hp), kapasite, adet, yüzölçümü, hacim, ağırlı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Dairelerin Değeri =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Bağlı sermaye, tesisat değer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ahoma"/>
              </a:rPr>
              <a:t>Tecrübeye Dayanan Ayırım =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Harcananın sabit bir yüzdesi, maliyetin sabit bir yüzde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LİYET DAĞITIM ANAHTARLAR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01280"/>
            <a:ext cx="822960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İşçi Sayıs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Çalışma Zamanı 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aat, gün, vardiy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lzeme Değeri Üzeri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arcama Değeri Üzeri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Üretim Miktarı Üzeri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atış Değeri Üzeri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Kombine Anahtar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ASRAF TEVZİİ DAĞITIM ANAHTARI AÇIKLAMALARI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İYET BAŞLIKLAR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2205000"/>
          <a:ext cx="8785440" cy="3127320"/>
        </p:xfrm>
        <a:graphic>
          <a:graphicData uri="http://schemas.openxmlformats.org/drawingml/2006/table">
            <a:tbl>
              <a:tblPr/>
              <a:tblGrid>
                <a:gridCol w="4608720"/>
                <a:gridCol w="2016000"/>
                <a:gridCol w="2160720"/>
              </a:tblGrid>
              <a:tr h="1008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</a:rPr>
                        <a:t>OTOMOTİV ve TEKSTİL SAN. -  MALİYET TABLOSU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1. BİRİM HAMMADDE MALİYETİ 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3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2. TOPLAM İMALAT GİDERİ 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90.888.807.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Times New Roman"/>
                        </a:rPr>
                        <a:t> 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3. BOYA TOPLAM GİDERİ 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15.338.129.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4. GENEL İDARE GİDERLERİ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48.673.322.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5. PAZARLAMA GİDERLERİ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25.918.803.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Courier New"/>
                        </a:rPr>
                        <a:t>6. FİNANSMAN GİDERLERİ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Arial"/>
                        </a:rPr>
                        <a:t>6.436.858.5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5481"/>
                          </a:solidFill>
                          <a:latin typeface="Arial Tur"/>
                          <a:ea typeface="Times New Roman"/>
                        </a:rPr>
                        <a:t>USD 1 = 62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MALİYET TABLO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ATILAN MALIN MALİYETİ TABLOS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5ffff"/>
                </a:solidFill>
                <a:latin typeface="Tahoma"/>
              </a:rPr>
              <a:t>MALİYET MUHASEBESİNİN AMAÇLARI</a:t>
            </a:r>
            <a:endParaRPr b="0" lang="en-US" sz="3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im Maliyeti Sapta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İşletme Faaliyetlerini Kontrole Yardımcı O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lamaya Yardımcı O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ınacak Kararlara Yardımcı O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İYET SİSTEMLER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ha Maliye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pariş Maliye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Ürün Ağacı Sist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t Maliy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m Maliy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ğişken Maliy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izim Sistemimiz Yığın İmalata Uygun Safha Maliyet Sistemidir. Bunun için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sraf Dağıtım Tablo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İmalat Maliye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atılan Malın Maliye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oları incelen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sraf Dağıtım Tablosundaki Hesapların Açılımı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1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Direkt ilk madde ve malzeme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2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Direkt işçilik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3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Genel üretim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4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Hizmet üretim maliye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5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Ar-Ge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6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Pazarlama-Satış dağıtım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7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Genel Yönetim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Tahoma"/>
              </a:rPr>
              <a:t>780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: Finansman gid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OKUMA HESAP İSİMLERİ VE NO’LARINI GÖRMEK İÇİN TIKLAYINIZ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OTOMOTİV HESAP İSİMLERİ VE NO’LARINI GÖRMEK İÇİN TIKLAYINIZ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İDER YERLER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sas Üretim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dımcı Üretim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dımcı Hizmet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tırım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Üretim Yerleri Yönetimi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r-Ge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Pazarlama-Satış-Dağıtım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enel Yönetim gider yer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AS ÜRETİM YERLERİ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1101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ırma-Yı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çma-El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oya (Hammad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plikh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plik Bo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okuma Hazırlı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umaş Doku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umaş Bo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p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İma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leştir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836640"/>
            <a:ext cx="331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EKSTİL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907920"/>
            <a:ext cx="424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TO YAN SANAY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5:00:27Z</dcterms:created>
  <dc:creator>Your User Name</dc:creator>
  <dc:description/>
  <dc:language>en-US</dc:language>
  <cp:lastModifiedBy>Your User Name</cp:lastModifiedBy>
  <dcterms:modified xsi:type="dcterms:W3CDTF">2005-12-21T10:02:11Z</dcterms:modified>
  <cp:revision>40</cp:revision>
  <dc:subject/>
  <dc:title>CEVDET AKÇAKOCA</dc:title>
</cp:coreProperties>
</file>