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2.gif" ContentType="image/gif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10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DE9C-8622-487C-9F37-316DE690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907A-0602-4065-B230-50CAE608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F056-F1D3-4BE9-9729-93BBFC94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8E05-2D98-461B-B5D2-6A857FC7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91CD-1179-4BA5-BF43-6F884486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EFD5-C81E-41D9-B2B5-49D5BE4C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76E4-E7C0-450D-9949-BE704ED6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918D-00E4-43FD-99D4-68B98D85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DA25-3A29-4D68-A63A-9B02178B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8278-42B6-4701-9370-2BC42F52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246F-926E-4976-86BA-FADFFD7F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76B8-F5D4-4BF1-918B-8A7F432C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FF5C-CEF1-4466-9EF7-00BE9855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C4D1-2B64-4521-A652-EED02C70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943D-2A93-4313-A9E7-452D4285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6D25-60F1-44F1-826B-C2AFCA273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E772-7773-4FBB-98D2-A649A2D7E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3D2D-18BB-4329-B9C2-B3B7EE86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D770-E47A-470B-94C0-2C38C560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6F3D-F6D9-42DA-8C3D-46DAE58E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F38F-ADE6-4093-82E9-1C274D6A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6835-4516-4DC7-BDD4-DBC83C03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1169-5C7A-43FB-9107-5876CB2E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94A5-018F-4D4D-8BA0-9567F487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C5A7-C187-4D64-B6C2-C5085626EA7B}" type="datetime">
              <a:rPr b="0" lang="tr-TR" sz="1400" spc="-1" strike="noStrike">
                <a:solidFill>
                  <a:srgbClr val="404176"/>
                </a:solidFill>
                <a:latin typeface="Arial Narrow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0CAD-509D-4728-82C3-B79534947B14}" type="slidenum">
              <a:rPr b="0" lang="tr-TR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9F26-2266-428B-8638-B2945A5D0F5F}" type="datetime">
              <a:rPr b="0" lang="tr-TR" sz="1400" spc="-1" strike="noStrike">
                <a:solidFill>
                  <a:srgbClr val="404176"/>
                </a:solidFill>
                <a:latin typeface="Arial Narrow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A704-9355-4B73-8730-485F7EE4FA68}" type="slidenum">
              <a:rPr b="0" lang="tr-TR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176"/>
                </a:solidFill>
                <a:latin typeface="Arial"/>
              </a:rPr>
              <a:t>2006 YILI BÜTÇE ÇALIŞMALARI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8383ad"/>
                </a:solidFill>
                <a:latin typeface="Arial"/>
              </a:rPr>
              <a:t>HAZIRLAYAN: CEVDET AKÇAKOCA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D924-50D1-4A38-90E9-F3112DE2B74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9C2A0E3-5AF7-4299-9393-1BC7732831E6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"/>
          <p:cNvGraphicFramePr/>
          <p:nvPr/>
        </p:nvGraphicFramePr>
        <p:xfrm>
          <a:off x="0" y="1193760"/>
          <a:ext cx="9093240" cy="336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3760"/>
                    <a:ext cx="9093240" cy="33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1FCE-B3E4-4A93-879A-0EA36A50AFAA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85826-09DE-4A00-BF7F-AB67FEC370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"/>
          <p:cNvGraphicFramePr/>
          <p:nvPr/>
        </p:nvGraphicFramePr>
        <p:xfrm>
          <a:off x="406440" y="1371600"/>
          <a:ext cx="8356680" cy="281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371600"/>
                    <a:ext cx="83566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0A05-70F0-4CB7-B757-CA6072E2BAF5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6A891D-D19D-4B51-963B-AF79AC3D71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152280" y="685800"/>
          <a:ext cx="8724960" cy="450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872496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0CF3-B65B-4AA1-B1A7-A873DDB08484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A9800-F57D-47D9-9415-9115FFB36A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34920" y="1612800"/>
          <a:ext cx="9042480" cy="247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612800"/>
                    <a:ext cx="9042480" cy="24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4B01-4644-4BA2-A946-9A8D3CED6087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AF16E-8606-4578-9E95-805E608CD2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250920" y="1700280"/>
          <a:ext cx="8699400" cy="255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00280"/>
                    <a:ext cx="869940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3AAE-6389-4BC1-A60E-AFA3FA8360F0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2B54AB-B4E3-445C-A2D8-12DD11BFBE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152280" y="1333440"/>
          <a:ext cx="8928360" cy="307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33440"/>
                    <a:ext cx="892836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CDAA-DB7B-48D1-A557-2B052B948D1B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7D3A3A-5772-401E-8EAA-0CB6BC9A8C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250920" y="1978200"/>
          <a:ext cx="8588160" cy="283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78200"/>
                    <a:ext cx="8588160" cy="28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E382-E1B6-4639-A4F5-8A6A24214343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AB72BD-BFBC-4A61-9954-EF262D04BB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108000" y="1773360"/>
          <a:ext cx="9016920" cy="351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773360"/>
                    <a:ext cx="9016920" cy="35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A937-D342-4377-A702-50E1A8D80B91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F9973-65C4-4208-8D63-AC7F4733FE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114480" y="1879560"/>
          <a:ext cx="8864280" cy="326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1879560"/>
                    <a:ext cx="8864280" cy="32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F949-8191-4F44-8E07-4CFD5FF13D4D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4A8115-EB47-4D40-9EA5-17D7550895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73080" y="2030400"/>
          <a:ext cx="9036000" cy="284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2030400"/>
                    <a:ext cx="9036000" cy="28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526B-A861-4873-B806-4F9D46C9460C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3D1527-BCD2-44DB-BD17-A88E5B29CA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176"/>
                </a:solidFill>
                <a:latin typeface="Arial"/>
              </a:rPr>
              <a:t>İleriye Yönelik Görüşler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8383ad"/>
                </a:solidFill>
                <a:latin typeface="Arial"/>
              </a:rPr>
              <a:t>2005 Yılının sonlarına geldiğimiz bugünlerde 2006 yılı için görünüm işletmeler için sıkıntıların daha da fazlalaşacağıdır.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8383ad"/>
                </a:solidFill>
                <a:latin typeface="Arial"/>
              </a:rPr>
              <a:t>Çünkü enflasyon, faiz ve döviz sarmalı aşağı inecektir.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8383ad"/>
                </a:solidFill>
                <a:latin typeface="Arial"/>
              </a:rPr>
              <a:t>Enflasyonsuz ekonomi ile başa çıkmayı öğrenmeliyiz.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8383ad"/>
                </a:solidFill>
                <a:latin typeface="Arial"/>
              </a:rPr>
              <a:t>2006 yılı için önce bütçe çalışması yapmalıyız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8383ad"/>
                </a:solidFill>
                <a:latin typeface="Arial"/>
              </a:rPr>
              <a:t>2006 yılı için enflasyon %5 olacaktır görüşündeyiz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0458-7496-4FDB-BBA8-4F5DB11B5C9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91AEE9-43E1-4256-8ECE-37FC369DE964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"/>
          <p:cNvGraphicFramePr/>
          <p:nvPr/>
        </p:nvGraphicFramePr>
        <p:xfrm>
          <a:off x="114480" y="1841400"/>
          <a:ext cx="8953200" cy="344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1841400"/>
                    <a:ext cx="8953200" cy="34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4103-859F-4266-9DE4-79F8B00DE21F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12259-510B-4414-B30C-38D62DCE20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9" name=""/>
          <p:cNvGraphicFramePr/>
          <p:nvPr/>
        </p:nvGraphicFramePr>
        <p:xfrm>
          <a:off x="104760" y="1008000"/>
          <a:ext cx="9004320" cy="539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760" y="1008000"/>
                    <a:ext cx="9004320" cy="53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B4F6-FB4E-41CC-9716-68F732EC6AD5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12FB1-9493-4BE9-8CA6-5CC3474B5A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1" name=""/>
          <p:cNvGraphicFramePr/>
          <p:nvPr/>
        </p:nvGraphicFramePr>
        <p:xfrm>
          <a:off x="108000" y="476280"/>
          <a:ext cx="8964720" cy="589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476280"/>
                    <a:ext cx="896472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3EA9-F4E8-4BCE-979E-7BA8022F0E5A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B7A719-E6B5-4833-B8DB-D1F88EE274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127080" y="546120"/>
          <a:ext cx="8889840" cy="575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80" y="546120"/>
                    <a:ext cx="888984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6382-8591-49D8-94D3-F110F80E4E67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7189B-3C40-47EA-853E-661F21A30E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5" name=""/>
          <p:cNvGraphicFramePr/>
          <p:nvPr/>
        </p:nvGraphicFramePr>
        <p:xfrm>
          <a:off x="539640" y="824040"/>
          <a:ext cx="8209080" cy="512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824040"/>
                    <a:ext cx="820908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D687-F7DF-4B5A-A642-C0CBBFDA8866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0AD2B4-EFC5-483C-9559-B602282DB8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71280" y="1798560"/>
          <a:ext cx="8964720" cy="302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1798560"/>
                    <a:ext cx="8964720" cy="30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9AC8-31E8-4045-8B9E-DC98E884E0E6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F3032-DA2A-40B5-B46F-AC5731943F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176"/>
                </a:solidFill>
                <a:latin typeface="Arial"/>
              </a:rPr>
              <a:t>Amaç ve hedefler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8383ad"/>
                </a:solidFill>
                <a:latin typeface="Arial"/>
              </a:rPr>
              <a:t>Bir işletmenin ana hedefi çalışmak ve kar etmektir.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8383ad"/>
                </a:solidFill>
                <a:latin typeface="Arial"/>
              </a:rPr>
              <a:t>Bunun için önümüzü görmeliyiz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8383ad"/>
                </a:solidFill>
                <a:latin typeface="Arial"/>
              </a:rPr>
              <a:t>Önümüzü görmenin araçlarından biri de bütçeleme tekniğidir.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8383ad"/>
                </a:solidFill>
                <a:latin typeface="Arial"/>
              </a:rPr>
              <a:t>Bütçenin amacı işletmenin verimliğini, karlılığını, likiditesini artırmak, yöneticilere yol gösterici olmaktır.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B586-A75D-4660-9481-D80092058D3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569A8-86C3-4096-910B-C3615C757980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176"/>
                </a:solidFill>
                <a:latin typeface="Arial"/>
              </a:rPr>
              <a:t>Bugünkü Durum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8383ad"/>
                </a:solidFill>
                <a:latin typeface="Arial"/>
              </a:rPr>
              <a:t>İşletmemiz 2005 yılını çeşitli zorluklarla karşılaşarak bitirmek üzeredir.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8383ad"/>
                </a:solidFill>
                <a:latin typeface="Arial"/>
              </a:rPr>
              <a:t>Kar veya zararımız bu yıla aittir.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8383ad"/>
                </a:solidFill>
                <a:latin typeface="Arial"/>
              </a:rPr>
              <a:t>Ancak geleceği düşünmemiz ve bütçe sisteminin her işletmede yapılabileceğine inanmamız gereklidir.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5230-B3B3-4636-988B-BBE75D91C7C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23F2C-5ADD-4056-BDE9-B825F87D1F15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176"/>
                </a:solidFill>
                <a:latin typeface="Arial"/>
              </a:rPr>
              <a:t>Yöneticilere düşe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8383ad"/>
                </a:solidFill>
                <a:latin typeface="Arial"/>
              </a:rPr>
              <a:t>Her işletmenin her kademesindeki yöneticiler bütçe sisteminin verimli olacağına ve her işletmede bütçe yapılabileceğine inanmalıdır.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8383ad"/>
                </a:solidFill>
                <a:latin typeface="Arial"/>
              </a:rPr>
              <a:t>Buna göre de çalışmalara katılmalıdırlar, bilgi vermelidirler.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AB65-F5DE-43FD-B114-381EDA81055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CD914-7A30-4AAE-AB76-0871EB0F7441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176"/>
                </a:solidFill>
                <a:latin typeface="Arial"/>
              </a:rPr>
              <a:t>YARARLANILABİLECEK TEKNİKLER 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8383ad"/>
                </a:solidFill>
                <a:latin typeface="Arial"/>
              </a:rPr>
              <a:t>Doğrudan tahmi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8383ad"/>
                </a:solidFill>
                <a:latin typeface="Arial"/>
              </a:rPr>
              <a:t>Grafik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8383ad"/>
                </a:solidFill>
                <a:latin typeface="Arial"/>
              </a:rPr>
              <a:t>Kara geçiş analizleri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8383ad"/>
                </a:solidFill>
                <a:latin typeface="Arial"/>
              </a:rPr>
              <a:t>Yöneylem araştırması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8383ad"/>
                </a:solidFill>
                <a:latin typeface="Arial"/>
              </a:rPr>
              <a:t>Nakit akış analizleri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8383ad"/>
                </a:solidFill>
                <a:latin typeface="Arial"/>
              </a:rPr>
              <a:t>Yatırım karar yöntemleri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8383ad"/>
                </a:solidFill>
                <a:latin typeface="Arial"/>
              </a:rPr>
              <a:t>Diğer yöntemle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B85B-6989-4B5F-92B7-BC781491A38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B7F2F-FB71-4629-BCDE-6B1D6A4EEE81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176"/>
                </a:solidFill>
                <a:latin typeface="Arial"/>
              </a:rPr>
              <a:t>Önerile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8383ad"/>
                </a:solidFill>
                <a:latin typeface="Arial"/>
              </a:rPr>
              <a:t>Ben Cevdet Akçakoca olarak bugüne kadarki tecrübelerimi basitleştirerek bir tablo bütçe hazırladım.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8383ad"/>
                </a:solidFill>
                <a:latin typeface="Arial"/>
              </a:rPr>
              <a:t>Her işletme bundan yararlanacak, kendi fikirlerini de gözönüne alarak bütçesini yapacaktır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2AA4-AD8D-43EA-8756-0BFDD189D1F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EAED03-3307-4ABE-9E11-2F18D7BA3DA2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108000" y="1994040"/>
          <a:ext cx="8893080" cy="245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994040"/>
                    <a:ext cx="8893080" cy="24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8A57-F856-4A35-AD76-9133DB7CF2E2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4D737-F8B8-412A-BF86-93896AC2A2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066680" y="16794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8383ad"/>
                </a:solidFill>
                <a:latin typeface="Arial"/>
              </a:rPr>
              <a:t>Yukarıdaki verilere göre tasarlanan aşağıdaki satış programı önceki yıllar gözönüne alınarak yapılmıştır. Şirketin yatırımı, yeni atılımları gibi programları varsa bunlar da gözönüne alınarak program yapılabilir.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8383ad"/>
                </a:solidFill>
                <a:latin typeface="Arial"/>
              </a:rPr>
              <a:t>Aşağıdaki örnek gözönüne alınarak gıda, oto yan sanayi gibi diğer sanayi kollarında da bütçe yapılabilir.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419720" y="19810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34A9-52DA-42C1-9A33-5F2956933A7A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02DABA-FAA0-49A5-93CC-92EA790894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our User Name</cp:lastModifiedBy>
  <dcterms:modified xsi:type="dcterms:W3CDTF">2005-12-21T15:30:02Z</dcterms:modified>
  <cp:revision>43</cp:revision>
  <dc:subject/>
  <dc:title>PowerPoint Sunusu</dc:title>
</cp:coreProperties>
</file>